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AEE-9C22-4F46-BEA2-E854870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99B-50C2-41CC-8CC1-3525961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C95-9070-4822-AFE0-353BF819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EFE-D345-477C-86D4-767E99F2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83-C7F0-4896-80F1-8D6B9B3D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6ED-8D07-4450-8069-21FCF7D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C28-38D7-499B-8E98-62D5B630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060-A3EA-4438-B18D-60F0301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55A-C2BF-488F-8217-C31050BD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B27-6B78-410F-9265-BEC5769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F5D-A3D8-4721-8D2F-0218C2B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0A2-D67E-4BA3-B91D-31E0B0F0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B435-AE64-4B12-8E67-C93BF54C4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DECRETO 7.0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PRUEBA REGLAMENTO DE ESTACIONES DE RADIOCOMUNICACIONES QUE UTILICEN FRECUENCIAS SUPERIORES A 29,7 MEGACICLOS POR SEGUN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28/10/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1°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Quedan comprendidas en las disposiciones del presente Reglamento todas las estaciones de radiocomunicaciones de cualquier naturaleza que ellas sean y destinadas a efectuar cualquier tipo de servicio que utilicen frecuencias superiores a 29,7 megaciclos por segundo (Mc/s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4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canal N° 1 de televisión de 44 a 50 Mc/s. estará destinado exclusivamente para fines educacionales, científicos y técnicos, según normas que imparta la Dir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7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os canales destinados a estaciones radiodifusoras de televisión tendrán un ancho de banda de 6 Mc/s. y las estaciones de enlace de estaciones radiodifusoras de televisión tendrán un ancho de banda hasta de 10 Mc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24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Universidades existentes o que se creen en el futuro, podrán solicitar concesión para instalar y poner en funcionamiento estaciones radiodifusoras educacionales en todas aquellas ciudades donde existan Escuelas Universi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Las estaciones radiodifusoras educacionales deberán transmitir programas de indiscutido valor educativo, con exclusión absoluta de propaganda comercial, religiosa, política, sindical, etc., sea esta propaganda gratuita o pagad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calidad de Universidad particular reconocida por el Estado deberá acreditarse ante la Dirección con certificado de la autoridad compet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solicitud de concesión para instalar  poner en funcionamiento estaciones radiodifusoras educacionales, deberá ser firmada por el Rector, acompañando copia de la parte pertinente del acta de sesión del Consejo Universitario o Directorio que lo autorizó para presentar la solicitud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Estas concesiones y sus bienes afectos no podrán arrendarse, transferirse ni gravarse de manera alguna, como tampoco el derecho de explotación de la radiodifusor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9072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32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comerciales deberán operar de acuerdo con el horari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horario mínimo de transmisiones no deberá ser inferior a 3 horas diarias, por lo menos 4 días de la semana, durante los primeros 18 meses de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 durante cinco días a la semana, con mínimo de 20 horas semanales en los 12 meses siguientes al plazo determinado en el incis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, durante seis días a la semana, con mínimo de 30 horas semanales, después del término del plazo indicado en el párraf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deberán transmitir por lo menos durante los 15 minutos anteriores a la iniciación de las transmisiones de programa, el patrón de sintonía de televisión para facilitar el ajuste de los receptore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rtelera_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24320" cy="325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a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tículo 5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oncesiones de que trata el presente Reglamento sólo podrán otorgarse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s naturales o jurídicas chile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19:06Z</dcterms:created>
  <dc:creator>Centro Estudios Publicos</dc:creator>
  <dc:description/>
  <dc:language>en-US</dc:language>
  <cp:lastModifiedBy>Centro Estudios Publicos</cp:lastModifiedBy>
  <dcterms:modified xsi:type="dcterms:W3CDTF">2004-10-07T18:21:25Z</dcterms:modified>
  <cp:revision>12</cp:revision>
  <dc:subject/>
  <dc:title>Sin título de diapositiva</dc:title>
</cp:coreProperties>
</file>