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AEE-D26C-4B12-8A48-408C2695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E72-A56C-4C2F-9BDC-8C6D1B8D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5CD-75A9-41DF-911F-7EA935F1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768-189E-4618-9BEF-18CD6826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F41-2FAA-4146-8087-CB0F63D6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B21-A754-4EA0-B496-435B9DC4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6C5-1AD7-4BFD-BA2A-09124C27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61F-3585-4108-976F-03BA6C9C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445-167F-4EC2-B789-FA41620B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AAB-85A2-4F93-9CAC-53BF1CE7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6DB-FB18-4AB0-8FE4-D2F636AF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861-DF17-4D7E-A73D-967C2B1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796E-FEE3-4AF8-814B-F112236B3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DECRETO 7.0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PRUEBA REGLAMENTO DE ESTACIONES DE RADIOCOMUNICACIONES QUE UTILICEN FRECUENCIAS SUPERIORES A 29,7 MEGACICLOS POR SEGUN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(28/10/19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1° 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Quedan comprendidas en las disposiciones del presente Reglamento todas las estaciones de radiocomunicaciones de cualquier naturaleza que ellas sean y destinadas a efectuar cualquier tipo de servicio que utilicen frecuencias superiores a 29,7 megaciclos por segundo (Mc/s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4°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l canal N° 1 de televisión de 44 a 50 Mc/s. estará destinado exclusivamente para fines educacionales, científicos y técnicos, según normas que imparta la Dir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7°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os canales destinados a estaciones radiodifusoras de televisión tendrán un ancho de banda de 6 Mc/s. y las estaciones de enlace de estaciones radiodifusoras de televisión tendrán un ancho de banda hasta de 10 Mc/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24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Universidades existentes o que se creen en el futuro, podrán solicitar concesión para instalar y poner en funcionamiento estaciones radiodifusoras educacionales en todas aquellas ciudades donde existan Escuelas Universita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Las estaciones radiodifusoras educacionales deberán transmitir programas de indiscutido valor educativo, con exclusión absoluta de propaganda comercial, religiosa, política, sindical, etc., sea esta propaganda gratuita o pagada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.  La contravención a esta disposición determinará la caducidad de la concesión, sin más trám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 calidad de Universidad particular reconocida por el Estado deberá acreditarse ante la Dirección con certificado de la autoridad compet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 solicitud de concesión para instalar  poner en funcionamiento estaciones radiodifusoras educacionales, deberá ser firmada por el Rector, acompañando copia de la parte pertinente del acta de sesión del Consejo Universitario o Directorio que lo autorizó para presentar la solicitud correspond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Estas concesiones y sus bienes afectos no podrán arrendarse, transferirse ni gravarse de manera alguna, como tampoco el derecho de explotación de la radiodifusora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.  La contravención a esta disposición determinará la caducidad de la concesión, sin más trám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9072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32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estaciones radiodifusoras de televisión comerciales deberán operar de acuerdo con el horari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l horario mínimo de transmisiones no deberá ser inferior a 3 horas diarias, por lo menos 4 días de la semana, durante los primeros 18 meses de funcion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No menos de 3 horas diarias durante cinco días a la semana, con mínimo de 20 horas semanales en los 12 meses siguientes al plazo determinado en el inciso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No menos de 3 horas diarias, durante seis días a la semana, con mínimo de 30 horas semanales, después del término del plazo indicado en el párrafo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estaciones radiodifusoras de televisión deberán transmitir por lo menos durante los 15 minutos anteriores a la iniciación de las transmisiones de programa, el patrón de sintonía de televisión para facilitar el ajuste de los receptore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rtelera_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124320" cy="325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457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a de aj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10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rtículo 5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oncesiones de que trata el presente Reglamento sólo podrán otorgarse 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onas naturales o jurídicas chile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19:06Z</dcterms:created>
  <dc:creator>Centro Estudios Publicos</dc:creator>
  <dc:description/>
  <dc:language>en-US</dc:language>
  <cp:lastModifiedBy>Centro Estudios Publicos</cp:lastModifiedBy>
  <dcterms:modified xsi:type="dcterms:W3CDTF">2004-10-07T18:21:25Z</dcterms:modified>
  <cp:revision>12</cp:revision>
  <dc:subject/>
  <dc:title>Sin título de diapositiva</dc:title>
</cp:coreProperties>
</file>