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9EE-D873-41EC-A624-F20F1351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FB9-FEC6-451A-93DD-1E75DBEB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3AD-2F42-4E4A-BB5F-87EC0AAE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F7F-5D5A-4881-96EF-C8E372F0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50F-DCE7-4CA2-AEEA-D7D0ADAB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2E0-6CF1-4DC3-A7B7-CE66DFD4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553-3CE2-4F80-9F23-7480BEE3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DEE-BBE0-4C60-A9BC-5658EAB2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C58-7ED5-4AC4-ABCD-8516DFC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67E-64E2-4D25-87A8-02CE32D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4F8-13DD-4ACD-866D-60F178D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EA6-E239-43B6-9F3D-621FE19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8D60-4683-4286-A520-D7B2DCF94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DECRETO 7.0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PRUEBA REGLAMENTO DE ESTACIONES DE RADIOCOMUNICACIONES QUE UTILICEN FRECUENCIAS SUPERIORES A 29,7 MEGACICLOS POR SEGUN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28/10/19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1°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Quedan comprendidas en las disposiciones del presente Reglamento todas las estaciones de radiocomunicaciones de cualquier naturaleza que ellas sean y destinadas a efectuar cualquier tipo de servicio que utilicen frecuencias superiores a 29,7 megaciclos por segundo (Mc/s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4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canal N° 1 de televisión de 44 a 50 Mc/s. estará destinado exclusivamente para fines educacionales, científicos y técnicos, según normas que imparta la Dir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7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os canales destinados a estaciones radiodifusoras de televisión tendrán un ancho de banda de 6 Mc/s. y las estaciones de enlace de estaciones radiodifusoras de televisión tendrán un ancho de banda hasta de 10 Mc/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24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Universidades existentes o que se creen en el futuro, podrán solicitar concesión para instalar y poner en funcionamiento estaciones radiodifusoras educacionales en todas aquellas ciudades donde existan Escuelas Universi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Las estaciones radiodifusoras educacionales deberán transmitir programas de indiscutido valor educativo, con exclusión absoluta de propaganda comercial, religiosa, política, sindical, etc., sea esta propaganda gratuita o pagad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calidad de Universidad particular reconocida por el Estado deberá acreditarse ante la Dirección con certificado de la autoridad compet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solicitud de concesión para instalar  poner en funcionamiento estaciones radiodifusoras educacionales, deberá ser firmada por el Rector, acompañando copia de la parte pertinente del acta de sesión del Consejo Universitario o Directorio que lo autorizó para presentar la solicitud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Estas concesiones y sus bienes afectos no podrán arrendarse, transferirse ni gravarse de manera alguna, como tampoco el derecho de explotación de la radiodifusor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9072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32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comerciales deberán operar de acuerdo con el horari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horario mínimo de transmisiones no deberá ser inferior a 3 horas diarias, por lo menos 4 días de la semana, durante los primeros 18 meses de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 durante cinco días a la semana, con mínimo de 20 horas semanales en los 12 meses siguientes al plazo determinado en el incis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, durante seis días a la semana, con mínimo de 30 horas semanales, después del término del plazo indicado en el párraf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deberán transmitir por lo menos durante los 15 minutos anteriores a la iniciación de las transmisiones de programa, el patrón de sintonía de televisión para facilitar el ajuste de los receptore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rtelera_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24320" cy="325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a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rtículo 5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oncesiones de que trata el presente Reglamento sólo podrán otorgarse 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as naturales o jurídicas chile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19:06Z</dcterms:created>
  <dc:creator>Centro Estudios Publicos</dc:creator>
  <dc:description/>
  <dc:language>en-US</dc:language>
  <cp:lastModifiedBy>Centro Estudios Publicos</cp:lastModifiedBy>
  <dcterms:modified xsi:type="dcterms:W3CDTF">2004-10-07T18:21:25Z</dcterms:modified>
  <cp:revision>12</cp:revision>
  <dc:subject/>
  <dc:title>Sin título de diapositiva</dc:title>
</cp:coreProperties>
</file>