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CE621-2427-46E2-BAE6-E272AC0F1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843D-30EA-4A35-A488-960368937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45A2B-7C5A-4FAE-A479-C06079CD9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9A339-0CFF-4A34-9FD7-FB6A49F96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56D8-F6CF-43CE-A36B-522C5660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815E-A9FB-47A8-91D1-0A0F652D2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EF9F1-8E65-451A-B53D-46B5E25D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F2C68-DE54-4FB3-B110-56FB14A59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017E5-28F2-4D6E-AED7-8EF6AD229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C51BD-B03D-49CD-9942-76F481C8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BBFC-7E24-4221-967D-E00C7E4A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F8FD-F480-4611-96B5-8C6B2A455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E0C6-55E6-48A7-967C-418492247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15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EY N° 7,3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a:t>
            </a:r>
            <a:r>
              <a:rPr b="1" lang="es-ES" sz="2800" spc="-1" strike="noStrike">
                <a:solidFill>
                  <a:srgbClr val="ffff00"/>
                </a:solidFill>
                <a:latin typeface="Times New Roman"/>
              </a:rPr>
              <a:t>rgánica de los Servicios de Correos y Telégrafos del Estado; deroga disposiciones contrarias </a:t>
            </a:r>
            <a:r>
              <a:rPr b="0" lang="es-ES" sz="2800" spc="-1" strike="noStrike">
                <a:solidFill>
                  <a:srgbClr val="ffff00"/>
                </a:solidFill>
                <a:latin typeface="Times New Roman"/>
              </a:rPr>
              <a:t>(31/12/194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 2°</a:t>
            </a:r>
            <a:r>
              <a:rPr b="0" lang="es-ES" sz="2800" spc="-1" strike="noStrike">
                <a:solidFill>
                  <a:srgbClr val="ffff00"/>
                </a:solidFill>
                <a:latin typeface="Times New Roman"/>
              </a:rPr>
              <a:t>	</a:t>
            </a:r>
            <a:r>
              <a:rPr b="0" lang="es-ES" sz="2800" spc="-1" strike="noStrike">
                <a:solidFill>
                  <a:srgbClr val="ffff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800" spc="-1" strike="noStrike" u="sng">
                <a:solidFill>
                  <a:srgbClr val="ffff00"/>
                </a:solidFill>
                <a:uFillTx/>
                <a:latin typeface="Times New Roman"/>
              </a:rPr>
              <a:t>podrán los particulares hacer libremente el reparto de diarios, revistas y periódicos.</a:t>
            </a:r>
            <a:endParaRPr b="0" lang="en-US" sz="28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4360" y="260280"/>
            <a:ext cx="7772400" cy="612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3° </a:t>
            </a:r>
            <a:r>
              <a:rPr b="0" lang="es-ES_tradnl" sz="2000" spc="-1" strike="noStrike">
                <a:solidFill>
                  <a:srgbClr val="ffff00"/>
                </a:solidFill>
                <a:latin typeface="Times New Roman"/>
              </a:rPr>
              <a:t>	</a:t>
            </a:r>
            <a:r>
              <a:rPr b="1" lang="es-ES_tradnl" sz="2000" spc="-1" strike="noStrike" u="sng">
                <a:solidFill>
                  <a:srgbClr val="ffff00"/>
                </a:solidFill>
                <a:uFillTx/>
                <a:latin typeface="Times New Roman"/>
              </a:rPr>
              <a:t>La Secretaría General de Gobierno fijará mensualmente la proporción de números vivos y de música chilena que las radiodifusoras deberán presentar en sus programas. Los números vivos deberán ser ejecutados con un 80%, a lo menos, de artistas chilenos. Los conjuntos se considerarán para estos efectos como un todo indivisible y su nacionalidad se determinará por la del 80% de sus component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4°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de radiodifusión sólo podrán transmitir </a:t>
            </a:r>
            <a:r>
              <a:rPr b="1" lang="es-ES_tradnl" sz="2000" spc="-1" strike="noStrike" u="sng">
                <a:solidFill>
                  <a:srgbClr val="ffff00"/>
                </a:solidFill>
                <a:uFillTx/>
                <a:latin typeface="Times New Roman"/>
              </a:rPr>
              <a:t>noticias de sucesos nacionales o extranjeros que le sean proporcionados por las agencias noticiosas establecidas en el país</a:t>
            </a:r>
            <a:r>
              <a:rPr b="0" lang="es-ES_tradnl" sz="2000" spc="-1" strike="noStrike">
                <a:solidFill>
                  <a:srgbClr val="ffff00"/>
                </a:solidFill>
                <a:latin typeface="Times New Roman"/>
              </a:rPr>
              <a:t> y que cumplan con las disposiciones del decreto 5.815, de 20 de noviembre de 1940, del Ministerio del Interi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En estas transmisiones las radiodifusoras deberán cumplir con la obligación establecida en el decreto 1.548, de 18 de marzo de 1943, del Ministerio del Interior. En aquellos casos en que el signo de la empresa noticiosa sea impronunciable, el locutor deberá anunciar el  nombre completo de ella en reemplazo del sign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No obstante, las estaciones radiodifusoras podrán transmitir noticias provenientes de sus servicios informativos autorizados por la Secretaria General de Gobierno y siempre que se encuentren inscritos en el Registro de agencias noticiosas.</a:t>
            </a:r>
            <a:endParaRPr b="0" lang="en-US" sz="2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11280" y="404280"/>
            <a:ext cx="7772400" cy="5761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5°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Las estaciones de radiodifusión estarán obligadas a destinar el tiempo que para el servicio del Estado se haya establecido en el respectivo decreto de concesión. </a:t>
            </a:r>
            <a:r>
              <a:rPr b="1" lang="es-ES_tradnl" sz="2400" spc="-1" strike="noStrike" u="sng">
                <a:solidFill>
                  <a:srgbClr val="ffff00"/>
                </a:solidFill>
                <a:uFillTx/>
                <a:latin typeface="Times New Roman"/>
              </a:rPr>
              <a:t>Estas transmisiones podrán ser en cadena nacional, cadena parcial o individuales</a:t>
            </a:r>
            <a:r>
              <a:rPr b="0" lang="es-ES_tradnl"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6°</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La Secretaria General de Gobierno tendrá facultad </a:t>
            </a:r>
            <a:r>
              <a:rPr b="1" lang="es-ES_tradnl" sz="2400" spc="-1" strike="noStrike" u="sng">
                <a:solidFill>
                  <a:srgbClr val="ffff00"/>
                </a:solidFill>
                <a:uFillTx/>
                <a:latin typeface="Times New Roman"/>
              </a:rPr>
              <a:t>para impartir normas generales respecto de la forma en que deben transmitirse los avisos, su redacción, etc., pudiendo ordenar la eliminación transitoria o definitiva de alguno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Sin perjuicio de lo anterior, </a:t>
            </a:r>
            <a:r>
              <a:rPr b="1" lang="es-ES_tradnl" sz="2400" spc="-1" strike="noStrike" u="sng">
                <a:solidFill>
                  <a:srgbClr val="ffff00"/>
                </a:solidFill>
                <a:uFillTx/>
                <a:latin typeface="Times New Roman"/>
              </a:rPr>
              <a:t>los avisos comerciales no podrán exceder de diez minutos en total</a:t>
            </a:r>
            <a:r>
              <a:rPr b="0" lang="es-ES_tradnl" sz="2400" spc="-1" strike="noStrike">
                <a:solidFill>
                  <a:srgbClr val="ffff00"/>
                </a:solidFill>
                <a:latin typeface="Times New Roman"/>
              </a:rPr>
              <a:t>, por cada hora de transmisión; no podrán acumularse, y la duración continuada de cada uno de ellos no excederá de un minuto. Tampoco se permitirá intercalar avisos entre los trozos o partes de una obra o composición. </a:t>
            </a:r>
            <a:endParaRPr b="0" lang="en-US" sz="2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4360" y="404640"/>
            <a:ext cx="7772400" cy="5904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7°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as personas que se desempeñen, intervengan o anuncien en los programas de las radiodifusoras deberán estar en posesión de un permiso de locutor que acreditará su identidad y competencia</a:t>
            </a:r>
            <a:r>
              <a:rPr b="0" lang="es-ES_tradnl" sz="1600" spc="-1" strike="noStrike">
                <a:solidFill>
                  <a:srgbClr val="ffff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No necesitarán este permiso las personas que actúen ocasionalment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8°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No se permitirá la actuación de locutores extranjeros, salvo en los casos expresamente autorizados por la Secretaría General de Gobierno, Sección Informacion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9°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os permisos de locutores se otorgarán por la Secretaría General de Gobierno a los interesados que acrediten ser chilenos, mayores de 18 años, que hayan rendido satisfactoriamente los exámenes de cuarto año de Humanidades, o comprueben estudios equivalentes, que no tengan anotaciones desfavorables en su prontuario, que presenten certificados de honorabilidad otorgados por dos chilenos responsables (que no sean funcionarios de la Administración Pública) y que sean aprobados en un examen cuyo contenido será determinado por la Secretaría General de Gobierno</a:t>
            </a:r>
            <a:r>
              <a:rPr b="0" lang="es-ES_tradnl" sz="1600" spc="-1" strike="noStrike">
                <a:solidFill>
                  <a:srgbClr val="ffff00"/>
                </a:solidFill>
                <a:latin typeface="Times New Roman"/>
              </a:rPr>
              <a:t>, Sección Informaciones. Se preferirá, en todo caso, a las personas que hayan hecho cursos especiales de locutores en instituciones reconocidas por la Secretaría General de Gobierno.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La nómina de locutores autorizados por la Secretaría General de Gobierno será comunicada a la Dirección General de Servicios Eléctricos y a la Asociación de Radiodifusoras de Chi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20°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a Secretaría General de Gobierno podrá suspender o cancelar los permisos de locutores</a:t>
            </a:r>
            <a:r>
              <a:rPr b="0" lang="es-ES_tradnl" sz="1600" spc="-1" strike="noStrike">
                <a:solidFill>
                  <a:srgbClr val="ffff00"/>
                </a:solidFill>
                <a:latin typeface="Times New Roman"/>
              </a:rPr>
              <a:t> cuando el poseedor del carnet haya violado las disposiciones de la Ley General de Servicios Eléctricos o sus Reglamentos o haya cometido actos contrarios al orden público; a la moral o a las buenas costumbres. </a:t>
            </a:r>
            <a:endParaRPr b="0" lang="en-US" sz="1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1280" y="188640"/>
            <a:ext cx="7772400" cy="6381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2°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 persecusión de los delitos que se cometan mediante las transmisiones efectuadas por estaciones radiodifusoras, entablando las acciones judiciales correspondientes, será obligatoria del Ministerio Público, y se procederá de acuerdo con las disposiciones del decreto ley 425, sobre Abusos de Publicidad, y las de la ley 6.026, sobre Seguridad Interior del Estado, modificada por la Ley de Defensa Permanente de la Democracia, ya citad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3°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Para el objeto de fiscalizar las transmisiones de las estaciones radiodifusoras en cuanto al cumplimiento de las disposiciones legales o establecidas en este Reglamento, </a:t>
            </a:r>
            <a:r>
              <a:rPr b="1" lang="es-ES_tradnl" sz="2000" spc="-1" strike="noStrike" u="sng">
                <a:solidFill>
                  <a:srgbClr val="ffff00"/>
                </a:solidFill>
                <a:uFillTx/>
                <a:latin typeface="Times New Roman"/>
              </a:rPr>
              <a:t>la Secretaría General de Gobierno, Sección Informaciones, establecerá puestos de escucha</a:t>
            </a:r>
            <a:r>
              <a:rPr b="0" lang="es-ES_tradnl" sz="2000" spc="-1" strike="noStrike">
                <a:solidFill>
                  <a:srgbClr val="ffff00"/>
                </a:solidFill>
                <a:latin typeface="Times New Roman"/>
              </a:rPr>
              <a:t>. Las comprobaciones que se hagan por estos puestos o mediante otras pruebas fidedignas, serán suficientes para la aplicación de las sanciones administrativas que correspond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4°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a:t>
            </a:r>
            <a:r>
              <a:rPr b="1" lang="es-ES_tradnl" sz="2000" spc="-1" strike="noStrike" u="sng">
                <a:solidFill>
                  <a:srgbClr val="ffff00"/>
                </a:solidFill>
                <a:uFillTx/>
                <a:latin typeface="Times New Roman"/>
              </a:rPr>
              <a:t>deberán interrumpir su funcionamiento cuando el Ministerio del Interior lo estime necesario</a:t>
            </a:r>
            <a:r>
              <a:rPr b="0" lang="es-ES_tradnl" sz="2000" spc="-1" strike="noStrike">
                <a:solidFill>
                  <a:srgbClr val="ffff00"/>
                </a:solidFill>
                <a:latin typeface="Times New Roman"/>
              </a:rPr>
              <a:t> para la seguridad interior y exterior del Estad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5°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Ningún concesionario de radiodifusora podrá recibir, directa o indirectamente, subvención o suma alguna cuyo origen sea un gobierno o institución extranjera, a cualquier título que se haga, salvo autorización expresa del Secretario General de Gobiern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189000"/>
            <a:ext cx="7772400" cy="64800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Artículo 26° </a:t>
            </a:r>
            <a:r>
              <a:rPr b="0" lang="es-ES_tradnl" sz="3200" spc="-1" strike="noStrike">
                <a:solidFill>
                  <a:srgbClr val="ffff00"/>
                </a:solidFill>
                <a:latin typeface="Times New Roman"/>
              </a:rPr>
              <a:t>	</a:t>
            </a:r>
            <a:r>
              <a:rPr b="0" lang="es-ES_tradnl" sz="3200" spc="-1" strike="noStrike">
                <a:solidFill>
                  <a:srgbClr val="ffff00"/>
                </a:solidFill>
                <a:latin typeface="Times New Roman"/>
              </a:rPr>
              <a:t>Corresponderá a la Secretaría General de Gobierno, en caso de divergencias o dudas, </a:t>
            </a:r>
            <a:r>
              <a:rPr b="1" lang="es-ES_tradnl" sz="3200" spc="-1" strike="noStrike" u="sng">
                <a:solidFill>
                  <a:srgbClr val="ffff00"/>
                </a:solidFill>
                <a:uFillTx/>
                <a:latin typeface="Times New Roman"/>
              </a:rPr>
              <a:t>interpretar las disposiciones de este Reglamento y fijar normas en los casos que se presenten y que no estén expresamente contemplados</a:t>
            </a:r>
            <a:r>
              <a:rPr b="0" lang="es-ES_tradnl" sz="3200" spc="-1" strike="noStrike">
                <a:solidFill>
                  <a:srgbClr val="ffff00"/>
                </a:solidFill>
                <a:latin typeface="Times New Roman"/>
              </a:rPr>
              <a:t>, procediendo en cada oportunidad a oír a personas competentes y en especial a la Asociación de Radiodifusoras de Chile.</a:t>
            </a: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Artículo 27°</a:t>
            </a:r>
            <a:r>
              <a:rPr b="1" lang="es-ES_tradnl" sz="3200" spc="-1" strike="noStrike">
                <a:solidFill>
                  <a:srgbClr val="ffff00"/>
                </a:solidFill>
                <a:latin typeface="Times New Roman"/>
              </a:rPr>
              <a:t> </a:t>
            </a:r>
            <a:r>
              <a:rPr b="0" lang="es-ES_tradnl" sz="3200" spc="-1" strike="noStrike">
                <a:solidFill>
                  <a:srgbClr val="ffff00"/>
                </a:solidFill>
                <a:latin typeface="Times New Roman"/>
              </a:rPr>
              <a:t>	</a:t>
            </a:r>
            <a:r>
              <a:rPr b="0" lang="es-ES_tradnl" sz="3200" spc="-1" strike="noStrike">
                <a:solidFill>
                  <a:srgbClr val="ffff00"/>
                </a:solidFill>
                <a:latin typeface="Times New Roman"/>
              </a:rPr>
              <a:t>El Secretario General  de Gobierno </a:t>
            </a:r>
            <a:r>
              <a:rPr b="1" lang="es-ES_tradnl" sz="3200" spc="-1" strike="noStrike" u="sng">
                <a:solidFill>
                  <a:srgbClr val="ffff00"/>
                </a:solidFill>
                <a:uFillTx/>
                <a:latin typeface="Times New Roman"/>
              </a:rPr>
              <a:t>podrá delegar las atribuciones</a:t>
            </a:r>
            <a:r>
              <a:rPr b="0" lang="es-ES_tradnl" sz="3200" spc="-1" strike="noStrike">
                <a:solidFill>
                  <a:srgbClr val="ffff00"/>
                </a:solidFill>
                <a:latin typeface="Times New Roman"/>
              </a:rPr>
              <a:t> que le confiere el presente Reglamento en el Jefe de la Sección Informaciones.</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rt. 3°</a:t>
            </a:r>
            <a:r>
              <a:rPr b="0" lang="es-ES" sz="2400" spc="-1" strike="noStrike">
                <a:solidFill>
                  <a:srgbClr val="ffff00"/>
                </a:solidFill>
                <a:latin typeface="Times New Roman"/>
              </a:rPr>
              <a:t>	</a:t>
            </a:r>
            <a:r>
              <a:rPr b="0" lang="es-ES" sz="2400" spc="-1" strike="noStrike">
                <a:solidFill>
                  <a:srgbClr val="ffff00"/>
                </a:solidFill>
                <a:latin typeface="Times New Roman"/>
              </a:rPr>
              <a:t>El monopolio postal no comprende el transporte de las cartas y demás objetos de correspondencia de un solo remitente que una persona lleve consigo para entregar directamente a otra en forma gratuita, ni el de los objetos que la Dirección General de correos y Telégrafos autorice, no acepte o acepte condicional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DECRETO  N° 2,203, DE 30 DE ABRIL DE 1943 </a:t>
            </a:r>
            <a:r>
              <a:rPr b="1" lang="es-ES" sz="1800" spc="-1" strike="noStrike">
                <a:solidFill>
                  <a:srgbClr val="ffff00"/>
                </a:solidFill>
                <a:latin typeface="Times New Roman"/>
              </a:rPr>
              <a:t>Aprueba el Reglamento de la ley 7,392, de 21 de diciembre de 1942, orgánica de la Servicios de Correos y Telégrafos (</a:t>
            </a:r>
            <a:r>
              <a:rPr b="0" lang="es-ES" sz="1800" spc="-1" strike="noStrike">
                <a:solidFill>
                  <a:srgbClr val="ffff00"/>
                </a:solidFill>
                <a:latin typeface="Times New Roman"/>
              </a:rPr>
              <a:t>14/06/194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 1°</a:t>
            </a:r>
            <a:r>
              <a:rPr b="0" lang="es-ES" sz="1800" spc="-1" strike="noStrike">
                <a:solidFill>
                  <a:srgbClr val="ffff00"/>
                </a:solidFill>
                <a:latin typeface="Times New Roman"/>
              </a:rPr>
              <a:t>	</a:t>
            </a:r>
            <a:r>
              <a:rPr b="0" lang="es-ES" sz="1800" spc="-1" strike="noStrike">
                <a:solidFill>
                  <a:srgbClr val="ffff00"/>
                </a:solidFill>
                <a:latin typeface="Times New Roman"/>
              </a:rPr>
              <a:t>El monopolio que el Estado ejerce por intermedio del Correo para las cartas y demás objetos de correspondencia, comprende los servicios de admisión, transmisión y entrega de dichos obje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 4°</a:t>
            </a:r>
            <a:r>
              <a:rPr b="0" lang="es-ES" sz="1800" spc="-1" strike="noStrike">
                <a:solidFill>
                  <a:srgbClr val="ffff00"/>
                </a:solidFill>
                <a:latin typeface="Times New Roman"/>
              </a:rPr>
              <a:t>	</a:t>
            </a:r>
            <a:r>
              <a:rPr b="0" lang="es-ES" sz="1800" spc="-1" strike="noStrike">
                <a:solidFill>
                  <a:srgbClr val="ffff00"/>
                </a:solidFill>
                <a:latin typeface="Times New Roman"/>
              </a:rPr>
              <a:t>Constituyen excepción al monopolio postal de que trata el artículo 3° de la Ley Orgánica, los casos en que se trate de los siguientes obje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a:t>
            </a:r>
            <a:r>
              <a:rPr b="0" lang="es-ES_tradnl" sz="1800" spc="-1" strike="noStrike">
                <a:solidFill>
                  <a:srgbClr val="ffff00"/>
                </a:solidFill>
                <a:latin typeface="Times New Roman"/>
              </a:rPr>
              <a:t>)</a:t>
            </a:r>
            <a:r>
              <a:rPr b="0" lang="es-ES" sz="1800" spc="-1" strike="noStrike">
                <a:solidFill>
                  <a:srgbClr val="ffff00"/>
                </a:solidFill>
                <a:latin typeface="Times New Roman"/>
              </a:rPr>
              <a:t>Cartas de recomendación personal que los interesados lleven por sí mismo y en su propio interé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b</a:t>
            </a:r>
            <a:r>
              <a:rPr b="0" lang="es-ES_tradnl" sz="1800" spc="-1" strike="noStrike">
                <a:solidFill>
                  <a:srgbClr val="ffff00"/>
                </a:solidFill>
                <a:latin typeface="Times New Roman"/>
              </a:rPr>
              <a:t>)</a:t>
            </a:r>
            <a:r>
              <a:rPr b="0" lang="es-ES" sz="1800" spc="-1" strike="noStrike">
                <a:solidFill>
                  <a:srgbClr val="ffff00"/>
                </a:solidFill>
                <a:latin typeface="Times New Roman"/>
              </a:rPr>
              <a:t>Las que los remitentes envíen por medio de miembros de su familia o sirvientes domés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c</a:t>
            </a:r>
            <a:r>
              <a:rPr b="0" lang="es-ES_tradnl" sz="1800" spc="-1" strike="noStrike">
                <a:solidFill>
                  <a:srgbClr val="ffff00"/>
                </a:solidFill>
                <a:latin typeface="Times New Roman"/>
              </a:rPr>
              <a:t>)</a:t>
            </a:r>
            <a:r>
              <a:rPr b="0" lang="es-ES" sz="1800" spc="-1" strike="noStrike">
                <a:solidFill>
                  <a:srgbClr val="ffff00"/>
                </a:solidFill>
                <a:latin typeface="Times New Roman"/>
              </a:rPr>
              <a:t>Correspondencia que las empresas o sociedades envíen para sus empleados u organismos y que verse, sobre asuntos relacionados con sus servicios, siempre que para la conducción se utilicen los medio y personal de las mismas empresas o sociedades,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d</a:t>
            </a:r>
            <a:r>
              <a:rPr b="0" lang="es-ES_tradnl" sz="1800" spc="-1" strike="noStrike">
                <a:solidFill>
                  <a:srgbClr val="ffff00"/>
                </a:solidFill>
                <a:latin typeface="Times New Roman"/>
              </a:rPr>
              <a:t>)</a:t>
            </a:r>
            <a:r>
              <a:rPr b="0" lang="es-ES" sz="1800" spc="-1" strike="noStrike">
                <a:solidFill>
                  <a:srgbClr val="ffff00"/>
                </a:solidFill>
                <a:latin typeface="Times New Roman"/>
              </a:rPr>
              <a:t>Muestras de mercaderías sin valor, siempre que los envíos de un mismo remitente no excedan del peso de cinco kilogramos, en conjunto.</a:t>
            </a:r>
            <a:endParaRPr b="0" lang="en-US" sz="1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533520"/>
            <a:ext cx="9144000" cy="4972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4°</a:t>
            </a:r>
            <a:r>
              <a:rPr b="0" lang="es-ES" sz="2000" spc="-1" strike="noStrike">
                <a:solidFill>
                  <a:srgbClr val="ffff00"/>
                </a:solidFill>
                <a:latin typeface="Times New Roman"/>
              </a:rPr>
              <a:t>	</a:t>
            </a:r>
            <a:r>
              <a:rPr b="0" lang="es-ES" sz="2000" spc="-1" strike="noStrike">
                <a:solidFill>
                  <a:srgbClr val="ffff00"/>
                </a:solidFill>
                <a:latin typeface="Times New Roman"/>
              </a:rPr>
              <a:t>Los Servicios de Correos y Telégrafos se desempeñan bajo la dependencia del Ministerio del Interior, por la Dirección General del ramo, y se ejecutan por las Administraciones Principales, Administraciones y demás oficinas que funcionan en el territorio postal y telegráfico de la República.</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7°</a:t>
            </a:r>
            <a:r>
              <a:rPr b="0" lang="es-ES" sz="2000" spc="-1" strike="noStrike">
                <a:solidFill>
                  <a:srgbClr val="ffff00"/>
                </a:solidFill>
                <a:latin typeface="Times New Roman"/>
              </a:rPr>
              <a:t>	</a:t>
            </a:r>
            <a:r>
              <a:rPr b="0" lang="es-ES" sz="2000" spc="-1" strike="noStrike">
                <a:solidFill>
                  <a:srgbClr val="ffff00"/>
                </a:solidFill>
                <a:latin typeface="Times New Roman"/>
              </a:rPr>
              <a:t>El servicio telegráfico, entendiéndose como tal el de comunicaciones alámbricas e inalámbricas, se hará únicamente por el Estado dentro del territorio de Chile; </a:t>
            </a:r>
            <a:r>
              <a:rPr b="1" lang="es-ES" sz="2000" spc="-1" strike="noStrike" u="sng">
                <a:solidFill>
                  <a:srgbClr val="ffff00"/>
                </a:solidFill>
                <a:uFillTx/>
                <a:latin typeface="Times New Roman"/>
              </a:rPr>
              <a:t>pero podrá ejecutarse también por empresas particulares que hayan sido expresamente autorizadas por el Presidente de la República, con anterioridad a esta ley.</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El Presidente de la República podrá autorizar a empresas </a:t>
            </a:r>
            <a:r>
              <a:rPr b="1" lang="es-ES" sz="2000" spc="-1" strike="noStrike" u="sng">
                <a:solidFill>
                  <a:srgbClr val="ffff00"/>
                </a:solidFill>
                <a:uFillTx/>
                <a:latin typeface="Times New Roman"/>
              </a:rPr>
              <a:t>particulares</a:t>
            </a:r>
            <a:r>
              <a:rPr b="0" lang="es-ES" sz="2000" spc="-1" strike="noStrike">
                <a:solidFill>
                  <a:srgbClr val="ffff00"/>
                </a:solidFill>
                <a:latin typeface="Times New Roman"/>
              </a:rPr>
              <a:t>, a fin de establecer transmisiones telegráficas </a:t>
            </a:r>
            <a:r>
              <a:rPr b="1" lang="es-ES" sz="2000" spc="-1" strike="noStrike" u="sng">
                <a:solidFill>
                  <a:srgbClr val="ffff00"/>
                </a:solidFill>
                <a:uFillTx/>
                <a:latin typeface="Times New Roman"/>
              </a:rPr>
              <a:t>entre lugares en que no exista este Servicio y la más próxima oficina del Estado</a:t>
            </a:r>
            <a:r>
              <a:rPr b="0" lang="es-ES" sz="2000" spc="-1" strike="noStrike">
                <a:solidFill>
                  <a:srgbClr val="ffff00"/>
                </a:solidFill>
                <a:latin typeface="Times New Roman"/>
              </a:rPr>
              <a:t>.  Estas autorizaciones caducarán por ministerio de la ley, tan pronto como la Dirección General tomare a su cargo igual servicio.</a:t>
            </a: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0" y="609480"/>
            <a:ext cx="9144000" cy="497268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9°</a:t>
            </a:r>
            <a:r>
              <a:rPr b="0" lang="es-ES" sz="2000" spc="-1" strike="noStrike">
                <a:solidFill>
                  <a:srgbClr val="ffff00"/>
                </a:solidFill>
                <a:latin typeface="Times New Roman"/>
              </a:rPr>
              <a:t>	</a:t>
            </a:r>
            <a:r>
              <a:rPr b="0" lang="es-ES" sz="2000" spc="-1" strike="noStrike">
                <a:solidFill>
                  <a:srgbClr val="ffff00"/>
                </a:solidFill>
                <a:latin typeface="Times New Roman"/>
              </a:rPr>
              <a:t>Las empresas particulares de comunicaciones telegráficas o radiotelegráficas ya establecidas, como asimismo, las empresas de transporte o sociedades que estén autorizadas para transmitir telegramas por teléfono u otro medio de comunicación, estarán obligadas a:</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 sz="2000" spc="-1" strike="noStrike">
                <a:solidFill>
                  <a:srgbClr val="ffff00"/>
                </a:solidFill>
                <a:latin typeface="Times New Roman"/>
              </a:rPr>
              <a:t>Fijar tarifas iguales o superiores a las del Telégrafo del Estado;</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b)</a:t>
            </a:r>
            <a:r>
              <a:rPr b="0" lang="es-ES" sz="2000" spc="-1" strike="noStrike">
                <a:solidFill>
                  <a:srgbClr val="ffff00"/>
                </a:solidFill>
                <a:latin typeface="Times New Roman"/>
              </a:rPr>
              <a:t>Pagar al Estado los derechos e impuestos que se establezcan para cada telegrama o aviso de giro telegráfico, que se deposite por el público en sus oficinas para su transmisión;</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Transmitir libres de porte en el interior del país los despachos del Presidente de la República, los despachos de carácter oficial de los Presidentes de ambas ramas del Congreso, de los Ministros de Estado, del Director General de Correos y Telégrafos, de los Intendentes de Provincia y de los Gobernadores de departamento, y también los telegramas oficiales y sin cargo a que esté obligado el Telégrafo del Estado en caso de interrupción de sus conductores, declarada por los Jefes de las oficinas que sufren la interrupción,</a:t>
            </a: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457200"/>
            <a:ext cx="9144000" cy="52776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10°</a:t>
            </a:r>
            <a:r>
              <a:rPr b="0" lang="es-ES" sz="2000" spc="-1" strike="noStrike">
                <a:solidFill>
                  <a:srgbClr val="ffff00"/>
                </a:solidFill>
                <a:latin typeface="Times New Roman"/>
              </a:rPr>
              <a:t>	</a:t>
            </a:r>
            <a:r>
              <a:rPr b="0" lang="es-ES" sz="2000" spc="-1" strike="noStrike">
                <a:solidFill>
                  <a:srgbClr val="ffff00"/>
                </a:solidFill>
                <a:latin typeface="Times New Roman"/>
              </a:rPr>
              <a:t>En caso de guerra o conmoción interior, el Gobierno, por razones de seguridad pública, </a:t>
            </a:r>
            <a:r>
              <a:rPr b="1" lang="es-ES" sz="2000" spc="-1" strike="noStrike" u="sng">
                <a:solidFill>
                  <a:srgbClr val="ffff00"/>
                </a:solidFill>
                <a:uFillTx/>
                <a:latin typeface="Times New Roman"/>
              </a:rPr>
              <a:t>podrá ordenar que la fiscalización e intervención de la Dirección General de Correos y Telégrafos en las empresas particulares de comunicación comprenda el control del funcionamiento de aquellos servici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pudiendo también ordenar que la misma Dirección General tome de su cuenta el uso de toda o parte de las empresas particulares de servicios telegráficos, telefónicos, radiotelegráficos o radiotelefónicos</a:t>
            </a:r>
            <a:r>
              <a:rPr b="0" lang="es-ES" sz="2000" spc="-1" strike="noStrike">
                <a:solidFill>
                  <a:srgbClr val="ffff00"/>
                </a:solidFill>
                <a:latin typeface="Times New Roman"/>
              </a:rPr>
              <a:t> abonando a las empresas una compensación por el tiempo que tome a su cargo el uso de sus instalaciones, la que se determinará tomando como base de avalúo el término medio de lo que hubiere producido el servicio en los tres años precedent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11°</a:t>
            </a:r>
            <a:r>
              <a:rPr b="0" lang="es-ES" sz="2000" spc="-1" strike="noStrike">
                <a:solidFill>
                  <a:srgbClr val="ffff00"/>
                </a:solidFill>
                <a:latin typeface="Times New Roman"/>
              </a:rPr>
              <a:t>	</a:t>
            </a:r>
            <a:r>
              <a:rPr b="0" lang="es-ES" sz="2000" spc="-1" strike="noStrike">
                <a:solidFill>
                  <a:srgbClr val="ffff00"/>
                </a:solidFill>
                <a:latin typeface="Times New Roman"/>
              </a:rPr>
              <a:t>Las disposiciones que establece al artículo anterior no alcanzan a los servicios análogos del Ejército, de la Armada y de la Fuerza Aérea y Carabineros de Chile, salvo en la parte que, eventual o permanentemente se entregue al servicio público.</a:t>
            </a: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333000"/>
            <a:ext cx="7772400" cy="6264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DECRETO 4.581 (08/10/1949)</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Fija el texto definitivo del Reglamento de Transmisiones de Radiodifusión</a:t>
            </a:r>
            <a:r>
              <a:rPr b="0" lang="es-ES_tradnl"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a:t>
            </a:r>
            <a:r>
              <a:rPr b="0" i="1" lang="es-ES_tradnl" sz="2400" spc="-1" strike="noStrike">
                <a:solidFill>
                  <a:srgbClr val="ffff00"/>
                </a:solidFill>
                <a:latin typeface="Times New Roman"/>
              </a:rPr>
              <a:t> </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El presente Reglamento se refiere a las condiciones que deben llenar y a las reglas que regirán las transmisiones que realicen las estaciones radiodifusoras, </a:t>
            </a:r>
            <a:r>
              <a:rPr b="1" lang="es-ES_tradnl" sz="2400" spc="-1" strike="noStrike" u="sng">
                <a:solidFill>
                  <a:srgbClr val="ffff00"/>
                </a:solidFill>
                <a:uFillTx/>
                <a:latin typeface="Times New Roman"/>
              </a:rPr>
              <a:t>en todos los aspectos de dichas transmisiones que no constituyan cuestiones técnico-eléctric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2°</a:t>
            </a:r>
            <a:r>
              <a:rPr b="0" i="1" lang="es-ES_tradnl" sz="2400" spc="-1" strike="noStrike">
                <a:solidFill>
                  <a:srgbClr val="ffff00"/>
                </a:solidFill>
                <a:latin typeface="Times New Roman"/>
              </a:rPr>
              <a:t> </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La aplicación y vigilancia del cumplimiento de este Reglamento corresponderá a la Secretaría General de Gobierno y a la Dirección de Servicios Eléctricos, cuando la cuestión sometida a la aplicación del Reglamento se relacione, también, con materias que estén señaladas en la Ley General de Servicios Eléctricos como de la resolución de la Dirección de dichos Servicios.</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3°</a:t>
            </a:r>
            <a:r>
              <a:rPr b="0" i="1" lang="es-ES_tradnl" sz="1800" spc="-1" strike="noStrike">
                <a:solidFill>
                  <a:srgbClr val="ffff00"/>
                </a:solidFill>
                <a:latin typeface="Times New Roman"/>
              </a:rPr>
              <a:t>  </a:t>
            </a:r>
            <a:r>
              <a:rPr b="0" lang="es-ES_tradnl" sz="1800" spc="-1" strike="noStrike">
                <a:solidFill>
                  <a:srgbClr val="ffff00"/>
                </a:solidFill>
                <a:latin typeface="Times New Roman"/>
              </a:rPr>
              <a:t>Corresponderá a la Secretaría General de Gobierno ejercer la </a:t>
            </a:r>
            <a:r>
              <a:rPr b="1" lang="es-ES_tradnl" sz="1800" spc="-1" strike="noStrike" u="sng">
                <a:solidFill>
                  <a:srgbClr val="ffff00"/>
                </a:solidFill>
                <a:uFillTx/>
                <a:latin typeface="Times New Roman"/>
              </a:rPr>
              <a:t>supervigilancia</a:t>
            </a:r>
            <a:r>
              <a:rPr b="0" lang="es-ES_tradnl" sz="1800" spc="-1" strike="noStrike">
                <a:solidFill>
                  <a:srgbClr val="ffff00"/>
                </a:solidFill>
                <a:latin typeface="Times New Roman"/>
              </a:rPr>
              <a:t> respecto del contenido y realización de las transmisiones que efectúen las radiodifusoras del país, dar normas sobre la composición de los programas, impartir instrucciones relativas a la clase y calidad de los números a los cuales debe darse preferencia, los que no puedan ser incluidos o los que deban ser suprimidos en algunos de los programas mencionados, y, en general, dar todas las directivas necesarias para el mejoramiento de la calidad artístico-cultural de las transmisione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Sin embargo, en la aplicación de dichas atribuciones no se podrá llegar, en caso alguno, a la censura previa de las transmisiones, discursos o números de programas cuyo contenido signifique sólo emitir opiniones, sin perjuicio de perseguir oportunamente los delitos que puedan cometerse por el abuso de esta libertad.</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Las radiodifusoras estarán obligadas a </a:t>
            </a:r>
            <a:r>
              <a:rPr b="1" lang="es-ES_tradnl" sz="1800" spc="-1" strike="noStrike" u="sng">
                <a:solidFill>
                  <a:srgbClr val="ffff00"/>
                </a:solidFill>
                <a:uFillTx/>
                <a:latin typeface="Times New Roman"/>
              </a:rPr>
              <a:t>dejar copia de toda transmisión que se refiera a noticias, charlas, conferencias, disertaciones, editoriales o discursos</a:t>
            </a:r>
            <a:r>
              <a:rPr b="0" lang="es-ES_tradnl" sz="1800" spc="-1" strike="noStrike">
                <a:solidFill>
                  <a:srgbClr val="ffff00"/>
                </a:solidFill>
                <a:latin typeface="Times New Roman"/>
              </a:rPr>
              <a:t>, y a enviarlos a la Secretaría General de Gobierno cada vez que ésta lo estime conveniente.</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5</a:t>
            </a:r>
            <a:r>
              <a:rPr b="1" lang="es-ES_tradnl" sz="1800" spc="-1" strike="noStrike">
                <a:solidFill>
                  <a:srgbClr val="ffff00"/>
                </a:solidFill>
                <a:latin typeface="Times New Roman"/>
              </a:rPr>
              <a:t>°</a:t>
            </a:r>
            <a:r>
              <a:rPr b="0" lang="es-ES_tradnl" sz="1800" spc="-1" strike="noStrike">
                <a:solidFill>
                  <a:srgbClr val="ffff00"/>
                </a:solidFill>
                <a:latin typeface="Times New Roman"/>
              </a:rPr>
              <a:t>  La Secretaría General de Gobierno podrá </a:t>
            </a:r>
            <a:r>
              <a:rPr b="1" lang="es-ES_tradnl" sz="1800" spc="-1" strike="noStrike" u="sng">
                <a:solidFill>
                  <a:srgbClr val="ffff00"/>
                </a:solidFill>
                <a:uFillTx/>
                <a:latin typeface="Times New Roman"/>
              </a:rPr>
              <a:t>ordenar la suspensión</a:t>
            </a:r>
            <a:r>
              <a:rPr b="0" lang="es-ES_tradnl" sz="1800" spc="-1" strike="noStrike">
                <a:solidFill>
                  <a:srgbClr val="ffff00"/>
                </a:solidFill>
                <a:latin typeface="Times New Roman"/>
              </a:rPr>
              <a:t>, hasta por seis días, de las transmisiones de las radiodifusoras que no den cumplimiento a las normas o resoluciones adoptadas. La orden respectiva será también comunicada a la Dirección General de Servicios Eléctricos, para los fines a que haya luga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6°  Las radiodifusoras deberán comunicar a la Secretaría General de Gobierno sus </a:t>
            </a:r>
            <a:r>
              <a:rPr b="1" lang="es-ES_tradnl" sz="1800" spc="-1" strike="noStrike" u="sng">
                <a:solidFill>
                  <a:srgbClr val="ffff00"/>
                </a:solidFill>
                <a:uFillTx/>
                <a:latin typeface="Times New Roman"/>
              </a:rPr>
              <a:t>horarios</a:t>
            </a:r>
            <a:r>
              <a:rPr b="0" lang="es-ES_tradnl" sz="1800" spc="-1" strike="noStrike">
                <a:solidFill>
                  <a:srgbClr val="ffff00"/>
                </a:solidFill>
                <a:latin typeface="Times New Roman"/>
              </a:rPr>
              <a:t> de transmisiones, como asimismo cualquier cambio que en ellos se efectúe.</a:t>
            </a:r>
            <a:endParaRPr b="0" lang="en-US" sz="1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620280"/>
            <a:ext cx="7772400" cy="6048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7° Para los efectos de sus relaciones con la Secretaría General de Gobierno, todas las estaciones radiodifusoras </a:t>
            </a:r>
            <a:r>
              <a:rPr b="1" lang="es-ES_tradnl" sz="1600" spc="-1" strike="noStrike" u="sng">
                <a:solidFill>
                  <a:srgbClr val="ffff00"/>
                </a:solidFill>
                <a:uFillTx/>
                <a:latin typeface="Times New Roman"/>
              </a:rPr>
              <a:t>deberán designar un director responsable</a:t>
            </a:r>
            <a:r>
              <a:rPr b="0" lang="es-ES_tradnl" sz="1600" spc="-1" strike="noStrike">
                <a:solidFill>
                  <a:srgbClr val="ffff00"/>
                </a:solidFill>
                <a:latin typeface="Times New Roman"/>
              </a:rPr>
              <a:t>, debiendo recaer esta designación en una persona que tenga el control efectivo de la emisora y que esté en posesión de la nacionalidad chilena, de acuerdo con lo establecido en los números 1° ó 2° del artículo 5° de la Constitución Polític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El director responsable deberá ser persona que no tenga fuero y que esté en plena posesión de sus derechos civiles y políticos. </a:t>
            </a:r>
            <a:r>
              <a:rPr b="1" lang="es-ES_tradnl" sz="1600" spc="-1" strike="noStrike" u="sng">
                <a:solidFill>
                  <a:srgbClr val="ffff00"/>
                </a:solidFill>
                <a:uFillTx/>
                <a:latin typeface="Times New Roman"/>
              </a:rPr>
              <a:t>La radiodifusora deberá acompañar un informe de la Asociación de Radiodifusoras de Chile sobre la idoneidad y responsabilidad del director para el desempeño del cargo</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Para poder comenzar a ejercer sus funciones el director responsable deberá recabar de </a:t>
            </a:r>
            <a:r>
              <a:rPr b="1" lang="es-ES_tradnl" sz="1600" spc="-1" strike="noStrike" u="sng">
                <a:solidFill>
                  <a:srgbClr val="ffff00"/>
                </a:solidFill>
                <a:uFillTx/>
                <a:latin typeface="Times New Roman"/>
              </a:rPr>
              <a:t>la Secretaría General de Gobierno la aprobación de su nombramiento</a:t>
            </a:r>
            <a:r>
              <a:rPr b="0" lang="es-ES_tradnl" sz="1600" spc="-1" strike="noStrike">
                <a:solidFill>
                  <a:srgbClr val="ffff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9° Las transmisiones se verificarán desde el domicilio legal de la estación radiodifusora, cuya designación deberá comunicarse oportunamente a la Secretaría General de Gobiern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No se podrá transmitir los espectáculos que se realicen en las boites, cabarets, quintas de recreo u otros locales de entretenimientos públicos similares, sin autorización de la Secretaría General de Gobierno, Sección Informacion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0° Todas las transmisiones de radiodifusión se harán en </a:t>
            </a:r>
            <a:r>
              <a:rPr b="1" lang="es-ES_tradnl" sz="1600" spc="-1" strike="noStrike" u="sng">
                <a:solidFill>
                  <a:srgbClr val="ffff00"/>
                </a:solidFill>
                <a:uFillTx/>
                <a:latin typeface="Times New Roman"/>
              </a:rPr>
              <a:t>castellano</a:t>
            </a:r>
            <a:r>
              <a:rPr b="0" lang="es-ES_tradnl" sz="1600" spc="-1" strike="noStrike">
                <a:solidFill>
                  <a:srgbClr val="ffff00"/>
                </a:solidFill>
                <a:latin typeface="Times New Roman"/>
              </a:rPr>
              <a:t>, exceptuándose las canciones, poesías, obras teatrales y lecciones, las que podrán transmitirse en idioma extranjero siempre que sean anunciadas en castellano.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En casos calificados, podrá autorizarse por el Secretario General de Gobierno a instituciones responsables para que efectúen ocasionalmente determinadas transmisiones en idiomas extranjeros.</a:t>
            </a:r>
            <a:endParaRPr b="0" lang="en-US" sz="1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1280" y="549360"/>
            <a:ext cx="7772400" cy="5905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1°</a:t>
            </a:r>
            <a:r>
              <a:rPr b="0" i="1" lang="es-ES_tradnl" sz="2000" spc="-1" strike="noStrike">
                <a:solidFill>
                  <a:srgbClr val="ffff00"/>
                </a:solidFill>
                <a:latin typeface="Times New Roman"/>
              </a:rPr>
              <a:t> </a:t>
            </a:r>
            <a:r>
              <a:rPr b="0" i="1"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necesitarán estar autorizadas por la Secretaría General de Gobierno para efectuar en forma regular o permanente </a:t>
            </a:r>
            <a:r>
              <a:rPr b="0" lang="es-ES_tradnl" sz="2000" spc="-1" strike="noStrike" u="sng">
                <a:solidFill>
                  <a:srgbClr val="ffff00"/>
                </a:solidFill>
                <a:uFillTx/>
                <a:latin typeface="Times New Roman"/>
              </a:rPr>
              <a:t>retransmisiones que provengan del extranjero</a:t>
            </a:r>
            <a:r>
              <a:rPr b="0" lang="es-ES_tradnl" sz="2000" spc="-1" strike="noStrike">
                <a:solidFill>
                  <a:srgbClr val="ffff00"/>
                </a:solidFill>
                <a:latin typeface="Times New Roman"/>
              </a:rPr>
              <a:t>. En la autorización se especificarán las estaciones de origen, los programas que han de retransmitirse y el idioma en que se propalarán. Estas retransmisiones se podrán efectuar siempre que no haya oposición de la radioestación originaria, la que deberá formularse por escrito ante la Secretaría General de Gobierno. </a:t>
            </a: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En ningún caso se autorizarán retransmisiones que tengan su origen en países con los que Chile no mantenga relaciones o cuando contengan, en forma directa o indirecta, propaganda política o social a favor de principios contrarios  la Constitución y a las leyes del paí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2°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necesitarán estar autorizadas por la Secretaría General de Gobierno para efectuar </a:t>
            </a:r>
            <a:r>
              <a:rPr b="0" lang="es-ES_tradnl" sz="2000" spc="-1" strike="noStrike" u="sng">
                <a:solidFill>
                  <a:srgbClr val="ffff00"/>
                </a:solidFill>
                <a:uFillTx/>
                <a:latin typeface="Times New Roman"/>
              </a:rPr>
              <a:t>retransmisiones que tengan su origen dentro del territorio nacional</a:t>
            </a:r>
            <a:r>
              <a:rPr b="0" lang="es-ES_tradnl" sz="2000" spc="-1" strike="noStrike">
                <a:solidFill>
                  <a:srgbClr val="ffff00"/>
                </a:solidFill>
                <a:latin typeface="Times New Roman"/>
              </a:rPr>
              <a:t>, sean de carácter permanente o regular o en casos ocasional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 autorización podrá ser solicitada por la estación radiodifusora de origen o por la que deba efectuar la retransmisión. Sólo podrán otorgarse las autorizaciones cuando la estación de origen haya dado expresamente su conformidad.</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3:56:17Z</dcterms:created>
  <dc:creator>Centro Estudios Publicos</dc:creator>
  <dc:description/>
  <dc:language>en-US</dc:language>
  <cp:lastModifiedBy>Centro Estudios Publicos</cp:lastModifiedBy>
  <dcterms:modified xsi:type="dcterms:W3CDTF">2004-10-01T15:13:13Z</dcterms:modified>
  <cp:revision>3</cp:revision>
  <dc:subject/>
  <dc:title>Sin título de diapositiva</dc:title>
</cp:coreProperties>
</file>