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5BCDF-6FE9-412B-8B50-EBA503712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6BD6-D759-4382-A285-162884F8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926B3-D495-4471-906C-2C1BD487D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C56B-C55B-4407-AB4F-F3F76EA1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F891-CD16-44E8-8AF1-34B2DD88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05C9-446A-4130-A9BE-0FAEC970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671A-7D3D-4943-8942-1F0562899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4B9E-8EB0-4531-A95E-DE65F20C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CA8B-448D-4F09-87D8-61B55040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A991-C525-44F4-BC9F-E301F603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5733-64DA-4038-B603-A56D46096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06CC-4800-431B-838E-1DB644972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C84F-516E-4286-92F5-0A13787E3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1000"/>
                                        <p:tgtEl>
                                          <p:spTgt spid="46"/>
                                        </p:tgtEl>
                                      </p:cBhvr>
                                    </p:animEffect>
                                    <p:anim calcmode="lin" valueType="num">
                                      <p:cBhvr additive="repl">
                                        <p:cTn id="13" dur="1000" fill="hold"/>
                                        <p:tgtEl>
                                          <p:spTgt spid="46"/>
                                        </p:tgtEl>
                                        <p:attrNameLst>
                                          <p:attrName>ppt_x</p:attrName>
                                        </p:attrNameLst>
                                      </p:cBhvr>
                                      <p:tavLst>
                                        <p:tav tm="0">
                                          <p:val>
                                            <p:strVal val="#ppt_x"/>
                                          </p:val>
                                        </p:tav>
                                        <p:tav tm="100000">
                                          <p:val>
                                            <p:strVal val="#ppt_x"/>
                                          </p:val>
                                        </p:tav>
                                      </p:tavLst>
                                    </p:anim>
                                    <p:anim calcmode="lin" valueType="num">
                                      <p:cBhvr additive="repl">
                                        <p:cTn id="14"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