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3E8D3-A23A-4804-88C7-8487CE2B9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3AB1-B6AC-47FE-84CE-F3A27B5D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60453-4559-4DC0-9AF3-2D91C3946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44E8C-016B-4DD9-A5C2-78FF3E0D2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0FC0-B02A-4EC3-9A8B-EB3F95C79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66104-5845-44F0-BBAC-25D638FE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947C1-6149-41A6-9207-7177DC6B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9715C-D08C-489E-A0A9-07FCDDC0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1299-6168-44AE-918B-D35CD97E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4EC0-9F26-4D35-A70E-9E96C8BB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5A72-AEFF-4412-95A9-01DB9F42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4009-3A01-42CF-B708-9D235C5CD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D1D4-E8B3-4396-AB8A-9386C275D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1000"/>
                                        <p:tgtEl>
                                          <p:spTgt spid="46"/>
                                        </p:tgtEl>
                                      </p:cBhvr>
                                    </p:animEffect>
                                    <p:anim calcmode="lin" valueType="num">
                                      <p:cBhvr additive="repl">
                                        <p:cTn id="13" dur="1000" fill="hold"/>
                                        <p:tgtEl>
                                          <p:spTgt spid="46"/>
                                        </p:tgtEl>
                                        <p:attrNameLst>
                                          <p:attrName>ppt_x</p:attrName>
                                        </p:attrNameLst>
                                      </p:cBhvr>
                                      <p:tavLst>
                                        <p:tav tm="0">
                                          <p:val>
                                            <p:strVal val="#ppt_x"/>
                                          </p:val>
                                        </p:tav>
                                        <p:tav tm="100000">
                                          <p:val>
                                            <p:strVal val="#ppt_x"/>
                                          </p:val>
                                        </p:tav>
                                      </p:tavLst>
                                    </p:anim>
                                    <p:anim calcmode="lin" valueType="num">
                                      <p:cBhvr additive="repl">
                                        <p:cTn id="14"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