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AD323-E9B6-4FFD-B1FD-9931D04BE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5E344-97A0-4C78-A0AF-4657625B9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068C5-ED39-47D6-9404-F6F75CD8E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B1AF6-DEFA-4C41-931B-FF03ED5AB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5E8EE-BC5B-49EE-9114-5AFDD1BA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50C57-DEFC-48DB-A162-A34C78748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C17D-2DE3-4BDB-A1CD-1478E5044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B563-F2C8-4A2A-89C6-ACCB3D508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001C-560C-45AA-9C1C-2184986A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994E3-CC92-415F-B427-96D1003B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3EE7-6D8B-451B-A4D6-6A228784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4555D-A9E0-432F-9941-1502A0AEE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034C-7906-4397-A00B-1614BC375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2205000"/>
            <a:ext cx="8600760" cy="281484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67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entury"/>
                <a:ea typeface="Times New Roman"/>
              </a:rPr>
              <a:t>Posibles temas de investigación para la nota de los controles</a:t>
            </a:r>
            <a:endParaRPr b="0" lang="en-US" sz="20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rreos. Ordenanza de 1794, paso a la República, comparación </a:t>
            </a:r>
            <a:r>
              <a:rPr b="0" i="1" lang="es-ES" sz="1800" spc="-1" strike="noStrike">
                <a:solidFill>
                  <a:srgbClr val="ffff00"/>
                </a:solidFill>
                <a:latin typeface="Century"/>
                <a:ea typeface="Times New Roman"/>
              </a:rPr>
              <a:t>Ley de Correos</a:t>
            </a:r>
            <a:r>
              <a:rPr b="0" lang="es-ES" sz="1800" spc="-1" strike="noStrike">
                <a:solidFill>
                  <a:srgbClr val="ffff00"/>
                </a:solidFill>
                <a:latin typeface="Century"/>
                <a:ea typeface="Times New Roman"/>
              </a:rPr>
              <a:t> de 1858</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Generación de energía eléctrica, historia.  Primeros indicios normativos, comparación telecomunicacione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Visión comparada desarrollo telecomunicaciones eléctricas alámbricas en la región (elegir casos relevantes, BN—caso Perú)</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bertura de prensa en torno a la llegada de los medios eléctric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Actas de la discusión parlamentaria de las normas legislativas vistas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Jurisprudencia y casos asociados a la normativa vista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volución del concepto de concesión, antecedentes y proyección al presente</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entury"/>
                <a:ea typeface="Times New Roman"/>
              </a:rPr>
              <a:t>Historia particularizada de teléfonos (compañías paralelas, regionales, ¿Competencia?, etc.)</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l espectro radioeléctrico. Historia, organización internacional, primeras normas y primeros servici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Quién ha tenido espectro? Fuerzas armadas y espectro radioeléctrico</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Radiodifusión radial, primeras empresas y relaciones con la autoridad</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 name=""/>
          <p:cNvSpPr/>
          <p:nvPr/>
        </p:nvSpPr>
        <p:spPr>
          <a:xfrm>
            <a:off x="0" y="36504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DECRETO CON FUERZA DE LEY NUM. 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Crea el servicio Nacional de Radiodifusión, dependiente del Ministerio del Interior </a:t>
            </a:r>
            <a:r>
              <a:rPr b="0" lang="es-ES" sz="2000" spc="-1" strike="noStrike">
                <a:solidFill>
                  <a:srgbClr val="000000"/>
                </a:solidFill>
                <a:latin typeface="Century"/>
              </a:rPr>
              <a:t>(30/05/19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1°</a:t>
            </a:r>
            <a:r>
              <a:rPr b="0" lang="es-ES" sz="2000" spc="-1" strike="noStrike">
                <a:solidFill>
                  <a:srgbClr val="000000"/>
                </a:solidFill>
                <a:latin typeface="Century"/>
              </a:rPr>
              <a:t>	</a:t>
            </a:r>
            <a:r>
              <a:rPr b="0" lang="es-ES" sz="2000" spc="-1" strike="noStrike">
                <a:solidFill>
                  <a:srgbClr val="000000"/>
                </a:solidFill>
                <a:latin typeface="Century"/>
              </a:rPr>
              <a:t>Que la radiodifusión al contribuir poderosamente a la elevación del nivel cultural del pueblo, facilitando los medios para difundir los conocimientos humanos, tiene señalada en el futuro una importante función educativa al mismo tiempo recre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2°</a:t>
            </a:r>
            <a:r>
              <a:rPr b="0" lang="es-ES" sz="2000" spc="-1" strike="noStrike">
                <a:solidFill>
                  <a:srgbClr val="000000"/>
                </a:solidFill>
                <a:latin typeface="Century"/>
              </a:rPr>
              <a:t>	</a:t>
            </a:r>
            <a:r>
              <a:rPr b="0" lang="es-ES" sz="2000" spc="-1" strike="noStrike">
                <a:solidFill>
                  <a:srgbClr val="000000"/>
                </a:solidFill>
                <a:latin typeface="Century"/>
              </a:rPr>
              <a:t>Que constituye también uno de los elementos más eficaces y seguros de propaganda, en razón de que puede llevar a todos los confines del territorio, en un radio más extenso que el abarcado por la prensa diaria, la noticia de los grandes acontecimientos de la vida universal o de los progresos alcanzados por las artes y las ciencias, la industria y el comer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3°</a:t>
            </a:r>
            <a:r>
              <a:rPr b="0" lang="es-ES" sz="2000" spc="-1" strike="noStrike">
                <a:solidFill>
                  <a:srgbClr val="000000"/>
                </a:solidFill>
                <a:latin typeface="Century"/>
              </a:rPr>
              <a:t>	</a:t>
            </a:r>
            <a:r>
              <a:rPr b="0" lang="es-ES" sz="2000" spc="-1" strike="noStrike">
                <a:solidFill>
                  <a:srgbClr val="000000"/>
                </a:solidFill>
                <a:latin typeface="Century"/>
              </a:rPr>
              <a:t>Que la instalación por el Estado de una gran Estación Radio Transmisora, secundada por estaciones radio-receptoras diseminadas a lo largo del territorio nacional llenan y satisfacen ampliamente éstos y otros fines de interés público; </a:t>
            </a:r>
            <a:endParaRPr b="0" lang="en-US" sz="2000" spc="-1" strike="noStrike">
              <a:solidFill>
                <a:srgbClr val="000000"/>
              </a:solidFill>
              <a:latin typeface="Arial"/>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1°</a:t>
            </a:r>
            <a:r>
              <a:rPr b="0" lang="es-ES" sz="2800" spc="-1" strike="noStrike">
                <a:solidFill>
                  <a:srgbClr val="000000"/>
                </a:solidFill>
                <a:latin typeface="Century"/>
              </a:rPr>
              <a:t>	</a:t>
            </a:r>
            <a:r>
              <a:rPr b="0" lang="es-ES" sz="2800" spc="-1" strike="noStrike">
                <a:solidFill>
                  <a:srgbClr val="000000"/>
                </a:solidFill>
                <a:latin typeface="Century"/>
              </a:rPr>
              <a:t>Créase, dependiente del Ministerio del Interior, el Servicio Nacional de Radiodifusión, que tendrá por objeto proporcionar por el Estado, transmisiones audibles en todo el territorio de la República, destinadas a la información, educación, elevación de la cultura y otras que se estimen necesarias o de interé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3°</a:t>
            </a:r>
            <a:r>
              <a:rPr b="0" lang="es-ES" sz="2800" spc="-1" strike="noStrike">
                <a:solidFill>
                  <a:srgbClr val="000000"/>
                </a:solidFill>
                <a:latin typeface="Century"/>
              </a:rPr>
              <a:t>	</a:t>
            </a:r>
            <a:r>
              <a:rPr b="0" lang="es-ES" sz="2800" spc="-1" strike="noStrike">
                <a:solidFill>
                  <a:srgbClr val="000000"/>
                </a:solidFill>
                <a:latin typeface="Century"/>
              </a:rPr>
              <a:t>La mantención, explotación, conservación y manejo de las estaciones de radio-transmisión estará a cargo de la Dirección General de Servicios Eléctricos, la que tendrá también la supervigilancia de los demás radio-equipos del Servicio Nacional de Radiodifusión, como son las estaciones receptoras.</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p:nvPr/>
        </p:nvSpPr>
        <p:spPr>
          <a:xfrm>
            <a:off x="0" y="5493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4°</a:t>
            </a:r>
            <a:r>
              <a:rPr b="0" lang="en-US" sz="2000" spc="-1" strike="noStrike">
                <a:solidFill>
                  <a:srgbClr val="000000"/>
                </a:solidFill>
                <a:latin typeface="Century"/>
              </a:rPr>
              <a:t>	</a:t>
            </a:r>
            <a:r>
              <a:rPr b="0" lang="en-US" sz="2000" spc="-1" strike="noStrike">
                <a:solidFill>
                  <a:srgbClr val="000000"/>
                </a:solidFill>
                <a:latin typeface="Century"/>
              </a:rPr>
              <a:t>Los programas que se transmitan por las estaciones del Servicio Nacional de Radiodifusión, serán confeccionados por el Departamento de Programas del Servicio, que funcionará anexo al Departamento de Extensión Cultural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ichos programas se confeccionarán de acuerdo con las directivas que establezca al efecto un Consejo que se compond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Director del Departamento de Extensión Cultural de la Universidad de Chile, que lo será también del Departamento de Programas del Servicio de Radiodifusión, que lo presidi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Subsecretario del Ministerio del Inter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	</a:t>
            </a:r>
            <a:r>
              <a:rPr b="0" lang="en-US" sz="2000" spc="-1" strike="noStrike">
                <a:solidFill>
                  <a:srgbClr val="000000"/>
                </a:solidFill>
                <a:latin typeface="Century"/>
              </a:rPr>
              <a:t>Del Director General de Servicios Eléctr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Generales de Educación Primaria y Secund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del Conservatorio Nacional de Música, y de las Biblioteca Nacional;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seis miembros, funcionarios públicos, designados directamente por el Presidente de la República.</a:t>
            </a:r>
            <a:endParaRPr b="0" lang="en-US" sz="20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5°</a:t>
            </a:r>
            <a:r>
              <a:rPr b="0" lang="en-US" sz="2000" spc="-1" strike="noStrike">
                <a:solidFill>
                  <a:srgbClr val="000000"/>
                </a:solidFill>
                <a:latin typeface="Century"/>
              </a:rPr>
              <a:t>	</a:t>
            </a:r>
            <a:r>
              <a:rPr b="0" lang="en-US" sz="2000" spc="-1" strike="noStrike">
                <a:solidFill>
                  <a:srgbClr val="000000"/>
                </a:solidFill>
                <a:latin typeface="Century"/>
              </a:rPr>
              <a:t>El Ministerio del Interior podrá en cualquier momento suspender o modificar todo programa o transmisión, cualquiera que fuera su naturaleza, si así lo estimare por conveniente para el orden y la seguridad públ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6°</a:t>
            </a:r>
            <a:r>
              <a:rPr b="0" lang="en-US" sz="2000" spc="-1" strike="noStrike">
                <a:solidFill>
                  <a:srgbClr val="000000"/>
                </a:solidFill>
                <a:latin typeface="Century"/>
              </a:rPr>
              <a:t>	</a:t>
            </a:r>
            <a:r>
              <a:rPr b="0" lang="en-US" sz="2000" spc="-1" strike="noStrike">
                <a:solidFill>
                  <a:srgbClr val="000000"/>
                </a:solidFill>
                <a:latin typeface="Century"/>
              </a:rPr>
              <a:t>Los Reglamentos que para la aplicación de esta Ley dicte el Presidente de la República, determinarán los Establecimientos, Empresas, Instituciones, Corporaciones y personas naturales o jurídicas que deberán instalar y mantener puesto públicos de recepción, como asimismo las normas para su instalación y funcionamiento </a:t>
            </a:r>
            <a:endParaRPr b="0" lang="en-US" sz="2000" spc="-1" strike="noStrike">
              <a:solidFill>
                <a:srgbClr val="000000"/>
              </a:solidFill>
              <a:latin typeface="Arial"/>
            </a:endParaRPr>
          </a:p>
        </p:txBody>
      </p:sp>
      <p:sp>
        <p:nvSpPr>
          <p:cNvPr id="46" name=""/>
          <p:cNvSpPr/>
          <p:nvPr/>
        </p:nvSpPr>
        <p:spPr>
          <a:xfrm>
            <a:off x="0" y="335772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7°</a:t>
            </a:r>
            <a:r>
              <a:rPr b="0" lang="en-US" sz="2000" spc="-1" strike="noStrike">
                <a:solidFill>
                  <a:srgbClr val="000000"/>
                </a:solidFill>
                <a:latin typeface="Century"/>
              </a:rPr>
              <a:t>	</a:t>
            </a:r>
            <a:r>
              <a:rPr b="0" lang="en-US" sz="2000" spc="-1" strike="noStrike">
                <a:solidFill>
                  <a:srgbClr val="000000"/>
                </a:solidFill>
                <a:latin typeface="Century"/>
              </a:rPr>
              <a:t>Se establece un impuesto sobre la venta de equipos, artefactos, artículos y demás elementos de cualquiera naturaleza que se empleen en instalaciones de radio, equivalente al 10 por siento del precio de v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La percepción de este impuesto se hará efectiva por medio de fajas o estampillas especiales que indicarán el precio máximo en que puede ser vendida la mercadería.  Este impuesto regirá desde el primero de Enero de 19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8°</a:t>
            </a:r>
            <a:r>
              <a:rPr b="0" lang="en-US" sz="2000" spc="-1" strike="noStrike">
                <a:solidFill>
                  <a:srgbClr val="000000"/>
                </a:solidFill>
                <a:latin typeface="Century"/>
              </a:rPr>
              <a:t>	</a:t>
            </a:r>
            <a:r>
              <a:rPr b="0" lang="en-US" sz="2000" spc="-1" strike="noStrike">
                <a:solidFill>
                  <a:srgbClr val="000000"/>
                </a:solidFill>
                <a:latin typeface="Century"/>
              </a:rPr>
              <a:t>Los fabricante, importadores, representantes y, en general, toda persona que comercie en cualesquiera de los artículos gravados por la presente Ley, deberán inscribirse en la Dirección General de Impuestos Internos.</a:t>
            </a:r>
            <a:endParaRPr b="0" lang="en-US" sz="20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repl">
                                        <p:cTn id="12" dur="500" fill="hold"/>
                                        <p:tgtEl>
                                          <p:spTgt spid="46"/>
                                        </p:tgtEl>
                                        <p:attrNameLst>
                                          <p:attrName>ppt_w</p:attrName>
                                        </p:attrNameLst>
                                      </p:cBhvr>
                                      <p:tavLst>
                                        <p:tav tm="0">
                                          <p:val>
                                            <p:strVal val="0"/>
                                          </p:val>
                                        </p:tav>
                                        <p:tav tm="100000">
                                          <p:val>
                                            <p:strVal val="#ppt_w"/>
                                          </p:val>
                                        </p:tav>
                                      </p:tavLst>
                                    </p:anim>
                                    <p:anim calcmode="lin" valueType="num">
                                      <p:cBhvr additive="repl">
                                        <p:cTn id="13" dur="500" fill="hold"/>
                                        <p:tgtEl>
                                          <p:spTgt spid="46"/>
                                        </p:tgtEl>
                                        <p:attrNameLst>
                                          <p:attrName>ppt_h</p:attrName>
                                        </p:attrNameLst>
                                      </p:cBhvr>
                                      <p:tavLst>
                                        <p:tav tm="0">
                                          <p:val>
                                            <p:strVal val="0"/>
                                          </p:val>
                                        </p:tav>
                                        <p:tav tm="100000">
                                          <p:val>
                                            <p:strVal val="#ppt_h"/>
                                          </p:val>
                                        </p:tav>
                                      </p:tavLst>
                                    </p:anim>
                                    <p:animEffect filter="fade" transition="in">
                                      <p:cBhvr additive="repl">
                                        <p:cTn id="1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0" y="83664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9°</a:t>
            </a:r>
            <a:r>
              <a:rPr b="0" lang="es-ES" sz="2000" spc="-1" strike="noStrike">
                <a:solidFill>
                  <a:srgbClr val="000000"/>
                </a:solidFill>
                <a:latin typeface="Century"/>
              </a:rPr>
              <a:t>	</a:t>
            </a:r>
            <a:r>
              <a:rPr b="0" lang="es-ES" sz="2000" spc="-1" strike="noStrike">
                <a:solidFill>
                  <a:srgbClr val="000000"/>
                </a:solidFill>
                <a:latin typeface="Century"/>
              </a:rPr>
              <a:t>El Presidente de la República fijará dentro del plazo de seis meses, contados a partir desde la publicación de la presente Ley en el </a:t>
            </a:r>
            <a:r>
              <a:rPr b="1" lang="es-ES" sz="2000" spc="-1" strike="noStrike">
                <a:solidFill>
                  <a:srgbClr val="000000"/>
                </a:solidFill>
                <a:latin typeface="Century"/>
              </a:rPr>
              <a:t>Diario Oficial</a:t>
            </a:r>
            <a:r>
              <a:rPr b="0" lang="es-ES" sz="2000" spc="-1" strike="noStrike">
                <a:solidFill>
                  <a:srgbClr val="000000"/>
                </a:solidFill>
                <a:latin typeface="Century"/>
              </a:rPr>
              <a:t>, la planta y sueldos del personal técnico y administrativo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0°</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or el término de dos años, para invertir hasta la suma de tres millones de pesos, ($3.000.000) en gastos de primera instalación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1°</a:t>
            </a:r>
            <a:r>
              <a:rPr b="0" lang="es-ES" sz="2000" spc="-1" strike="noStrike">
                <a:solidFill>
                  <a:srgbClr val="000000"/>
                </a:solidFill>
                <a:latin typeface="Century"/>
              </a:rPr>
              <a:t>	</a:t>
            </a:r>
            <a:r>
              <a:rPr b="0" lang="es-ES" sz="2000" spc="-1" strike="noStrike">
                <a:solidFill>
                  <a:srgbClr val="000000"/>
                </a:solidFill>
                <a:latin typeface="Century"/>
              </a:rPr>
              <a:t>Los fondos que el Presupuesto Ordinario de la Nación fija para sueldos y gastos del Departamento de Programas del Servicio Nacional de Radio-difusión, serán puestos anualmente a disposición del Rector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2°</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ara que dicte los reglamentos de la presente Ley.</a:t>
            </a:r>
            <a:endParaRPr b="0" lang="en-US" sz="20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
          <p:cNvSpPr/>
          <p:nvPr/>
        </p:nvSpPr>
        <p:spPr>
          <a:xfrm>
            <a:off x="0" y="47628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a:rPr>
              <a:t>Decreto con Fuerza de Ley 244, aprueba Ley General de Servicios Eléctricos (30/05/193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Art. 1 Están comprendidas en las disposiciones de la presente 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g) Las concesiones para el establecimiento de líneas de transporte de energía eléct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h) Las concesiones para el establecimiento de centrales y líneas te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 </a:t>
            </a:r>
            <a:r>
              <a:rPr b="0" lang="es-ES" sz="1800" spc="-1" strike="noStrike">
                <a:solidFill>
                  <a:srgbClr val="000000"/>
                </a:solidFill>
                <a:latin typeface="Century"/>
              </a:rPr>
              <a:t>i) Las concesiones para el establecimiento de oficinas y líneas telegráficas y cab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j) Las concesiones para el establecimiento de estaciones de radiocomunic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k) Las concesiones para hacer el servicio público con las instalaciones mencionadas en g), h), i) y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l) Los permisos para el cruce de calles y caminos con conductores destinados al servicio pr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m) Los permisos para el establecimiento de radiocomunicaciones de experimentación y de aficion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o) El estudio de obras hidráulicas, centrales eléctricas, líneas de transporte y distribución, líneas telegráficas y telefónicas y estaciones de radiocomunicaciones destinadas a servicios del Estado y que determine el Presidente de la República</a:t>
            </a:r>
            <a:endParaRPr b="0" lang="en-US" sz="1800" spc="-1" strike="noStrike">
              <a:solidFill>
                <a:srgbClr val="000000"/>
              </a:solidFill>
              <a:latin typeface="Arial"/>
            </a:endParaRPr>
          </a:p>
        </p:txBody>
      </p:sp>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0" y="836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2 Las concesiones que se enumeran en las letras a), b), c), d), e), f), g), h), i), j), y n) del art. 1, podrán estar destinadas a hacer servicio público o priv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3 Es servicio público eléctrico la distribución de energía para alumbrado y usos industriales de poblaciones, la comunicación telegráfica entre poblaciones, la comunicación telefónica entre y dentro de poblaciones, la radiocomunicación entre poblaciones y la radiodifus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4 Es servicio privado la distribución de energía para usos industriales y la comunicación telegráfica, telefónica o inalámbrica ara uso exclusivo de los consumidores y suscriptores enumerados en la concesión.</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a:rPr>
              <a:t>Art. 7 La aplicación de la presente Ley corresponderá al Ministerio del Interior.</a:t>
            </a:r>
            <a:endParaRPr b="0" lang="en-US" sz="4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0:36:56Z</dcterms:created>
  <dc:creator>Lucas Sierra</dc:creator>
  <dc:description/>
  <dc:language>en-US</dc:language>
  <cp:lastModifiedBy>Lucas Sierra</cp:lastModifiedBy>
  <dcterms:modified xsi:type="dcterms:W3CDTF">2004-09-21T00:31:33Z</dcterms:modified>
  <cp:revision>11</cp:revision>
  <dc:subject/>
  <dc:title>Diapositiva 1</dc:title>
</cp:coreProperties>
</file>