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A261B-41BE-484A-B85C-42498F788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2845E-EE77-4FAE-8541-3492F2BF9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A0CA1-E9EB-40FD-AC63-91FFEAEA6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47146-4801-4AE3-A0EA-48810F258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856F7-7D9B-4F1A-BA12-7BB3F2967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31739-9BF6-43CD-86EF-2F455F074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9045E-C24E-4D25-8BE2-D49A44CA0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9EDDD-24E5-4A4A-9A6C-B1DD8CC10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19309-65AB-491D-8183-B590D4E2F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BA343-8B95-480A-A197-1804280FA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E4006-93FC-4B09-8715-7F507B6B9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FAFE7-9085-4514-8F59-549C17D73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5271-D776-413A-9269-12906C2D2C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4000" y="2205000"/>
            <a:ext cx="8600760" cy="281484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0"/>
            <a:ext cx="9144000" cy="67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entury"/>
                <a:ea typeface="Times New Roman"/>
              </a:rPr>
              <a:t>Posibles temas de investigación para la nota de los controles</a:t>
            </a:r>
            <a:endParaRPr b="0" lang="en-US" sz="20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rreos. Ordenanza de 1794, paso a la República, comparación </a:t>
            </a:r>
            <a:r>
              <a:rPr b="0" i="1" lang="es-ES" sz="1800" spc="-1" strike="noStrike">
                <a:solidFill>
                  <a:srgbClr val="ffff00"/>
                </a:solidFill>
                <a:latin typeface="Century"/>
                <a:ea typeface="Times New Roman"/>
              </a:rPr>
              <a:t>Ley de Correos</a:t>
            </a:r>
            <a:r>
              <a:rPr b="0" lang="es-ES" sz="1800" spc="-1" strike="noStrike">
                <a:solidFill>
                  <a:srgbClr val="ffff00"/>
                </a:solidFill>
                <a:latin typeface="Century"/>
                <a:ea typeface="Times New Roman"/>
              </a:rPr>
              <a:t> de 1858</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Generación de energía eléctrica, historia.  Primeros indicios normativos, comparación telecomunicacione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Visión comparada desarrollo telecomunicaciones eléctricas alámbricas en la región (elegir casos relevantes, BN—caso Perú)</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bertura de prensa en torno a la llegada de los medios eléctric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Actas de la discusión parlamentaria de las normas legislativas vistas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Jurisprudencia y casos asociados a la normativa vista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volución del concepto de concesión, antecedentes y proyección al presente</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entury"/>
                <a:ea typeface="Times New Roman"/>
              </a:rPr>
              <a:t>Historia particularizada de teléfonos (compañías paralelas, regionales, ¿Competencia?, etc.)</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l espectro radioeléctrico. Historia, organización internacional, primeras normas y primeros servici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Quién ha tenido espectro? Fuerzas armadas y espectro radioeléctrico</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Radiodifusión radial, primeras empresas y relaciones con la autoridad</a:t>
            </a: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 name=""/>
          <p:cNvSpPr/>
          <p:nvPr/>
        </p:nvSpPr>
        <p:spPr>
          <a:xfrm>
            <a:off x="0" y="36504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DECRETO CON FUERZA DE LEY NUM. 2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Crea el servicio Nacional de Radiodifusión, dependiente del Ministerio del Interior </a:t>
            </a:r>
            <a:r>
              <a:rPr b="0" lang="es-ES" sz="2000" spc="-1" strike="noStrike">
                <a:solidFill>
                  <a:srgbClr val="000000"/>
                </a:solidFill>
                <a:latin typeface="Century"/>
              </a:rPr>
              <a:t>(30/05/193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1°</a:t>
            </a:r>
            <a:r>
              <a:rPr b="0" lang="es-ES" sz="2000" spc="-1" strike="noStrike">
                <a:solidFill>
                  <a:srgbClr val="000000"/>
                </a:solidFill>
                <a:latin typeface="Century"/>
              </a:rPr>
              <a:t>	</a:t>
            </a:r>
            <a:r>
              <a:rPr b="0" lang="es-ES" sz="2000" spc="-1" strike="noStrike">
                <a:solidFill>
                  <a:srgbClr val="000000"/>
                </a:solidFill>
                <a:latin typeface="Century"/>
              </a:rPr>
              <a:t>Que la radiodifusión al contribuir poderosamente a la elevación del nivel cultural del pueblo, facilitando los medios para difundir los conocimientos humanos, tiene señalada en el futuro una importante función educativa al mismo tiempo recrea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2°</a:t>
            </a:r>
            <a:r>
              <a:rPr b="0" lang="es-ES" sz="2000" spc="-1" strike="noStrike">
                <a:solidFill>
                  <a:srgbClr val="000000"/>
                </a:solidFill>
                <a:latin typeface="Century"/>
              </a:rPr>
              <a:t>	</a:t>
            </a:r>
            <a:r>
              <a:rPr b="0" lang="es-ES" sz="2000" spc="-1" strike="noStrike">
                <a:solidFill>
                  <a:srgbClr val="000000"/>
                </a:solidFill>
                <a:latin typeface="Century"/>
              </a:rPr>
              <a:t>Que constituye también uno de los elementos más eficaces y seguros de propaganda, en razón de que puede llevar a todos los confines del territorio, en un radio más extenso que el abarcado por la prensa diaria, la noticia de los grandes acontecimientos de la vida universal o de los progresos alcanzados por las artes y las ciencias, la industria y el comerc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3°</a:t>
            </a:r>
            <a:r>
              <a:rPr b="0" lang="es-ES" sz="2000" spc="-1" strike="noStrike">
                <a:solidFill>
                  <a:srgbClr val="000000"/>
                </a:solidFill>
                <a:latin typeface="Century"/>
              </a:rPr>
              <a:t>	</a:t>
            </a:r>
            <a:r>
              <a:rPr b="0" lang="es-ES" sz="2000" spc="-1" strike="noStrike">
                <a:solidFill>
                  <a:srgbClr val="000000"/>
                </a:solidFill>
                <a:latin typeface="Century"/>
              </a:rPr>
              <a:t>Que la instalación por el Estado de una gran Estación Radio Transmisora, secundada por estaciones radio-receptoras diseminadas a lo largo del territorio nacional llenan y satisfacen ampliamente éstos y otros fines de interés público; </a:t>
            </a:r>
            <a:endParaRPr b="0" lang="en-US" sz="2000" spc="-1" strike="noStrike">
              <a:solidFill>
                <a:srgbClr val="000000"/>
              </a:solidFill>
              <a:latin typeface="Arial"/>
            </a:endParaRPr>
          </a:p>
        </p:txBody>
      </p:sp>
    </p:spTree>
  </p:cSld>
  <p:transition spd="slow">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
          <p:cNvSpPr/>
          <p:nvPr/>
        </p:nvSpPr>
        <p:spPr>
          <a:xfrm>
            <a:off x="0" y="333360"/>
            <a:ext cx="9144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1°</a:t>
            </a:r>
            <a:r>
              <a:rPr b="0" lang="es-ES" sz="2800" spc="-1" strike="noStrike">
                <a:solidFill>
                  <a:srgbClr val="000000"/>
                </a:solidFill>
                <a:latin typeface="Century"/>
              </a:rPr>
              <a:t>	</a:t>
            </a:r>
            <a:r>
              <a:rPr b="0" lang="es-ES" sz="2800" spc="-1" strike="noStrike">
                <a:solidFill>
                  <a:srgbClr val="000000"/>
                </a:solidFill>
                <a:latin typeface="Century"/>
              </a:rPr>
              <a:t>Créase, dependiente del Ministerio del Interior, el Servicio Nacional de Radiodifusión, que tendrá por objeto proporcionar por el Estado, transmisiones audibles en todo el territorio de la República, destinadas a la información, educación, elevación de la cultura y otras que se estimen necesarias o de interé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3°</a:t>
            </a:r>
            <a:r>
              <a:rPr b="0" lang="es-ES" sz="2800" spc="-1" strike="noStrike">
                <a:solidFill>
                  <a:srgbClr val="000000"/>
                </a:solidFill>
                <a:latin typeface="Century"/>
              </a:rPr>
              <a:t>	</a:t>
            </a:r>
            <a:r>
              <a:rPr b="0" lang="es-ES" sz="2800" spc="-1" strike="noStrike">
                <a:solidFill>
                  <a:srgbClr val="000000"/>
                </a:solidFill>
                <a:latin typeface="Century"/>
              </a:rPr>
              <a:t>La mantención, explotación, conservación y manejo de las estaciones de radio-transmisión estará a cargo de la Dirección General de Servicios Eléctricos, la que tendrá también la supervigilancia de los demás radio-equipos del Servicio Nacional de Radiodifusión, como son las estaciones receptoras.</a:t>
            </a:r>
            <a:endParaRPr b="0" lang="en-US" sz="2800" spc="-1" strike="noStrike">
              <a:solidFill>
                <a:srgbClr val="000000"/>
              </a:solidFill>
              <a:latin typeface="Arial"/>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
          <p:cNvSpPr/>
          <p:nvPr/>
        </p:nvSpPr>
        <p:spPr>
          <a:xfrm>
            <a:off x="0" y="549360"/>
            <a:ext cx="914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4°</a:t>
            </a:r>
            <a:r>
              <a:rPr b="0" lang="en-US" sz="2000" spc="-1" strike="noStrike">
                <a:solidFill>
                  <a:srgbClr val="000000"/>
                </a:solidFill>
                <a:latin typeface="Century"/>
              </a:rPr>
              <a:t>	</a:t>
            </a:r>
            <a:r>
              <a:rPr b="0" lang="en-US" sz="2000" spc="-1" strike="noStrike">
                <a:solidFill>
                  <a:srgbClr val="000000"/>
                </a:solidFill>
                <a:latin typeface="Century"/>
              </a:rPr>
              <a:t>Los programas que se transmitan por las estaciones del Servicio Nacional de Radiodifusión, serán confeccionados por el Departamento de Programas del Servicio, que funcionará anexo al Departamento de Extensión Cultural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ichos programas se confeccionarán de acuerdo con las directivas que establezca al efecto un Consejo que se compond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Director del Departamento de Extensión Cultural de la Universidad de Chile, que lo será también del Departamento de Programas del Servicio de Radiodifusión, que lo presidi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Subsecretario del Ministerio del Interi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	</a:t>
            </a:r>
            <a:r>
              <a:rPr b="0" lang="en-US" sz="2000" spc="-1" strike="noStrike">
                <a:solidFill>
                  <a:srgbClr val="000000"/>
                </a:solidFill>
                <a:latin typeface="Century"/>
              </a:rPr>
              <a:t>Del Director General de Servicios Eléctri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Generales de Educación Primaria y Secunda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del Conservatorio Nacional de Música, y de las Biblioteca Nacional; 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seis miembros, funcionarios públicos, designados directamente por el Presidente de la República.</a:t>
            </a:r>
            <a:endParaRPr b="0" lang="en-US" sz="2000" spc="-1" strike="noStrike">
              <a:solidFill>
                <a:srgbClr val="000000"/>
              </a:solidFill>
              <a:latin typeface="Arial"/>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
          <p:cNvSpPr/>
          <p:nvPr/>
        </p:nvSpPr>
        <p:spPr>
          <a:xfrm>
            <a:off x="0" y="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5°</a:t>
            </a:r>
            <a:r>
              <a:rPr b="0" lang="en-US" sz="2000" spc="-1" strike="noStrike">
                <a:solidFill>
                  <a:srgbClr val="000000"/>
                </a:solidFill>
                <a:latin typeface="Century"/>
              </a:rPr>
              <a:t>	</a:t>
            </a:r>
            <a:r>
              <a:rPr b="0" lang="en-US" sz="2000" spc="-1" strike="noStrike">
                <a:solidFill>
                  <a:srgbClr val="000000"/>
                </a:solidFill>
                <a:latin typeface="Century"/>
              </a:rPr>
              <a:t>El Ministerio del Interior podrá en cualquier momento suspender o modificar todo programa o transmisión, cualquiera que fuera su naturaleza, si así lo estimare por conveniente para el orden y la seguridad públ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6°</a:t>
            </a:r>
            <a:r>
              <a:rPr b="0" lang="en-US" sz="2000" spc="-1" strike="noStrike">
                <a:solidFill>
                  <a:srgbClr val="000000"/>
                </a:solidFill>
                <a:latin typeface="Century"/>
              </a:rPr>
              <a:t>	</a:t>
            </a:r>
            <a:r>
              <a:rPr b="0" lang="en-US" sz="2000" spc="-1" strike="noStrike">
                <a:solidFill>
                  <a:srgbClr val="000000"/>
                </a:solidFill>
                <a:latin typeface="Century"/>
              </a:rPr>
              <a:t>Los Reglamentos que para la aplicación de esta Ley dicte el Presidente de la República, determinarán los Establecimientos, Empresas, Instituciones, Corporaciones y personas naturales o jurídicas que deberán instalar y mantener puesto públicos de recepción, como asimismo las normas para su instalación y funcionamiento </a:t>
            </a:r>
            <a:endParaRPr b="0" lang="en-US" sz="2000" spc="-1" strike="noStrike">
              <a:solidFill>
                <a:srgbClr val="000000"/>
              </a:solidFill>
              <a:latin typeface="Arial"/>
            </a:endParaRPr>
          </a:p>
        </p:txBody>
      </p:sp>
      <p:sp>
        <p:nvSpPr>
          <p:cNvPr id="46" name=""/>
          <p:cNvSpPr/>
          <p:nvPr/>
        </p:nvSpPr>
        <p:spPr>
          <a:xfrm>
            <a:off x="0" y="3357720"/>
            <a:ext cx="9144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7°</a:t>
            </a:r>
            <a:r>
              <a:rPr b="0" lang="en-US" sz="2000" spc="-1" strike="noStrike">
                <a:solidFill>
                  <a:srgbClr val="000000"/>
                </a:solidFill>
                <a:latin typeface="Century"/>
              </a:rPr>
              <a:t>	</a:t>
            </a:r>
            <a:r>
              <a:rPr b="0" lang="en-US" sz="2000" spc="-1" strike="noStrike">
                <a:solidFill>
                  <a:srgbClr val="000000"/>
                </a:solidFill>
                <a:latin typeface="Century"/>
              </a:rPr>
              <a:t>Se establece un impuesto sobre la venta de equipos, artefactos, artículos y demás elementos de cualquiera naturaleza que se empleen en instalaciones de radio, equivalente al 10 por siento del precio de ven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La percepción de este impuesto se hará efectiva por medio de fajas o estampillas especiales que indicarán el precio máximo en que puede ser vendida la mercadería.  Este impuesto regirá desde el primero de Enero de 193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8°</a:t>
            </a:r>
            <a:r>
              <a:rPr b="0" lang="en-US" sz="2000" spc="-1" strike="noStrike">
                <a:solidFill>
                  <a:srgbClr val="000000"/>
                </a:solidFill>
                <a:latin typeface="Century"/>
              </a:rPr>
              <a:t>	</a:t>
            </a:r>
            <a:r>
              <a:rPr b="0" lang="en-US" sz="2000" spc="-1" strike="noStrike">
                <a:solidFill>
                  <a:srgbClr val="000000"/>
                </a:solidFill>
                <a:latin typeface="Century"/>
              </a:rPr>
              <a:t>Los fabricante, importadores, representantes y, en general, toda persona que comercie en cualesquiera de los artículos gravados por la presente Ley, deberán inscribirse en la Dirección General de Impuestos Internos.</a:t>
            </a:r>
            <a:endParaRPr b="0" lang="en-US" sz="2000" spc="-1" strike="noStrike">
              <a:solidFill>
                <a:srgbClr val="000000"/>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5"/>
                                        </p:tgtEl>
                                        <p:attrNameLst>
                                          <p:attrName>style.visibility</p:attrName>
                                        </p:attrNameLst>
                                      </p:cBhvr>
                                      <p:to>
                                        <p:strVal val="visible"/>
                                      </p:to>
                                    </p:set>
                                    <p:animEffect filter="diamond(in)" transition="in">
                                      <p:cBhvr additive="repl">
                                        <p:cTn id="7" dur="20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6"/>
                                        </p:tgtEl>
                                        <p:attrNameLst>
                                          <p:attrName>style.visibility</p:attrName>
                                        </p:attrNameLst>
                                      </p:cBhvr>
                                      <p:to>
                                        <p:strVal val="visible"/>
                                      </p:to>
                                    </p:set>
                                    <p:anim calcmode="lin" valueType="num">
                                      <p:cBhvr additive="repl">
                                        <p:cTn id="12" dur="1000" fill="hold"/>
                                        <p:tgtEl>
                                          <p:spTgt spid="46"/>
                                        </p:tgtEl>
                                        <p:attrNameLst>
                                          <p:attrName>ppt_w</p:attrName>
                                        </p:attrNameLst>
                                      </p:cBhvr>
                                      <p:tavLst>
                                        <p:tav tm="0">
                                          <p:val>
                                            <p:strVal val="0"/>
                                          </p:val>
                                        </p:tav>
                                        <p:tav tm="100000">
                                          <p:val>
                                            <p:strVal val="#ppt_w"/>
                                          </p:val>
                                        </p:tav>
                                      </p:tavLst>
                                    </p:anim>
                                    <p:anim calcmode="lin" valueType="num">
                                      <p:cBhvr additive="repl">
                                        <p:cTn id="13" dur="1000" fill="hold"/>
                                        <p:tgtEl>
                                          <p:spTgt spid="46"/>
                                        </p:tgtEl>
                                        <p:attrNameLst>
                                          <p:attrName>ppt_h</p:attrName>
                                        </p:attrNameLst>
                                      </p:cBhvr>
                                      <p:tavLst>
                                        <p:tav tm="0">
                                          <p:val>
                                            <p:strVal val="0"/>
                                          </p:val>
                                        </p:tav>
                                        <p:tav tm="100000">
                                          <p:val>
                                            <p:strVal val="#ppt_h"/>
                                          </p:val>
                                        </p:tav>
                                      </p:tavLst>
                                    </p:anim>
                                    <p:anim calcmode="lin" valueType="num">
                                      <p:cBhvr additive="repl">
                                        <p:cTn id="14" dur="1000" fill="hold"/>
                                        <p:tgtEl>
                                          <p:spTgt spid="46"/>
                                        </p:tgtEl>
                                        <p:attrNameLst>
                                          <p:attrName>ppt_x</p:attrName>
                                        </p:attrNameLst>
                                      </p:cBhvr>
                                      <p:tavLst>
                                        <p:tav fmla="x+(cos(-2*pi*(1-$))*-x-sin(-2*pi*(1-$))*(1-y))*(1-$)" tm="0">
                                          <p:val>
                                            <p:strVal val="0"/>
                                          </p:val>
                                        </p:tav>
                                        <p:tav fmla="x+(cos(-2*pi*(1-$))*-x-sin(-2*pi*(1-$))*(1-y))*(1-$)" tm="100000">
                                          <p:val>
                                            <p:strVal val="1"/>
                                          </p:val>
                                        </p:tav>
                                      </p:tavLst>
                                    </p:anim>
                                    <p:anim calcmode="lin" valueType="num">
                                      <p:cBhvr additive="repl">
                                        <p:cTn id="15" dur="1000" fill="hold"/>
                                        <p:tgtEl>
                                          <p:spTgt spid="4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
          <p:cNvSpPr/>
          <p:nvPr/>
        </p:nvSpPr>
        <p:spPr>
          <a:xfrm>
            <a:off x="0" y="836640"/>
            <a:ext cx="9144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9°</a:t>
            </a:r>
            <a:r>
              <a:rPr b="0" lang="es-ES" sz="2000" spc="-1" strike="noStrike">
                <a:solidFill>
                  <a:srgbClr val="000000"/>
                </a:solidFill>
                <a:latin typeface="Century"/>
              </a:rPr>
              <a:t>	</a:t>
            </a:r>
            <a:r>
              <a:rPr b="0" lang="es-ES" sz="2000" spc="-1" strike="noStrike">
                <a:solidFill>
                  <a:srgbClr val="000000"/>
                </a:solidFill>
                <a:latin typeface="Century"/>
              </a:rPr>
              <a:t>El Presidente de la República fijará dentro del plazo de seis meses, contados a partir desde la publicación de la presente Ley en el </a:t>
            </a:r>
            <a:r>
              <a:rPr b="1" lang="es-ES" sz="2000" spc="-1" strike="noStrike">
                <a:solidFill>
                  <a:srgbClr val="000000"/>
                </a:solidFill>
                <a:latin typeface="Century"/>
              </a:rPr>
              <a:t>Diario Oficial</a:t>
            </a:r>
            <a:r>
              <a:rPr b="0" lang="es-ES" sz="2000" spc="-1" strike="noStrike">
                <a:solidFill>
                  <a:srgbClr val="000000"/>
                </a:solidFill>
                <a:latin typeface="Century"/>
              </a:rPr>
              <a:t>, la planta y sueldos del personal técnico y administrativo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0°</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or el término de dos años, para invertir hasta la suma de tres millones de pesos, ($3.000.000) en gastos de primera instalación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1°</a:t>
            </a:r>
            <a:r>
              <a:rPr b="0" lang="es-ES" sz="2000" spc="-1" strike="noStrike">
                <a:solidFill>
                  <a:srgbClr val="000000"/>
                </a:solidFill>
                <a:latin typeface="Century"/>
              </a:rPr>
              <a:t>	</a:t>
            </a:r>
            <a:r>
              <a:rPr b="0" lang="es-ES" sz="2000" spc="-1" strike="noStrike">
                <a:solidFill>
                  <a:srgbClr val="000000"/>
                </a:solidFill>
                <a:latin typeface="Century"/>
              </a:rPr>
              <a:t>Los fondos que el Presupuesto Ordinario de la Nación fija para sueldos y gastos del Departamento de Programas del Servicio Nacional de Radio-difusión, serán puestos anualmente a disposición del Rector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2°</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ara que dicte los reglamentos de la presente Ley.</a:t>
            </a:r>
            <a:endParaRPr b="0" lang="en-US" sz="20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
          <p:cNvSpPr/>
          <p:nvPr/>
        </p:nvSpPr>
        <p:spPr>
          <a:xfrm>
            <a:off x="0" y="476280"/>
            <a:ext cx="914400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a:rPr>
              <a:t>Decreto con Fuerza de Ley 244, aprueba Ley General de Servicios Eléctricos (30/05/193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Art. 1 Están comprendidas en las disposiciones de la presente L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g) Las concesiones para el establecimiento de líneas de transporte de energía eléctr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h) Las concesiones para el establecimiento de centrales y líneas te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 </a:t>
            </a:r>
            <a:r>
              <a:rPr b="0" lang="es-ES" sz="1800" spc="-1" strike="noStrike">
                <a:solidFill>
                  <a:srgbClr val="000000"/>
                </a:solidFill>
                <a:latin typeface="Century"/>
              </a:rPr>
              <a:t>i) Las concesiones para el establecimiento de oficinas y líneas telegráficas y cab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j) Las concesiones para el establecimiento de estaciones de radiocomunica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k) Las concesiones para hacer el servicio público con las instalaciones mencionadas en g), h), i) y 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l) Los permisos para el cruce de calles y caminos con conductores destinados al servicio pr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m) Los permisos para el establecimiento de radiocomunicaciones de experimentación y de aficion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o) El estudio de obras hidráulicas, centrales eléctricas, líneas de transporte y distribución, líneas telegráficas y telefónicas y estaciones de radiocomunicaciones destinadas a servicios del Estado y que determine el Presidente de la República</a:t>
            </a:r>
            <a:endParaRPr b="0" lang="en-US" sz="1800" spc="-1" strike="noStrike">
              <a:solidFill>
                <a:srgbClr val="000000"/>
              </a:solidFill>
              <a:latin typeface="Arial"/>
            </a:endParaRPr>
          </a:p>
        </p:txBody>
      </p:sp>
    </p:spTree>
  </p:cSld>
  <p:transition spd="slow">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0" y="836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2 Las concesiones que se enumeran en las letras a), b), c), d), e), f), g), h), i), j), y n) del art. 1, podrán estar destinadas a hacer servicio público o priv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3 Es servicio público eléctrico la distribución de energía para alumbrado y usos industriales de poblaciones, la comunicación telegráfica entre poblaciones, la comunicación telefónica entre y dentro de poblaciones, la radiocomunicación entre poblaciones y la radiodifus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4 Es servicio privado la distribución de energía para usos industriales y la comunicación telegráfica, telefónica o inalámbrica ara uso exclusivo de los consumidores y suscriptores enumerados en la concesión.</a:t>
            </a: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0" y="2133720"/>
            <a:ext cx="914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a:rPr>
              <a:t>Art. 7 La aplicación de la presente Ley corresponderá al Ministerio del Interior.</a:t>
            </a:r>
            <a:endParaRPr b="0" lang="en-US" sz="44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0:36:56Z</dcterms:created>
  <dc:creator>Lucas Sierra</dc:creator>
  <dc:description/>
  <dc:language>en-US</dc:language>
  <cp:lastModifiedBy>Lucas Sierra</cp:lastModifiedBy>
  <dcterms:modified xsi:type="dcterms:W3CDTF">2004-09-21T00:31:33Z</dcterms:modified>
  <cp:revision>11</cp:revision>
  <dc:subject/>
  <dc:title>Diapositiva 1</dc:title>
</cp:coreProperties>
</file>