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1E08-BE59-4B82-8D38-775B8120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EB9-EBAB-4007-8AC2-8CC4EFB6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C18-07C2-4EFE-B262-35779800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76D3-FC85-4253-9FF5-319DBBDC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480-2F34-45B2-8F31-F65F663A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4D9-60BE-47D7-9DEC-74E9A427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851-9ACA-4F0F-AB0E-45D57031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790B-E32F-48AB-AA6A-ADEB68F0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61B7-DCB4-47D4-B2AD-1BDD5DD0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6DA4-8F57-4771-9C8C-0F97EC24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8FDF-3FD9-4558-AFB9-1A508DA3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3D2C-6286-469E-8D9C-9AF35149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C94F-4341-481C-8AA6-3E8DFDF97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Art. 38 Las estaciones de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Book Antiqua"/>
              </a:rPr>
              <a:t>radio-trasmision</a:t>
            </a: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 se clasificarán en las siguientes categorí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Book Antiqua"/>
              </a:rPr>
              <a:t>a)</a:t>
            </a:r>
            <a:r>
              <a:rPr b="1" lang="es-ES" sz="1800" spc="-1" strike="noStrike">
                <a:solidFill>
                  <a:srgbClr val="ffff00"/>
                </a:solidFill>
                <a:latin typeface="Book Antiqua"/>
              </a:rPr>
              <a:t>Estaciones comerciales internacionales </a:t>
            </a: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que tengan por objeto el servicio público de radio-comunicaciones con el esteri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Book Antiqua"/>
              </a:rPr>
              <a:t>b)</a:t>
            </a:r>
            <a:r>
              <a:rPr b="1" lang="es-ES" sz="1800" spc="-1" strike="noStrike">
                <a:solidFill>
                  <a:srgbClr val="ffff00"/>
                </a:solidFill>
                <a:latin typeface="Book Antiqua"/>
              </a:rPr>
              <a:t>Estaciones de servicio privado</a:t>
            </a: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, que tengan por objeto asegurara la inter-comunicación entre dos puntos del territorio de la República o entre centrales y sub-estaciones de empresas productoras o distribuidoras de enerjí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Estas estaciones podrán efectuar servicio público remunerado, prévia autorizacion del Presidente de la República, con informe favorable de la Direccion, cuando no exista servicio fiscal entre los puntos a que se refiere el inciso a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Book Antiqua"/>
              </a:rPr>
              <a:t>c)</a:t>
            </a:r>
            <a:r>
              <a:rPr b="1" lang="es-ES" sz="1800" spc="-1" strike="noStrike">
                <a:solidFill>
                  <a:srgbClr val="ffff00"/>
                </a:solidFill>
                <a:latin typeface="Book Antiqua"/>
              </a:rPr>
              <a:t>Estaciones de radio-difusion</a:t>
            </a: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, que tienen por objeto trasmitir informaciones de órden cultural, recreativo, o de interes jeneral, industrial o comerci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Book Antiqua"/>
              </a:rPr>
              <a:t>d)</a:t>
            </a:r>
            <a:r>
              <a:rPr b="1" lang="es-ES" sz="1800" spc="-1" strike="noStrike">
                <a:solidFill>
                  <a:srgbClr val="ffff00"/>
                </a:solidFill>
                <a:latin typeface="Book Antiqua"/>
              </a:rPr>
              <a:t>Estaciones de esperimentacion</a:t>
            </a: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, que tienen por finalidad el progreso técnico o científico de las radio-comunicacion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Book Antiqua"/>
              </a:rPr>
              <a:t>e)</a:t>
            </a:r>
            <a:r>
              <a:rPr b="1" lang="es-ES" sz="1800" spc="-1" strike="noStrike">
                <a:solidFill>
                  <a:srgbClr val="ffff00"/>
                </a:solidFill>
                <a:latin typeface="Book Antiqua"/>
              </a:rPr>
              <a:t>Estaciones de aficionados</a:t>
            </a: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, que se establecen con fines de estudios o de simple entretenimien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Book Antiqua"/>
              </a:rPr>
              <a:t>f)</a:t>
            </a:r>
            <a:r>
              <a:rPr b="1" lang="es-ES" sz="1800" spc="-1" strike="noStrike">
                <a:solidFill>
                  <a:srgbClr val="ffff00"/>
                </a:solidFill>
                <a:latin typeface="Book Antiqua"/>
              </a:rPr>
              <a:t>Estaciones de servicio fiscal</a:t>
            </a: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, ya sean destinadas al servicio del Estado o a fines educ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189000"/>
            <a:ext cx="878544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TITULO 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 Antiqua"/>
              </a:rPr>
              <a:t>Del Fondo de Servicios Eléct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Book Antiqua"/>
              </a:rPr>
              <a:t>Art. 98 El 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Book Antiqua"/>
              </a:rPr>
              <a:t>Fondo de Servicios Eléctricos</a:t>
            </a:r>
            <a:r>
              <a:rPr b="0" lang="es-ES" sz="2800" spc="-1" strike="noStrike">
                <a:solidFill>
                  <a:srgbClr val="ffff00"/>
                </a:solidFill>
                <a:latin typeface="Book Antiqua"/>
              </a:rPr>
              <a:t> se constituir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Book Antiqua"/>
              </a:rPr>
              <a:t>a) Con las cuotas que deben aportar las empres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Book Antiqua"/>
              </a:rPr>
              <a:t>b) Con el excedente de entradas que obtuvieren las empres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Book Antiqua"/>
              </a:rPr>
              <a:t>c) Con las rentas provenientes de arrendamiento de terrenos fiscales entregados en uso a empresas de servicios eléctr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Book Antiqua"/>
              </a:rPr>
              <a:t>d) Con las multas en que incurrieren las empres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Book Antiqua"/>
              </a:rPr>
              <a:t>g) Con los derechos que se cobrarán por recepción de instalaciones, verificación de medidores, ensayos de materiales eléctrico, carnet de instaladores, de operadores de biógrafos y de electricistas de teatr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93680"/>
            <a:ext cx="9144000" cy="68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Art. 99 El Fondo de Servicios Eléctricos se destinará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A pagar los sueldos y demás gastos de la Dirección y del Consejo y de la inspeccion de las obras de aprovechamiento de las mercedes de agu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b) A subvencionar los gastos de aforo, adquisicion de instrumentos de medid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c) A subvencionar los laboratorios correspondientes de la Escuela de Injeniería para adquirir instrumentos de medidas eléctricas y practicar las verificaciones de los instrumentos de control que necesite la Dire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d) A mantener y subvencionar la enseñanza de electric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e) A auxiliar la construccion de obras suplementarias o la adquisicion de nuevos elementos mediante préstamos a las 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f) A favorecer la constitución de empresas de servicio público por medio de préstamos a los empresarios, siempre que el servicio para el cual se solicite dicho ausilio sea declarado de interes nacional o rejional  por decreto del Presidente de la Repúbl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952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ook Antiqua"/>
              </a:rPr>
              <a:t>Art. 44. Las empresas existentes de servicios eléctricos y las que se establezcan en el futuro, están </a:t>
            </a:r>
            <a:r>
              <a:rPr b="1" lang="es-ES_tradnl" sz="3600" spc="-1" strike="noStrike" u="sng">
                <a:solidFill>
                  <a:srgbClr val="ffff00"/>
                </a:solidFill>
                <a:uFillTx/>
                <a:latin typeface="Book Antiqua"/>
              </a:rPr>
              <a:t>obligadas a permitir el uso de sus postes o torres para el establecimiento de otras líneas aéreas de distintos dueños</a:t>
            </a:r>
            <a:r>
              <a:rPr b="0" lang="es-ES_tradnl" sz="3600" spc="-1" strike="noStrike">
                <a:solidFill>
                  <a:srgbClr val="ffff00"/>
                </a:solidFill>
                <a:latin typeface="Book Antiqua"/>
              </a:rPr>
              <a:t>, siempre que fuere posible, a juicio del Consejo, sin perjuicio irremediable para la línea exist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80880"/>
            <a:ext cx="91440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TITULO 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Book Antiqua"/>
              </a:rPr>
              <a:t>Gravámenes de las empre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Art. 60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Las concesiones provisionales o definitivas solo podrán otorgarse a </a:t>
            </a:r>
            <a:r>
              <a:rPr b="1" lang="es-ES" sz="1600" spc="-1" strike="noStrike" u="sng">
                <a:solidFill>
                  <a:srgbClr val="ffff00"/>
                </a:solidFill>
                <a:uFillTx/>
                <a:latin typeface="Book Antiqua"/>
              </a:rPr>
              <a:t>nacionales o a sociedades organizadas en conformidad a las leyes del pais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, y solo podrán trasferirse a personas o sociedades que cumplan con estas condi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Las empresas de teléfonos pagarán una prima de $ 2 al año por cada aparato telefónico instal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Las empresas de telégrafos pagarán una prima anual de $ 3 por cada kilómetro de cable y de $ 5 por cada kilómetro de línea aérea con cualquier número de hi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Las instalaciones de radio-trasmision pagarán las primas anuales que se indican a continuac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Book Antiqua"/>
              </a:rPr>
              <a:t>a)</a:t>
            </a:r>
            <a:r>
              <a:rPr b="1" lang="es-ES" sz="1600" spc="-1" strike="noStrike">
                <a:solidFill>
                  <a:srgbClr val="ffff00"/>
                </a:solidFill>
                <a:latin typeface="Book Antiqua"/>
              </a:rPr>
              <a:t>Estaciones comerciales internacionales:  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uno por ciento de las entradas brutas con mínimum de quinientos pe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Book Antiqua"/>
              </a:rPr>
              <a:t>b)</a:t>
            </a:r>
            <a:r>
              <a:rPr b="1" lang="es-ES" sz="1600" spc="-1" strike="noStrike">
                <a:solidFill>
                  <a:srgbClr val="ffff00"/>
                </a:solidFill>
                <a:latin typeface="Book Antiqua"/>
              </a:rPr>
              <a:t>Estaciones de servicio privado: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  un peso por watt de potencia en la antena, con mínimum de doscientos pe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Book Antiqua"/>
              </a:rPr>
              <a:t>c)</a:t>
            </a:r>
            <a:r>
              <a:rPr b="1" lang="es-ES" sz="1600" spc="-1" strike="noStrike">
                <a:solidFill>
                  <a:srgbClr val="ffff00"/>
                </a:solidFill>
                <a:latin typeface="Book Antiqua"/>
              </a:rPr>
              <a:t>Estaciones de radio-difusion:  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dos pesos por watt de potencia en la antena, con mínimum de doscientos pe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Book Antiqua"/>
              </a:rPr>
              <a:t>d)</a:t>
            </a:r>
            <a:r>
              <a:rPr b="1" lang="es-ES" sz="1600" spc="-1" strike="noStrike">
                <a:solidFill>
                  <a:srgbClr val="ffff00"/>
                </a:solidFill>
                <a:latin typeface="Book Antiqua"/>
              </a:rPr>
              <a:t>Estaciones de esperimentacion: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  cien pe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Book Antiqua"/>
              </a:rPr>
              <a:t>e)</a:t>
            </a:r>
            <a:r>
              <a:rPr b="1" lang="es-ES" sz="1600" spc="-1" strike="noStrike">
                <a:solidFill>
                  <a:srgbClr val="ffff00"/>
                </a:solidFill>
                <a:latin typeface="Book Antiqua"/>
              </a:rPr>
              <a:t>Estaciones de aficionados:  </a:t>
            </a:r>
            <a:r>
              <a:rPr b="0" lang="es-ES" sz="1600" spc="-1" strike="noStrike">
                <a:solidFill>
                  <a:srgbClr val="ffff00"/>
                </a:solidFill>
                <a:latin typeface="Book Antiqua"/>
              </a:rPr>
              <a:t>veinte pe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33520"/>
            <a:ext cx="914400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TITUL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Esplotacion de los servicios eléc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Art. 72</a:t>
            </a: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Las empresas de servicios eléctricos solo podrán cobrar por sus servicios los precios que resulten de tarifas y condiciones de aplicación autorizados por Cons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Si una empresa cobrase por sus servicios un precio inferior al que le corresponde segun  las tarifas legalmente establecidas, el Consejo podrá ordenar que se continúe aplicando las misma reduccion a favor de todos los servicios de la misma categoría.  Esta reduccion no podrá suprimirse con las formalidades establecidas para las modificaciones de tarif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80880"/>
            <a:ext cx="8686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TITULO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De la supervijilancia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CAPITULO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De la inspeccion de servicios eléctricos Capítulo I.-  De la inspeccion de servicios eléc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Art. 84</a:t>
            </a: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Book Antiqua"/>
              </a:rPr>
              <a:t>La inspeccion y supervijilancia de la construccion y esplotacion de toda clase de empresas de servicios eléctricos</a:t>
            </a: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 establecidos o que se establezcan en el futuro será ejércida por una "Direccion de Servicios Eléctricos", que 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Book Antiqua"/>
              </a:rPr>
              <a:t>dependerá del Ministerio de Obras y Vías Públ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557360"/>
            <a:ext cx="820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Book Antiqua"/>
              </a:rPr>
              <a:t>Art. 85 El injeniero director será nombrado por el Presidente de la Repúblic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Book Antiqua"/>
              </a:rPr>
              <a:t>El demas personal será nombrado, así mismo, por el Presidente de la República, a propuesta del dir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02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Art. 88 Corresponde a la Dirección ejercer las atribuciones que le confiere la presente lei, y particularm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1. Velar por el cumplimiento de las leyes vijentes… sobre instalaciones y servicios eléctricos, como asimismo, de sus reglamentos respectiv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4. Autorizar el empleo de materiales eléctricos, controlar las instalaciones privadas y otorgar los permisos para ejercer las funciones de instaladores eléctricos, operadores de biógrafos y electricistas de teat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5. Dictaminar sobre las solicitudes de concesión de servicios eléctricos, con excepción de las mercedes de agua, sobre las cuales corresponderá informar  la Dirección de Obras Pública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9. Dictaminar sobre las solicitudes relativas a tarifas y sus condiciones de aplicacion…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12. Atender las consultas del público y resolver los reclamos que se formulen contra las empresas, en cuanto se relacionen con el cumplimiento de las leyes y reglamentos en vijencia; (relación art. 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13. Imponer a las empresas o concesionarios las multas autorizadas por esta lei y hacerlas efectivas por la via de apremio, no pudiendo los jueces conceder apelaciones cuando proceden, sino en el efecto devolutiv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14. Supervijilar el cumplimiento de las normas de contabilidad uniforme que dicte el Presidente de la Repúbl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16. Cooperar con los organismos creados por leyes especiales a la solución de conflictos entre las empresas y sus empleados sobre salarios horas de trabajo o condiciones del m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90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CAPITULO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Del Consejo de Servicios Eléc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Art. 93 Se crea un Consejo de Servicios Eléctricos, que se compondrá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a) Del ingeniero Director de Servicios Eléctr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b) De tres injenieros, debiendo elegirse uno de ellos entre el personal de la Dirección de Obras Públ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c) De cinco delegados de las Empresas de Servicios Eléctricos, elegidos como sigue: dos en representación de las Empresas de alumbrado y traccion; otro de las Empresas de teléfonos y telégrafos, el cuarto, de las Empresas comerciales de radio-comunicación y el quinto de las Empresas de radio-difusion y de aficion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d) De un miembro del servicio de radiotelegrafía de la Armad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e) De un miembro de la Brigada de Comunicaciones del Ejérci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f) De un miembro del servicio de telégrafos del Esta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g) De los profesores de fuerza motriz, de electrotecnia, de comunicaciones eléctricas y de máquinas de la Escuela de Ingeniería de la 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El Ministro de Obras Públicas presidirá las reuniones del Consejo cuando asistiera a ella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Book Antiqua"/>
              </a:rPr>
              <a:t>Los miembros del Consejo serán nombrados por el Presidente de la República, a propuesta en terna de las Empresas o sociedades respectivas… y directamente el Presidente cuando se trate del r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20640"/>
            <a:ext cx="91440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Art. 97 Corresponde al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Book Antiqua"/>
              </a:rPr>
              <a:t>Consejo de Servicios Eléctricos</a:t>
            </a: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 ejercer las atribuciones que le confiere la presente lei, y particular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Intervenir en la fijación de las tarifas para lo cual resolverá las solicitudes de las empresas sobre el particular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2. Administrar el Fondo de Servicios Eléctric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3. Resolver las dificultades que se produzcan entre las empresas con motivo de la aplicación de esta lei en todas las cuestiones relacionadas con el servicio en comun o simplemente conec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4. Resolver los reclamos que pudieran formular las empresas o el público acerca de las resoluciones de la Direccion;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Book Antiqua"/>
              </a:rPr>
              <a:t>5. Informar sobre todas las cuestiones relacionadas con los servicios eléctricos que el Gobierno acuerde someter a su estu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00:22:09Z</dcterms:created>
  <dc:creator>Lucas Sierra</dc:creator>
  <dc:description/>
  <dc:language>en-US</dc:language>
  <cp:lastModifiedBy>Centro Estudios Publicos</cp:lastModifiedBy>
  <dcterms:modified xsi:type="dcterms:W3CDTF">2004-09-15T19:43:20Z</dcterms:modified>
  <cp:revision>8</cp:revision>
  <dc:subject/>
  <dc:title>Diapositiva 1</dc:title>
</cp:coreProperties>
</file>