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568-88EA-47B0-98C4-6E87DD22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1B-D242-48E2-B148-EB00BDD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0C1-4BC8-4EBD-8919-B4FEC70D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C6E-1CCE-4FAA-9F8E-60BBB05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702-5976-48FD-83FB-8F3F981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EB4-3F1E-44E8-94C7-E9E6FCEF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E1A-2247-4E3F-A4A0-DCF976B1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113-8FFB-4654-B827-BD56246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694-73CD-428A-A66A-B31E86DE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0CC-AE66-4561-9863-F7D6B195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5DA-F53F-453E-8A9D-C6C8B1C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164-9CB1-4487-B66E-93F2FBE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503A-126B-47B8-97CF-3A5807C1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38 Las estaciones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Book Antiqua"/>
              </a:rPr>
              <a:t>radio-trasmi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 se clasificarán en las siguientes categor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comerciales internacionales 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que tengan por objeto el servicio público de radio-comunicaciones con el esteri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privado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engan por objeto asegurara la inter-comunicación entre dos puntos del territorio de la República o entre centrales y sub-estaciones de empresas productoras o distribuidoras de enerjí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stas estaciones podrán efectuar servicio público remunerado, prévia autorizacion del Presidente de la República, con informe favorable de la Direccion, cuando no exista servicio fiscal entre los puntos a que se refiere el incis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radio-difu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objeto trasmitir informaciones de órden cultural, recreativo, o de interes jeneral, industrial o comer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esperimentac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finalidad el progreso técnico o científico de las radio-comunica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aficionados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se establecen con fines de estudios o de simple entreteni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f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fiscal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ya sean destinadas al servicio del Estado o a fines educ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85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TITULO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Del Fondo de Servicios 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rt. 98 El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Book Antiqua"/>
              </a:rPr>
              <a:t>Fondo de Servicios Eléctricos</a:t>
            </a: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 se constitui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) Con las cuotas que deben aportar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b) Con el excedente de entradas que obtuv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c) Con las rentas provenientes de arrendamiento de terrenos fiscales entregados en uso a empresas de servicios eléct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d) Con las multas en que incurr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g) Con los derechos que se cobrarán por recepción de instalaciones, verificación de medidores, ensayos de materiales eléctrico, carnet de instaladores, de operadores de biógrafos y de electricistas de teatr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3680"/>
            <a:ext cx="914400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9 El Fondo de Servicios Eléctricos se destina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 pagar los sueldos y demás gastos de la Dirección y del Consejo y de la inspeccion de las obras de aprovechamiento de las mercedes de agu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b) A subvencionar los gastos de aforo, adquisicion de instrumentos de medi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c) A subvencionar los laboratorios correspondientes de la Escuela de Injeniería para adquirir instrumentos de medidas eléctricas y practicar las verificaciones de los instrumentos de control que necesite la Dire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d) A mantener y subvencionar la enseñanza de electric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e) A auxiliar la construccion de obras suplementarias o la adquisicion de nuevos elementos mediante préstamos a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f) A favorecer la constitución de empresas de servicio público por medio de préstamos a los empresarios, siempre que el servicio para el cual se solicite dicho ausilio sea declarado de interes nacional o rejional  por decreto del Presidente de la Repúb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Art. 44. Las empresas existentes de servicios eléctricos y las que se establezcan en el futuro, están </a:t>
            </a: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 Antiqua"/>
              </a:rPr>
              <a:t>obligadas a permitir el uso de sus postes o torres para el establecimiento de otras líneas aéreas de distintos dueños</a:t>
            </a: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, siempre que fuere posible, a juicio del Consejo, sin perjuicio irremediable para la línea exist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TITULO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Gravámenes de las empre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Art. 60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concesiones provisionales o definitivas solo podrán otorgarse a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Book Antiqua"/>
              </a:rPr>
              <a:t>nacionales o a sociedades organizadas en conformidad a las leyes del pais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, y solo podrán trasferirse a personas o sociedades que cumplan con estas condi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fonos pagarán una prima de $ 2 al año por cada aparato telefónico insta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grafos pagarán una prima anual de $ 3 por cada kilómetro de cable y de $ 5 por cada kilómetro de línea aérea con cualquier número de hi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instalaciones de radio-trasmision pagarán las primas anuales que se indican a continuac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comerciales internacionale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uno por ciento de las entradas brutas con mínimum de quin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servicio privado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un peso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radio-difusion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dos pesos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esperimentacion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cien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aficionado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veinte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33520"/>
            <a:ext cx="9144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Esplotacion de los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72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Las empresas de servicios eléctricos solo podrán cobrar por sus servicios los precios que resulten de tarifas y condiciones de aplicación autorizados por Cons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i una empresa cobrase por sus servicios un precio inferior al que le corresponde segun  las tarifas legalmente establecidas, el Consejo podrá ordenar que se continúe aplicando las misma reduccion a favor de todos los servicios de la misma categoría.  Esta reduccion no podrá suprimirse con las formalidades establecidas para las modificaciones de tari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supervijilancia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CAPITU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inspeccion de servicios eléctricos Capítulo I.-  De la inspeccion de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84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La inspeccion y supervijilancia de la construccion y esplotacion de toda clase de empresas de servicios eléctricos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 establecidos o que se establezcan en el futuro será ejércida por una "Direccion de Servicios Eléctricos", que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dependerá del Ministerio de Obras y Ví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557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Art. 85 El injeniero director será nombrado por el Presidente de la Repúbl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El demas personal será nombrado, así mismo, por el Presidente de la República, a propuesta del dir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88 Corresponde a la Dirección ejercer las atribuciones que le confiere la presente lei, y particular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. Velar por el cumplimiento de las leyes vijentes… sobre instalaciones y servicios eléctricos, como asimismo, de sus reglamentos respectiv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4. Autorizar el empleo de materiales eléctricos, controlar las instalaciones privadas y otorgar los permisos para ejercer las funciones de instaladores eléctricos, operadores de biógrafos y electricistas de teat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5. Dictaminar sobre las solicitudes de concesión de servicios eléctricos, con excepción de las mercedes de agua, sobre las cuales corresponderá informar  la Dirección de Obras Públic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9. Dictaminar sobre las solicitudes relativas a tarifas y sus condiciones de aplicacion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2. Atender las consultas del público y resolver los reclamos que se formulen contra las empresas, en cuanto se relacionen con el cumplimiento de las leyes y reglamentos en vijencia; (relación art.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3. Imponer a las empresas o concesionarios las multas autorizadas por esta lei y hacerlas efectivas por la via de apremio, no pudiendo los jueces conceder apelaciones cuando proceden, sino en el efecto devolu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4. Supervijilar el cumplimiento de las normas de contabilidad uniforme que dicte el Presidente de la Re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6. Cooperar con los organismos creados por leyes especiales a la solución de conflictos entre las empresas y sus empleados sobre salarios horas de trabajo o condiciones del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APITU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el Consejo de Servicio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93 Se crea un Consejo de Servicios Eléctricos, que se compond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) Del ingeniero Director de Servicios Eléct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b) De tres injenieros, debiendo elegirse uno de ellos entre el personal de la Dirección de Obras Públ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) De cinco delegados de las Empresas de Servicios Eléctricos, elegidos como sigue: dos en representación de las Empresas de alumbrado y traccion; otro de las Empresas de teléfonos y telégrafos, el cuarto, de las Empresas comerciales de radio-comunicación y el quinto de las Empresas de radio-difusion y de aficion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) De un miembro del servicio de radiotelegrafía de la Arm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) De un miembro de la Brigada de Comunicaciones del Ejérc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f) De un miembro del servicio de telégrafos del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g) De los profesores de fuerza motriz, de electrotecnia, de comunicaciones eléctricas y de máquinas de la Escuela de Ingeniería de la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l Ministro de Obras Públicas presidirá las reuniones del Consejo cuando asistiera a ell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Los miembros del Consejo serán nombrados por el Presidente de la República, a propuesta en terna de las Empresas o sociedades respectivas… y directamente el Presidente cuando se trate de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2064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7 Corresponde al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Book Antiqua"/>
              </a:rPr>
              <a:t>Consejo de Servicios Eléctricos</a:t>
            </a: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 ejercer las atribuciones que le confiere la presente lei, y particular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Intervenir en la fijación de las tarifas para lo cual resolverá las solicitudes de las empresas sobre el particular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2. Administrar el Fondo de Servicios Eléctric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3. Resolver las dificultades que se produzcan entre las empresas con motivo de la aplicación de esta lei en todas las cuestiones relacionadas con el servicio en comun o simplement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4. Resolver los reclamos que pudieran formular las empresas o el público acerca de las resoluciones de la Direccion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5. Informar sobre todas las cuestiones relacionadas con los servicios eléctricos que el Gobierno acuerde someter a su e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0:22:09Z</dcterms:created>
  <dc:creator>Lucas Sierra</dc:creator>
  <dc:description/>
  <dc:language>en-US</dc:language>
  <cp:lastModifiedBy>Centro Estudios Publicos</cp:lastModifiedBy>
  <dcterms:modified xsi:type="dcterms:W3CDTF">2004-09-15T19:43:20Z</dcterms:modified>
  <cp:revision>8</cp:revision>
  <dc:subject/>
  <dc:title>Diapositiva 1</dc:title>
</cp:coreProperties>
</file>