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EB86-3351-4873-873C-F10F2E64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2081-6FE5-4397-A265-89022DBD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A181-EE43-48CE-A636-95D22076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8162-AF0D-4624-9FAC-C41C5168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EB26-231E-4BFD-A40B-C215F426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9D53-159D-4F74-89ED-1707080D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A293-A59C-46E1-9951-57663484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FEC8-6B93-4E1A-80F8-1F829A0B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36F-30D7-4EBC-824D-20524551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9E21-DE4C-4B4D-964F-8CC8F994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9E3D-CEBA-491C-91D4-1F64048B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5990-23A7-4F22-B64F-3414CEB1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DEDD-A095-4DDB-A507-D3ADA027D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737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32000" y="404280"/>
            <a:ext cx="6400800" cy="61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67120" y="509760"/>
            <a:ext cx="1409760" cy="58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23828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52945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20116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92360" y="476280"/>
            <a:ext cx="606744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419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eléfono comercial Bell 18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43280" y="765000"/>
            <a:ext cx="36208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48000" y="1413000"/>
            <a:ext cx="1903320" cy="4282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7240" y="6093000"/>
            <a:ext cx="35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Butterstamp telephone 18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02:43:38Z</dcterms:created>
  <dc:creator>Lucas Sierra</dc:creator>
  <dc:description/>
  <dc:language>en-US</dc:language>
  <cp:lastModifiedBy>Lucas Sierra</cp:lastModifiedBy>
  <dcterms:modified xsi:type="dcterms:W3CDTF">2004-09-02T02:15:20Z</dcterms:modified>
  <cp:revision>8</cp:revision>
  <dc:subject/>
  <dc:title>Diapositiva 1</dc:title>
</cp:coreProperties>
</file>