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D4F3-B1AE-40C8-B6C8-2D953218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468-0EEB-46EC-AB38-AD356B98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381-D2D2-4FA8-86CC-1A979127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55D1-1439-4EC9-82A3-291324B0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3F2-FBF6-41B0-9C61-83E36483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B5F-6C4C-4519-9C39-BF8BE6B7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B8C7-5F17-41B9-842D-22BCF08B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B99-F862-46EA-93E3-7F4D905A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71D3-89EA-439F-A77D-A3D9076C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61F7-BE25-4D34-A1D1-55E674EA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B3B0-71D9-49D8-A067-DBAB74AD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C3C-CE79-4392-80A4-26F581A0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ABD8-1784-4ACA-B36B-A0CB464BF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737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32000" y="404280"/>
            <a:ext cx="6400800" cy="61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67120" y="509760"/>
            <a:ext cx="1409760" cy="58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23828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52945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20116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92360" y="476280"/>
            <a:ext cx="606744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419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eléfono comercial Bell 18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43280" y="765000"/>
            <a:ext cx="362088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48000" y="1413000"/>
            <a:ext cx="1903320" cy="4282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7240" y="6093000"/>
            <a:ext cx="35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Butterstamp telephone 18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02:43:38Z</dcterms:created>
  <dc:creator>Lucas Sierra</dc:creator>
  <dc:description/>
  <dc:language>en-US</dc:language>
  <cp:lastModifiedBy>Lucas Sierra</cp:lastModifiedBy>
  <dcterms:modified xsi:type="dcterms:W3CDTF">2004-09-02T02:15:20Z</dcterms:modified>
  <cp:revision>8</cp:revision>
  <dc:subject/>
  <dc:title>Diapositiva 1</dc:title>
</cp:coreProperties>
</file>