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4893-744E-4DF7-A77B-8F589A56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AF75-8869-4422-8109-190BB199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ED3C-374D-4030-8C29-3B379BEC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D395-4AAA-42CC-8162-36068519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7540-719A-4C16-812A-314DA882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E6B4-6EF7-4A94-B1F5-01742636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DBC9-918A-4FFD-9540-9468663C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2448-232B-4DEA-9C03-8CBDB889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DA3-AD39-4AB6-BC44-9E13ACD3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3702-0182-49E9-8FAD-83E9317D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1E32-AFA5-4B4B-896C-6A2F87E2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2F0E-BE56-41A4-8253-821D3D09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C9AD-F33F-47E2-80B6-5693095C4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6737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32000" y="404280"/>
            <a:ext cx="6400800" cy="61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67120" y="509760"/>
            <a:ext cx="1409760" cy="58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620640"/>
            <a:ext cx="23828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529452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20116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92360" y="476280"/>
            <a:ext cx="606744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419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eléfono comercial Bell 18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43280" y="765000"/>
            <a:ext cx="362088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348000" y="1413000"/>
            <a:ext cx="1903320" cy="4282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7240" y="6093000"/>
            <a:ext cx="35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 Butterstamp telephone 18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02:43:38Z</dcterms:created>
  <dc:creator>Lucas Sierra</dc:creator>
  <dc:description/>
  <dc:language>en-US</dc:language>
  <cp:lastModifiedBy>Lucas Sierra</cp:lastModifiedBy>
  <dcterms:modified xsi:type="dcterms:W3CDTF">2004-09-02T02:15:20Z</dcterms:modified>
  <cp:revision>8</cp:revision>
  <dc:subject/>
  <dc:title>Diapositiva 1</dc:title>
</cp:coreProperties>
</file>