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C5F-7B2F-4813-BB06-FEF37E7E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BE0-CAA0-4685-82B0-57736F2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991-FEF5-42A7-A723-E3006548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9D7-5265-49B8-B3F3-1FACF4C0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3AD-2590-4E86-97AA-10326D7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CAB-6C2D-4154-9992-9F26ACA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49E-610E-49A5-91DA-9FE4A8E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3D3-5154-48FE-9C73-1E71EC0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9D-9579-4BBD-9C7A-3AE0AA91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4F3-9198-4057-B95A-28E9F55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0A7-435D-4BC3-A2E2-2272B90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228-DA0E-4106-BBE0-BB82EEB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9C34-A361-447C-A55D-DBE83F43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6400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5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da oficina telegráfica deberá preferir para darles curso, los mensajes dirijidos al Gobierno, i los oficiales dirijidos de autoridad a autoridad, cuando esta preferencia se reclame.  Las autoridades que tienen este derecho fuera del Gobierno son: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intendentes i gobernadores, los tribunales i juzgados para actos propios de su cargo, los jefes de un Ejército o división militar, o comandantes de armas, i los comandantes i gobernadores marí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6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 por los intendentes, gobernadores, o por los tribunales i juzgados se trasmitiesen mensajes para la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secución o aprehensión de delincuent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o para que se practiquen dilijencias dirijidas a investigación judicial, la oficina que los hubiese trasmitido no podrá trasmitir otro aviso o prevención que haga ilusoria la persecución o aprehensión o que frustre la investigación, a no ser por contra-órden de la mism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 misma regla se observará si frustrare la aprehensión, la traducción infiel hecha intencionalmente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338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7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 de motín o asonada es prohibido a toda oficina tele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ransmitir o tolerar que se trasmitan mensaje dirijidos a fomentar o favorecer el desórd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ar aviso de la marcha que sigan los sucesos o tumulto, si no es a la autoridad o con asentimiento de és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struir del movimiento de fuerzas, o de las medidas tomadas para combatir el desorden i todo aviso, cuyo objeto sea frustrar las providencias tomadas para restablecer la tranquilidad interior, salvo con permiso de la autoridad, i dirijido siempre el aviso a la autoridad respectiva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(339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8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s de motín, rebelión, etc., el Gobierno podrá tomar el uso esclusivo del telégrafo abonando en este caso a la empresa una cantidad igual a la que correspondiese por día, atendida la entrada que hubiese tenido en los treinta días precedentes.  Durante este tiempo podrán trasmitirse avisos de particulares con consentimiento del Gob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9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uando en una oficina telegráfica se reincidiese en las infracciones de que hablan los artículos sétimo i octavo, podrá la autoridad superior prohibir el uso del telégrafo, o someterlo a su dirección o inspección inmediata hasta tanto duren las circunstancias estraordinarias de motín, etc.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340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0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por imprudencia o involuntariamente rompiere los postes o alambres, o ejecutase actos que interrumpieren el servicio de los telégrafos, será penado con una multa que no baje de dos pesos ni exceda de veinte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333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1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 intencionalmente interrumpiere la comunicación telegráfica, rompiendo los alambres o postes o inutilizando los aparatos de trasmisión o por cualquiera otro medio, será penado con una prisión de quince días a seis meses, i una multa de veinte pesos a doscientos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4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2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Serán penados con una prisión que no podrá exceder de cinco años i con una multa de cien pesos a mil, los que en un motín o insurrección rompiesen los alambres de las líneas telegráficas, o que destruyesen las máquinas o aparatos telegráficos, o que por violencia o amenazas se apoderasen de las oficinas, o que usando de los mismos medios impidiesen de cualquier modo la correspondencia telegráfica entre los depositarios de la autoridad pública, o que con fuerza o violencia se opusiesen al restablecimiento de una línea telegráfica.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5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3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Todo ataque, toda resistencia con violencia o con vías de hecho a los ajentes que la autoridad destinare a la conservación i cuidado de las líneas telegráficas, serán castigados como actos de resistencia a la auto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721320" cy="605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6:44Z</dcterms:created>
  <dc:creator>Lucas Sierra</dc:creator>
  <dc:description/>
  <dc:language>en-US</dc:language>
  <cp:lastModifiedBy>Lucas Sierra</cp:lastModifiedBy>
  <dcterms:modified xsi:type="dcterms:W3CDTF">2004-08-26T01:03:28Z</dcterms:modified>
  <cp:revision>6</cp:revision>
  <dc:subject/>
  <dc:title>Ley de Telégrafos de 1852</dc:title>
</cp:coreProperties>
</file>