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74295-B233-4D2F-AA09-FDF0D5899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D03A8-E309-4BF1-98A0-503851E85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B2953-63CB-4BBA-96CD-5B81C4889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1CACD-CF1E-4337-A05B-41958BB6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9C703-E111-4661-ADFF-3762D199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BD878-B768-4DBA-9CA6-ECDDE6F12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D194-1B46-4102-9147-59B78AF15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62BC-AF2E-4FCB-B499-27DF5BAF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A05EB-6261-4895-85EB-EA73619D8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565A-3876-4909-A979-8E8395697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9F50-4975-4C04-A2B6-1F4038FD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86D9-A33F-449F-8D64-391E17CC8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6F13-F06A-4B25-806A-065622E98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189000"/>
            <a:ext cx="6400800" cy="648000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바탕"/>
              </a:rPr>
              <a:t>Ley de 22/02/185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바탕"/>
              </a:rPr>
              <a:t>Ordenanza Jeneral de Corre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TÍTULO V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Del porte de la correspondenc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Art. 114.</a:t>
            </a:r>
            <a:r>
              <a:rPr b="0" lang="es-ES" sz="1800" spc="-1" strike="noStrike">
                <a:solidFill>
                  <a:srgbClr val="99cc00"/>
                </a:solidFill>
                <a:latin typeface="바탕"/>
              </a:rPr>
              <a:t>	</a:t>
            </a:r>
            <a:r>
              <a:rPr b="0" lang="es-ES" sz="1800" spc="-1" strike="noStrike">
                <a:solidFill>
                  <a:srgbClr val="99cc00"/>
                </a:solidFill>
                <a:latin typeface="바탕"/>
              </a:rPr>
              <a:t>El  porte que adeuda la correspondencia, se distinguirá, según ésta jire por correos de tierra dentro de la República, o por mar entre puntos de la misma o del extranjero, o bien por correos trasandin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	</a:t>
            </a:r>
            <a:r>
              <a:rPr b="0" lang="es-ES" sz="1800" spc="-1" strike="noStrike">
                <a:solidFill>
                  <a:srgbClr val="99cc00"/>
                </a:solidFill>
                <a:latin typeface="바탕"/>
              </a:rPr>
              <a:t>La cuota de estos portes se denomina por las leyes del caso.  La Dirección Jeneral cuidará de que en todas las oficinas de correos haya una tarifa de los  distintos portes, con arreglo a estas ley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Art. 115.</a:t>
            </a:r>
            <a:r>
              <a:rPr b="0" lang="es-ES" sz="1800" spc="-1" strike="noStrike">
                <a:solidFill>
                  <a:srgbClr val="99cc00"/>
                </a:solidFill>
                <a:latin typeface="바탕"/>
              </a:rPr>
              <a:t>	</a:t>
            </a:r>
            <a:r>
              <a:rPr b="0" lang="es-ES" sz="1800" spc="-1" strike="noStrike">
                <a:solidFill>
                  <a:srgbClr val="99cc00"/>
                </a:solidFill>
                <a:latin typeface="바탕"/>
              </a:rPr>
              <a:t>La correspondencia se franqueará adhiriendo a su cubierta estampas de franqueo del valor equivalente al porte que adeude.</a:t>
            </a: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4360" y="549360"/>
            <a:ext cx="7632720" cy="5904000"/>
          </a:xfrm>
          <a:prstGeom prst="rect">
            <a:avLst/>
          </a:prstGeom>
          <a:noFill/>
          <a:ln w="0">
            <a:noFill/>
          </a:ln>
        </p:spPr>
        <p:txBody>
          <a:bodyPr lIns="90000" rIns="90000" tIns="46800" bIns="46800" anchor="t">
            <a:noAutofit/>
          </a:bodyPr>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TÍTULO VII</a:t>
            </a:r>
            <a:endParaRPr b="0" lang="en-US" sz="1800" spc="-1" strike="noStrike">
              <a:solidFill>
                <a:srgbClr val="000000"/>
              </a:solidFill>
              <a:latin typeface="Arial"/>
            </a:endParaRPr>
          </a:p>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De la exención de porte</a:t>
            </a:r>
            <a:endParaRPr b="0" lang="en-US" sz="1800" spc="-1" strike="noStrike">
              <a:solidFill>
                <a:srgbClr val="000000"/>
              </a:solidFill>
              <a:latin typeface="Arial"/>
            </a:endParaRPr>
          </a:p>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Art. 125.</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Se conducirá libre o exenta de port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ea typeface="Times New Roman"/>
              </a:rPr>
              <a:t>1° </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correspondencia oficial i particular del Presidente de la República;</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2°</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os Presidentes de ámbas Cámara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3°</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i particular de los Ministros del Despacho;</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4°</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os intendentes, comandantes jenerales de armas i gobernadores departamentales o de plaza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5°</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a comandancia Jeneral de Marina;</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Art. 128.</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Puede conducirse libremente por particulare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1°</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Toda correspondencia exenta de port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2°</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franqueada o con estampas correspondientes a su porte adheridas a ella, debiendo hacerse inutilizar en la oficina de correos por el que la dirij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3°</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os diarios i demas impreso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4°</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correspondencia que jirare entre puntos en que no haya correos establecidos.</a:t>
            </a:r>
            <a:endParaRPr b="0" lang="en-US" sz="1800" spc="-1" strike="noStrike">
              <a:solidFill>
                <a:srgbClr val="000000"/>
              </a:solidFill>
              <a:latin typeface="Arial"/>
            </a:endParaRPr>
          </a:p>
        </p:txBody>
      </p:sp>
    </p:spTree>
  </p:cSld>
  <p:transition spd="med">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cc00"/>
                </a:solidFill>
                <a:latin typeface="바탕"/>
              </a:rPr>
              <a:t>Evolución electromagnetismo--telégrafos</a:t>
            </a:r>
            <a:endParaRPr b="0" lang="en-US" sz="2400" spc="-1" strike="noStrike">
              <a:solidFill>
                <a:srgbClr val="000000"/>
              </a:solidFill>
              <a:latin typeface="Arial"/>
            </a:endParaRPr>
          </a:p>
        </p:txBody>
      </p:sp>
      <p:sp>
        <p:nvSpPr>
          <p:cNvPr id="44" name="PlaceHolder 2"/>
          <p:cNvSpPr>
            <a:spLocks noGrp="1"/>
          </p:cNvSpPr>
          <p:nvPr>
            <p:ph/>
          </p:nvPr>
        </p:nvSpPr>
        <p:spPr>
          <a:xfrm>
            <a:off x="394920" y="1267920"/>
            <a:ext cx="8435880" cy="52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Invención del electromagneto:</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William Sturgeon en 1825, Inglaterra (fierro en forma de herradura enrollado con alamb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Posible aplicación en materia de telecomunicacione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Joseph Henry en 1830, EEUU, envió corriente eléctrica por un cable de una milla, activando un electromagneto que tocó una campa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Aplicación a telecomunicacione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Samuel Morse, 1835 EEUU, probó que señales eléctricas podían ser transmitidas por un cable. Pulsos de corriente que activaron un electromagneto a fin de marcar señales en un papel (1836 código de puntos y rayas, deriva a recepción por oído; 40 o 50 palabras por minuto).</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Demostración pública en 1838. 1843, con fondos públicos, se levanta una línea telegráfica entre Washington y Baltimore (40 millas). Alfabeto electrónico patentado en 1840. La línea se abre el 24 de mayo de 1844.</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Primera línea transcontinental en 1861 (Western Union, aprovechando las servidumbres de las vías férrea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바탕"/>
              </a:rPr>
              <a:t>Primer cable transatlántico en 1866 (Wall Street—City)</a:t>
            </a:r>
            <a:endParaRPr b="0" lang="en-US" sz="1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quema del telégrafo eléctrico.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2708280"/>
            <a:ext cx="7993080" cy="27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51040" y="1846440"/>
            <a:ext cx="5689440" cy="314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20:55:57Z</dcterms:created>
  <dc:creator>Lucas Sierra</dc:creator>
  <dc:description/>
  <dc:language>en-US</dc:language>
  <cp:lastModifiedBy>Lucas Sierra</cp:lastModifiedBy>
  <dcterms:modified xsi:type="dcterms:W3CDTF">2004-08-25T21:54:33Z</dcterms:modified>
  <cp:revision>7</cp:revision>
  <dc:subject/>
  <dc:title>Diapositiva 1</dc:title>
</cp:coreProperties>
</file>