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9AD-8711-46AD-B7B3-3F6E8974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8F6-E98D-451C-AE9C-A60A46B2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F9D-D2C2-4592-B790-CE7BC149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DCF-FA64-4F29-BDD5-464ABB51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AE1-77BA-4765-B30B-AA5877F5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E58-72E2-479D-B134-FAB64B5A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F2A-E3DE-463E-9BC5-D5CA9A92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B43-DC86-441B-AECA-F92235BA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DD6-CAD1-4E44-BA49-9F0D607C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D03-3ACE-44F9-AFFA-CAA5D079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037-5DAB-493E-B97D-CE36B45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D93-CBBC-4605-9E27-DEE73F2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4A68-ECA8-4A1D-A52B-3542301D3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7400" y="228600"/>
          <a:ext cx="506412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506412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7920" y="1523880"/>
          <a:ext cx="5600520" cy="48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56005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33520" y="304920"/>
          <a:ext cx="7848360" cy="97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4920"/>
                    <a:ext cx="78483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47920" y="0"/>
          <a:ext cx="5638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5638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523880" y="3124080"/>
          <a:ext cx="5600880" cy="3448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5600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3880" y="228600"/>
          <a:ext cx="560088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560088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6269920" y="19080"/>
          <a:ext cx="15239880" cy="211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69920" y="19080"/>
                    <a:ext cx="152398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905120" y="228600"/>
          <a:ext cx="5486400" cy="5753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28600"/>
                    <a:ext cx="54864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20:25:28Z</dcterms:created>
  <dc:creator>Centro Estudios Publicos</dc:creator>
  <dc:description/>
  <dc:language>en-US</dc:language>
  <cp:lastModifiedBy>Centro Estudios Publicos</cp:lastModifiedBy>
  <dcterms:modified xsi:type="dcterms:W3CDTF">2004-08-18T22:26:41Z</dcterms:modified>
  <cp:revision>4</cp:revision>
  <dc:subject/>
  <dc:title>Sin título de diapositiva</dc:title>
</cp:coreProperties>
</file>