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739-B80E-4AAB-95B7-C00FAE2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7E1-9A10-4B7F-BAA0-39C7A6E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4A7-3BBF-42BF-8962-7DE247C5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C70-8E2C-4C40-831D-5DFA727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5BD-4958-457E-AA05-6925296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829-E0FD-484A-8774-AEF7F34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293-B5E5-45BC-8EB0-2AD60A9F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3C5-7EEE-4A2B-820B-462BEFA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D83-87F8-4D5F-AA36-0EA495C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E3A-BE79-42CD-92BF-2F299DE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D70-BDF9-4F0D-8A64-33B77E2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4D6-9E83-4480-9E17-C393521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29D-28FC-49C3-AD2D-3E8F9F5B0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7920" y="1523880"/>
          <a:ext cx="56005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600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3520" y="304920"/>
          <a:ext cx="7848360" cy="97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920"/>
                    <a:ext cx="7848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Centro Estudios Publicos</cp:lastModifiedBy>
  <dcterms:modified xsi:type="dcterms:W3CDTF">2004-08-18T22:26:41Z</dcterms:modified>
  <cp:revision>4</cp:revision>
  <dc:subject/>
  <dc:title>Sin título de diapositiva</dc:title>
</cp:coreProperties>
</file>