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89DF-47D6-4324-8505-17BD022A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FC7-E4E3-4C0E-899D-6B6E5F54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2D6-4CEF-4C48-98DC-F659CB2D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49D-54C8-4DDB-8C9A-558B3375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EBC5-C204-43E9-B871-1190EBC1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C201-8E15-4D9F-9D7B-FE3618A2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41F-E669-49D1-8D17-6280BCC9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01D-65EA-4467-B226-C0739DFD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FBB8-944B-4A4B-B156-B10E5A88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43A2-76D3-46F3-9FEF-D6333161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819-DDD7-45BC-8CFC-EE70B6A4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92C-3E41-4DAD-8D3F-6C13A33C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0240-88EA-4A5F-85C4-8D772ED7A03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97120" y="25920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munic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055880"/>
            <a:ext cx="777708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dios no eléct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sajeros (Correos) Palomas: 621 CC “Las palomas que abandonan un palomar y se fijan en otro, se entenderán ocupadas legítimamente por el dueño del segundo, siempre que éste no se haya valido de alguna industria para atraerlas o aquerenciarlas//En tal caso, estará obligado a la indemnización de todo perjuicio, inclusa la restitución de las especies, si el dueño la exigiere, y si no la exigiere, a pagarle su precio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legrafía óp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219120"/>
            <a:ext cx="7632720" cy="29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edios eléct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Alámb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égrafo eléct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éf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ibra óp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alámb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égra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rvicios de ra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adio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éf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00360" y="1052640"/>
            <a:ext cx="3459240" cy="5467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00720" y="259200"/>
            <a:ext cx="33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es Télégraphes Chapp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30064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7520" y="1438200"/>
            <a:ext cx="6282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4600" y="763920"/>
            <a:ext cx="53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e Edelcrantz Telegraph Systems (17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76720" y="2205000"/>
            <a:ext cx="2241360" cy="323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867280" y="2421000"/>
            <a:ext cx="2590920" cy="283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5760" y="2243160"/>
            <a:ext cx="19000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105360" cy="457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47640" y="25848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te des lignes de télégraphe Chapp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établies entre 1793 et 18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39848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quema del telégrafo eléctric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51040" y="1846440"/>
            <a:ext cx="568944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77480" y="33228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anza Jeneral de Correo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22/02/185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126080"/>
            <a:ext cx="763272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de correos de la República (líneas telegráficas del Estado forman parte del “ramo” de correo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pendencia: Ministerio del 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rector Jeneral (Directamente P de la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dministradores de correos (P de la R a propuesta de Dir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misionados de estafeta (P de la R, a propuesta de los administradores e informe Dir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mpleados subalternos de las diversas oficinas (idem, a propuesta del jefe de la oficina e informe Dir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3861360"/>
            <a:ext cx="799308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etencia Director Jenera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(art. 15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ar instrucciones para el mejor servicio de las oficinas i exacto cumplimiento de esta ordenanz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sar al Ministerio del Interior un estado semestral del movimiento de la correspondencia, con especificación de su procedencia i destino i sus clas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etencia administradores de corre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(art. 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uidar especialmente de la seguridad de la correspondencia i del secreto de los mensajes telegráficos, i de que su transmisión i repartición se haga con toda fidelidad i prontitu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20:54:04Z</dcterms:created>
  <dc:creator>Centro Estudios Publicos</dc:creator>
  <dc:description/>
  <dc:language>en-US</dc:language>
  <cp:lastModifiedBy>Lucas Sierra</cp:lastModifiedBy>
  <dcterms:modified xsi:type="dcterms:W3CDTF">2004-08-17T17:11:50Z</dcterms:modified>
  <cp:revision>14</cp:revision>
  <dc:subject/>
  <dc:title>Micrófono tipo teléfono</dc:title>
</cp:coreProperties>
</file>