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28F-9729-41C7-9615-ABF79FED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AF3-B8E1-4306-87BE-866CF706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2F8-FBFD-466B-83E3-183DB9DD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C7E-9B59-441C-A0C4-DD05594A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C64-FE4D-4AD2-A6ED-D1498369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9CE-26B2-4E54-8849-9682CD68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3F0-2895-4676-9D53-911237A1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D4C-DB5D-4217-BD62-BA459A69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E2A-5632-4F62-AA84-4961A793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1F6-AF1D-471B-BEB4-46EB6F44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334-C242-474A-A667-DC749D30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412-D880-4784-9374-2DA424E4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35FA-BAA2-422B-83BF-233BC5E29D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97120" y="25920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unic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055880"/>
            <a:ext cx="777708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os no eléc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sajeros (Correos) Palomas: 621 CC “Las palomas que abandonan un palomar y se fijan en otro, se entenderán ocupadas legítimamente por el dueño del segundo, siempre que éste no se haya valido de alguna industria para atraerlas o aquerenciarlas//En tal caso, estará obligado a la indemnización de todo perjuicio, inclusa la restitución de las especies, si el dueño la exigiere, y si no la exigiere, a pagarle su precio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legrafía óp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219120"/>
            <a:ext cx="763272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edios eléc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ámb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grafo 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bra óp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alámb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gra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rvicios de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adio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459240" cy="5467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0720" y="259200"/>
            <a:ext cx="33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es Télégraphes Chapp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30064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7520" y="1438200"/>
            <a:ext cx="6282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4600" y="76392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Edelcrantz Telegraph Systems (17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241360" cy="323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590920" cy="283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5760" y="2243160"/>
            <a:ext cx="1900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05360" cy="457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7640" y="25848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te des lignes de télégraphe Chapp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établies entre 1793 et 18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3984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quema del telégrafo eléctric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1040" y="1846440"/>
            <a:ext cx="56894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77480" y="3322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anza Jeneral de Correo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22/02/185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126080"/>
            <a:ext cx="763272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de correos de la República (líneas telegráficas del Estado forman parte del “ramo” de correo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pendencia: Ministerio d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ector Jeneral (Directamente P de la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dores de correos (P de la R a propuesta d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misionados de estafeta (P de la R, a propuesta de los administradores e inform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mpleados subalternos de las diversas oficinas (idem, a propuesta del jefe de la oficina e inform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861360"/>
            <a:ext cx="799308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encia Director Jener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(art. 15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r instrucciones para el mejor servicio de las oficinas i exacto cumplimiento de esta ordenanz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sar al Ministerio del Interior un estado semestral del movimiento de la correspondencia, con especificación de su procedencia i destino i sus clas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encia administradores de corre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(art. 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idar especialmente de la seguridad de la correspondencia i del secreto de los mensajes telegráficos, i de que su transmisión i repartición se haga con toda fidelidad i prontitu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20:54:04Z</dcterms:created>
  <dc:creator>Centro Estudios Publicos</dc:creator>
  <dc:description/>
  <dc:language>en-US</dc:language>
  <cp:lastModifiedBy>Lucas Sierra</cp:lastModifiedBy>
  <dcterms:modified xsi:type="dcterms:W3CDTF">2004-08-17T17:11:50Z</dcterms:modified>
  <cp:revision>14</cp:revision>
  <dc:subject/>
  <dc:title>Micrófono tipo teléfono</dc:title>
</cp:coreProperties>
</file>