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7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5.png" ContentType="image/pn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E815-7644-4B93-9A43-51028E674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D20E-C9F1-4554-B664-633E7ACD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6836-226E-4D58-B96B-6AF18F8F2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EA65-8836-4BA2-B313-AA31B563C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81B9-AD33-42F5-9329-A5DAB1FC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30C1-9384-4AE4-A222-88C0276D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8148-3B2F-4216-87D0-B9DB096E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0B72-ACEE-4740-927C-DA5D398E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6A26-A536-4290-A8B3-158C3F3F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4CEA-68ED-4D22-8307-F2173E5B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B9D3-32A5-4291-A9E5-7FD13DEF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89F4-A617-45D5-9E42-1A8FCB16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46B0-6901-4A07-AA72-FAA986A729D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97120" y="259200"/>
            <a:ext cx="27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comunicacio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1055880"/>
            <a:ext cx="777708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dios no eléct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nsajeros (Correos) Palomas: 621 CC “Las palomas que abandonan un palomar y se fijan en otro, se entenderán ocupadas legítimamente por el dueño del segundo, siempre que éste no se haya valido de alguna industria para atraerlas o aquerenciarlas//En tal caso, estará obligado a la indemnización de todo perjuicio, inclusa la restitución de las especies, si el dueño la exigiere, y si no la exigiere, a pagarle su precio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legrafía óp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3219120"/>
            <a:ext cx="7632720" cy="29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Medios eléct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Alámb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elégrafo eléctr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eléf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ibra óp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Inalámb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elégra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rvicios de rad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Radiodifu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eléf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700360" y="1052640"/>
            <a:ext cx="3459240" cy="5467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700720" y="259200"/>
            <a:ext cx="335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es Télégraphes Chapp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63640" y="836640"/>
            <a:ext cx="5300640" cy="5300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17520" y="1438200"/>
            <a:ext cx="62820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74600" y="763920"/>
            <a:ext cx="533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he Edelcrantz Telegraph Systems (179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76720" y="2205000"/>
            <a:ext cx="2241360" cy="3237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867280" y="2421000"/>
            <a:ext cx="2590920" cy="283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55760" y="2243160"/>
            <a:ext cx="190008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64000" y="1557360"/>
            <a:ext cx="3105360" cy="4573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47640" y="258480"/>
            <a:ext cx="55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rte des lignes de télégraphe Chapp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établies entre 1793 et 18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900000" y="1844640"/>
            <a:ext cx="398484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quema del telégrafo eléctrico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79930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51040" y="1846440"/>
            <a:ext cx="568944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977480" y="332280"/>
            <a:ext cx="58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nanza Jeneral de Correos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(22/02/185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1126080"/>
            <a:ext cx="7632720" cy="25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Servicio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de correos de la República (líneas telegráficas del Estado forman parte del “ramo” de correos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ependencia: Ministerio del I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irector Jeneral (Directamente P de la 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dministradores de correos (P de la R a propuesta de Dire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omisionados de estafeta (P de la R, a propuesta de los administradores e informe Dire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mpleados subalternos de las diversas oficinas (idem, a propuesta del jefe de la oficina e informe Dire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3861360"/>
            <a:ext cx="7993080" cy="25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ompetencia Director Jeneral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(art. 15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ar instrucciones para el mejor servicio de las oficinas i exacto cumplimiento de esta ordenanza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asar al Ministerio del Interior un estado semestral del movimiento de la correspondencia, con especificación de su procedencia i destino i sus clas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ompetencia administradores de correo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(art. 4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uidar especialmente de la seguridad de la correspondencia i del secreto de los mensajes telegráficos, i de que su transmisión i repartición se haga con toda fidelidad i prontitu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3T20:54:04Z</dcterms:created>
  <dc:creator>Centro Estudios Publicos</dc:creator>
  <dc:description/>
  <dc:language>en-US</dc:language>
  <cp:lastModifiedBy>Lucas Sierra</cp:lastModifiedBy>
  <dcterms:modified xsi:type="dcterms:W3CDTF">2004-08-17T17:11:50Z</dcterms:modified>
  <cp:revision>14</cp:revision>
  <dc:subject/>
  <dc:title>Micrófono tipo teléfono</dc:title>
</cp:coreProperties>
</file>