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D3E-2BD1-4F60-8489-A9EA037B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316-1423-44C9-9439-2544CEF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00E-51A8-4E61-95AE-ECDF9721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7DD-A29A-426D-A32F-31580A98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D38-3E76-476F-A705-1CD70026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8F7-0539-4012-AE27-B98D0C5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E93-3EE0-4008-9AFF-C724BC1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476-D126-4521-AB50-B1B122D8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93D-3280-4A94-BDF9-0B6FBF2D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075-8AFC-4F40-9D7D-D6E05C3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4A2-6CE5-48A7-930E-2831D0C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33C-E5D9-4F48-A4BB-E0D9997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FE8-3C3F-48E3-AF1D-7B8F971D97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7120" y="259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5880"/>
            <a:ext cx="7777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os no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ros (Correos) Palomas: 621 CC “Las palomas que abandonan un palomar y se fijan en otro, se entenderán ocupadas legítimamente por el dueño del segundo, siempre que éste no se haya valido de alguna industria para atraerlas o aquerenciarlas//En tal caso, estará obligado a la indemnización de todo perjuicio, inclusa la restitución de las especies, si el dueño la exigiere, y si no la exigiere, a pagarle su preci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grafí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219120"/>
            <a:ext cx="763272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edios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 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br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s de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459240" cy="546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720" y="25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es Télégraphes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3006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7520" y="1438200"/>
            <a:ext cx="6282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4600" y="7639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Edelcrantz Telegraph Systems (17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241360" cy="323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59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5760" y="2243160"/>
            <a:ext cx="1900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0536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25848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te des lignes de télégraphe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établies entre 1793 et 18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984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ma del telégrafo eléctri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846440"/>
            <a:ext cx="56894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7480" y="332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anza Jeneral de Corre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22/02/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6080"/>
            <a:ext cx="7632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e correos de la República (líneas telegráficas del Estado forman parte del “ramo” de corre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pendencia: Ministeri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or Jeneral (Directamente P de la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dores de correos (P de la R a propuesta d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sionados de estafeta (P de la R, a propuesta de los administradores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leados subalternos de las diversas oficinas (idem, a propuesta del jefe de la oficina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861360"/>
            <a:ext cx="799308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Director Jener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1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r instrucciones para el mejor servicio de las oficinas i exacto cumplimiento de esta ordenanz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r al Ministerio del Interior un estado semestral del movimiento de la correspondencia, con especificación de su procedencia i destino i sus cl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administradores de corre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idar especialmente de la seguridad de la correspondencia i del secreto de los mensajes telegráficos, i de que su transmisión i repartición se haga con toda fidelidad i prontitu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0:54:04Z</dcterms:created>
  <dc:creator>Centro Estudios Publicos</dc:creator>
  <dc:description/>
  <dc:language>en-US</dc:language>
  <cp:lastModifiedBy>Lucas Sierra</cp:lastModifiedBy>
  <dcterms:modified xsi:type="dcterms:W3CDTF">2004-08-17T17:11:50Z</dcterms:modified>
  <cp:revision>14</cp:revision>
  <dc:subject/>
  <dc:title>Micrófono tipo teléfono</dc:title>
</cp:coreProperties>
</file>