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629-D03B-42C0-844A-21D179EE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959-5134-4AC1-B5A8-A75467E3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0F5-9FE1-462C-82A0-D5C0C7F3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B1D-B4F3-463B-A48F-57ECF27B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2A39-84CF-47B1-BEF3-AFFF0514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2429-5FE8-4BA3-9A3D-CCDE273C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8F2E-4711-44D1-A35B-55CFB87F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27F0-5B48-4BA7-8517-0E871F97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B3A7-0565-49B7-AEF6-05FBFF64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E7A6-30E9-4548-8D39-778980C4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DD23-0063-4ABF-8F44-2AF5B853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DB06-98E0-42B5-B812-FA73D79D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B2D2-3A1A-4E44-B16F-FAEC4FC9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847F-B5E4-452A-AD33-0134B9A9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8BD4-F8CA-40BF-B7E9-6FB4179E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F387-8B4C-496E-BDCD-64B500D3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B12C-637C-4FF4-BB5C-02614CD2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F3B50-CF1A-4AA9-ADD6-C82BE34E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3AC8B-DFA2-4175-8E69-55CAA7DA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CAEC0-6826-4084-819F-FBF63EAC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67CD9-FBA8-4C8C-A5D3-D2407041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642A4-FAD1-41D0-84C0-FA75F570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B46-6D87-4FF7-BA76-ED0E0CC7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EE0FC-7F0A-4715-949B-83F73656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1FEE9-2B9B-4304-AFDC-25382690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E02B-A8B6-4C25-8DB6-84F7DD43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6A6D-93FA-42B1-A915-1B0E550F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AD0FC-F85F-4D32-B5AC-229CC48E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C045-2EA3-41DB-9AFC-6A484613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57AE-49C8-4B3C-8AEA-61E0EE67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C6E54-D493-4137-BBF5-94D38360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DF7B7-0EF5-4C68-AE67-DEA1C584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78486-5366-4526-B427-81BB3DD2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FDC-706A-4E75-81C8-4106A309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9C025-BB66-4DCA-BB09-BB23CFDC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16904-505A-467E-BBEA-5315557C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D1AEE-AA57-48BC-B246-4D1B91B8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CC4CE-F8C1-4D1E-9B92-5AAD323C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E5ADF-FA48-4007-BDA3-B446FEF0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81F89-2DED-4EDB-AF0D-6ADBBBDA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1B17D-D840-41D2-8D33-244CFE98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EBB07-C38C-4D83-8297-C53709B3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4FB0B-DB1C-4247-84E7-2DC683D9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9A7-7C93-4AC9-91FA-7CFB519E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FED-1A06-47ED-A7EE-0239A374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66D-C9E7-4CE8-81CA-1807AD83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BB8-AF2F-424F-9416-83F1C4ED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BBF-D760-4862-864B-A272E1C7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1B6A-6AAD-4AE2-84AF-65A561BC86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788E-C768-4256-BA85-AA8CDD8D3B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C74C-4633-4344-8A85-A26F42097598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09CE-EFA8-4311-8A36-1A563F50FC6A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2297160" y="1724040"/>
          <a:ext cx="4549680" cy="34084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7160" y="1724040"/>
                    <a:ext cx="454968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49440" y="1876320"/>
          <a:ext cx="4549680" cy="340848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49440" y="1876320"/>
                    <a:ext cx="454968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990720" y="685800"/>
          <a:ext cx="7010280" cy="548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0720" y="685800"/>
                    <a:ext cx="7010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143000" y="914400"/>
          <a:ext cx="68580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858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61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04920"/>
            <a:ext cx="9144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hile: number of television sets per 1,000 inhabitants 1960-1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1523880"/>
          <a:ext cx="76960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6960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-15120" y="6324480"/>
            <a:ext cx="91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</a:t>
            </a:r>
            <a:r>
              <a:rPr b="0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Elaborated by economist Harald Beyer from a number of national statistics (</a:t>
            </a:r>
            <a:r>
              <a:rPr b="0" i="1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o de Estudios Públicos</a:t>
            </a:r>
            <a:r>
              <a:rPr b="0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antiago de Chile, March 2000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6508800"/>
          <a:ext cx="5613480" cy="349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08800"/>
                    <a:ext cx="56134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447920" y="457200"/>
            <a:ext cx="5889600" cy="594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447920" y="6477120"/>
          <a:ext cx="561312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6477120"/>
                    <a:ext cx="561312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19560" cy="56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676520" y="6477120"/>
          <a:ext cx="5613120" cy="17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6477120"/>
                    <a:ext cx="561312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430200" y="404640"/>
          <a:ext cx="8713800" cy="5915160"/>
        </p:xfrm>
        <a:graphic>
          <a:graphicData uri="http://schemas.openxmlformats.org/drawingml/2006/table">
            <a:tbl>
              <a:tblPr/>
              <a:tblGrid>
                <a:gridCol w="2017440"/>
                <a:gridCol w="1670400"/>
                <a:gridCol w="2220840"/>
                <a:gridCol w="2805120"/>
              </a:tblGrid>
              <a:tr h="170244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ACCION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 A CARA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EDIA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(Telecom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UASI-MEDIA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edi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xto espacio-tempo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presencia. Contexto espacio-temporal compartid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aración de contextos. Extensión espacio-tempo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aración de contextos. Extensión espacio-tempo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go de señales simból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plici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entación de la ac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ulariz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ularizad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ferenciad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lógica/monológica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lóg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lóg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ológ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5:19:03Z</dcterms:created>
  <dc:creator>Centro Estudios Publicos</dc:creator>
  <dc:description/>
  <dc:language>en-US</dc:language>
  <cp:lastModifiedBy>Lucas Sierra</cp:lastModifiedBy>
  <dcterms:modified xsi:type="dcterms:W3CDTF">2004-08-12T04:02:51Z</dcterms:modified>
  <cp:revision>4</cp:revision>
  <dc:subject/>
  <dc:title>Sin título de diapositiva</dc:title>
</cp:coreProperties>
</file>