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258-FC5D-4495-BD3C-655351F4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A68-FA04-464E-8F92-EC22F3F3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8D7-628E-4C45-A21B-930E978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A69-42C9-4DC6-B8D2-B7711B62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CADB-DB90-4380-B54F-443F90D2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32DB-8751-4283-BC12-6AB11908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8357-1782-4A33-B817-6D345E87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257E-3446-4DA0-B84E-BB29CC95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B582-EFCB-4D9E-9FB9-9791C742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E3A2-2083-4576-BE92-C72F460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A7AF-27DD-4173-9973-B2288BE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651-EFFC-4D6C-8F83-ADD17AD2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54C-3AF1-4CE9-A3C7-C64C18E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72B-D681-40A0-9F28-53E0F6D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BFD8-433A-4E57-9D3B-92872EE1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1BCC-DFAD-47D0-B44D-E0D2E476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8747-71F6-4256-9DE7-E5BD79D1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62D4-41A4-4ED9-B807-E0F9B003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FA24-819B-4541-9BBC-97773B52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C698-312A-4553-B4CA-E0AFCA3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E9E4-6BBD-4CC2-920A-9CE35FB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525C-06CE-4263-BD6E-8B06E674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EED-B8DB-426C-ABC8-99B422B1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55F2-3E50-4838-BE90-2B9F3612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889C-06D1-46AF-853A-FDEAED4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862D-9F4F-4C3B-8D56-C47A59A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3130-84B6-4DA4-9518-D36488C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D40E-F3B6-4CBF-A59E-A1DAAC9C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592B-C30A-48C6-B0B6-DCA7CDFC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2B5F-6B10-48FB-AD68-6893D753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8FC2-C9DA-42D9-92A9-8D7CB406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AC9D-3CCE-409C-BD65-7370EC6D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E50C-6A12-4673-9F65-BCB5A0FE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EDB-5F2A-465A-BC28-5E213A2D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308C-B432-4C74-84B3-8EBA765A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4FBA-24AA-4ABC-B9A7-208EDC2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3A65-C1DD-4620-A10A-9CF4DCDF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937C-3E80-49F1-921D-5645B9A3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F85C-4290-4F09-A64F-9B32F97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7319-6AAD-4622-9091-EBB0049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E53F-C647-412F-A3A3-C1531F3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A382-6672-4E78-9897-F4C9AC3D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6C3C-6088-4C25-9FB1-0DC2ACB3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713-D4E1-43DF-8A14-36363C96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1B7-1663-4F8B-BABB-3DB40CD2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2E6-5689-4E32-8329-8408959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0CF-16AC-43DF-BD4F-E8208D7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48F-9025-4091-8479-A85AE7F4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A8F8-5762-4634-BF4B-FB1BE54E22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D81C-8222-48AA-A823-24653D55FC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2E61-C1E8-4940-BCE3-857229269CA5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3DAB-1405-47FC-B7B5-20176C49B39E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49440" y="1876320"/>
          <a:ext cx="4549680" cy="340848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9440" y="187632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90720" y="685800"/>
          <a:ext cx="7010280" cy="548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685800"/>
                    <a:ext cx="7010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914400"/>
          <a:ext cx="6858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858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1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ile: number of television sets per 1,000 inhabitants 1960-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523880"/>
          <a:ext cx="76960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-15120" y="6324480"/>
            <a:ext cx="91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laborated by economist Harald Beyer from a number of national statistics (</a:t>
            </a: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o de Estudios Públicos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antiago de Chile, March 2000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508800"/>
          <a:ext cx="5613480" cy="34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08800"/>
                    <a:ext cx="5613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5889600" cy="59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7920" y="6477120"/>
          <a:ext cx="561312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19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676520" y="6477120"/>
          <a:ext cx="5613120" cy="17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30200" y="404640"/>
          <a:ext cx="8713800" cy="5915160"/>
        </p:xfrm>
        <a:graphic>
          <a:graphicData uri="http://schemas.openxmlformats.org/drawingml/2006/table">
            <a:tbl>
              <a:tblPr/>
              <a:tblGrid>
                <a:gridCol w="2017440"/>
                <a:gridCol w="1670400"/>
                <a:gridCol w="2220840"/>
                <a:gridCol w="2805120"/>
              </a:tblGrid>
              <a:tr h="170244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ACCION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 A CARA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(Teleco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UASI-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di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xto espacio-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presencia. Contexto espacio-temporal comparti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o de señales simból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ic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entación de la ac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ferenci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/monológica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o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5:19:03Z</dcterms:created>
  <dc:creator>Centro Estudios Publicos</dc:creator>
  <dc:description/>
  <dc:language>en-US</dc:language>
  <cp:lastModifiedBy>Lucas Sierra</cp:lastModifiedBy>
  <dcterms:modified xsi:type="dcterms:W3CDTF">2004-08-12T04:02:51Z</dcterms:modified>
  <cp:revision>4</cp:revision>
  <dc:subject/>
  <dc:title>Sin título de diapositiva</dc:title>
</cp:coreProperties>
</file>