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A3E-8D67-43E0-8B92-9821E500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541-89CE-4338-A074-EAC7019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636-0A3E-4F06-914F-967CACB8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C49-B5BC-41D5-A119-862DCF63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8EB5-BC99-460E-8B18-E253CCC4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FDA-654B-4C31-AAFE-DF7FD20A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1349-F348-4F09-AE91-D6F0F39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AD38-4374-4BB7-9397-381367F8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4A55-9A7E-46A5-9DD6-21257D1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D6A9-8D11-46F4-B9AE-A79F370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155C-1ADE-4D00-8555-C2AB714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822-F078-44FB-9465-D5ED46EA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37C7-57A5-4137-9A31-03C7A23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0E22-706F-4102-A9B8-D7B01542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B3D1-5C50-40A9-A872-98A87B40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1698-C999-4726-B2C6-59D3AD65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6456-95E4-4D73-ACE5-ED378CD7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821B-21DE-4559-94AA-59283BD9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E08F-3B01-4737-9109-D2372AEF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C032-5A4D-4020-8257-EAC8C68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8F8E-B5E1-4BF6-B758-001190D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AEB8-843C-4155-A329-73C646BA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D14-D75C-4643-8B1A-DD32A9F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4112-FBF1-49C3-8BB1-20799E31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268A-DF28-4CF6-8432-E530C9E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58A8-60BD-464F-AE82-F85867FF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7998-A49F-46BE-B8C7-7CEC09F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1DD6-C663-458C-8169-CD31C965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1A15-0DC2-4E2F-A22F-EF9A708B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9EB3-4BE1-4547-8448-59275B5B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B3D6-B3EC-47BD-A19D-7D05DB91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B4FD-DEC5-4A03-ACFD-709A50FD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F212-4E8A-4764-968F-A652A3DC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1B8-DAAB-44E0-A093-9FC2761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8C2C-F4B1-4A3A-B7C6-C80503A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E4429-EDC9-4A5E-9939-CE0F469D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02DA-7DBA-4466-A886-FC94533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133A-C85F-458B-AF5B-13F69F4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52CB-EF81-44EB-9564-1DF30891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E527-5064-49EA-85F0-C7056E3D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BE8E-7A6F-47CB-BA35-3002020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D914-F5D7-4531-A69C-B15B4CE2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8340-8111-4F0E-8B03-68917A6C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F89-699D-422D-9F89-4388B07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CA2-C661-4E89-BD28-B2CEB7D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F04-F46C-40F8-9908-4220BC8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6AB-5E76-415C-A926-5C6BE54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5E1-BF3F-4047-8723-5D974B1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D72D-4A72-421E-BFF2-D9E883DA75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EADA-30F0-4B68-B4FF-A1BAAC40BE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CAE-AF61-44D9-A026-FC2368C5CC10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C608-D925-464A-9B09-3CC119182B7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49440" y="1876320"/>
          <a:ext cx="4549680" cy="340848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9440" y="187632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90720" y="685800"/>
          <a:ext cx="7010280" cy="548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685800"/>
                    <a:ext cx="7010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914400"/>
          <a:ext cx="6858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858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1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ile: number of television sets per 1,000 inhabitants 1960-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523880"/>
          <a:ext cx="76960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-15120" y="6324480"/>
            <a:ext cx="91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laborated by economist Harald Beyer from a number of national statistics (</a:t>
            </a: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o de Estudios Públicos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antiago de Chile, March 2000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508800"/>
          <a:ext cx="5613480" cy="34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08800"/>
                    <a:ext cx="5613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5889600" cy="59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7920" y="6477120"/>
          <a:ext cx="561312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19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676520" y="6477120"/>
          <a:ext cx="5613120" cy="17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30200" y="404640"/>
          <a:ext cx="8713800" cy="5915160"/>
        </p:xfrm>
        <a:graphic>
          <a:graphicData uri="http://schemas.openxmlformats.org/drawingml/2006/table">
            <a:tbl>
              <a:tblPr/>
              <a:tblGrid>
                <a:gridCol w="2017440"/>
                <a:gridCol w="1670400"/>
                <a:gridCol w="2220840"/>
                <a:gridCol w="2805120"/>
              </a:tblGrid>
              <a:tr h="170244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ACCION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 A CARA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(Teleco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UASI-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di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xto espacio-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presencia. Contexto espacio-temporal comparti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o de señales simból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ic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entación de la ac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ferenci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/monológica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o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5:19:03Z</dcterms:created>
  <dc:creator>Centro Estudios Publicos</dc:creator>
  <dc:description/>
  <dc:language>en-US</dc:language>
  <cp:lastModifiedBy>Lucas Sierra</cp:lastModifiedBy>
  <dcterms:modified xsi:type="dcterms:W3CDTF">2004-08-12T04:02:51Z</dcterms:modified>
  <cp:revision>4</cp:revision>
  <dc:subject/>
  <dc:title>Sin título de diapositiva</dc:title>
</cp:coreProperties>
</file>