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3.bin" ContentType="application/vnd.openxmlformats-officedocument.oleObjec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7744-2113-425C-BED5-DE305BEE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D5A5-786E-43D1-B4C0-F4186F1E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FA8E-594E-4713-8C3D-996606B4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105B-6C74-46AD-AD5A-42303730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96BA-61E0-41D9-B7A4-0AB3F039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EDB3-DF7B-4036-80EC-C4B67D7D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944C-A92A-44A8-8CA2-53699722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34D3-71E2-4748-8D11-F7E8C8A8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5ACE-B664-4F4F-BCA4-6875D9B0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1CD7-5D58-4B3C-9FB1-0BBD6702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B2CA-1DB9-4B0F-BD75-87B5262F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EDF8-E5B4-4482-A05E-8BA99FBE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1DA8-E74A-4BB5-B286-F3B69C87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13FB-976B-4237-8AFA-1EBADF09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29EA-7154-4FCE-BA37-6CBAB95E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2DC3-A7F4-42E8-A896-A5122EB3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3CB6-7B92-440B-8192-169495EA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9D9B3-25B3-43EE-AD44-C220DC1D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738F7-32E7-40ED-A031-5F7B7FDD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330B4-0967-4823-A882-EBEE7405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EEB40-14DD-464D-BCCB-4F5715DB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B0985-70B8-4FA0-B193-28541476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0B91-7088-45B6-910E-7F0F628C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73705-A84A-433F-9706-1128F1B5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B60E5-16A3-411F-B902-A65E5826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ED710-93D7-47F7-8880-A6E9E55D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22350-D495-40ED-B3A7-6ACCAA41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03B17-C729-4F6A-AE6E-9349A2B7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53740-2EE6-4377-B933-7AC216A1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F1550-0E33-4C48-82A3-70FFFF99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61D1B-6530-4572-B6F9-67C02944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E813D-6D24-42D0-97EB-DBDD7BBB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817E2-4FB1-4CE0-A114-2A766819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AC64-3591-44F6-897A-CDD69274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126E8-8754-4024-B0CF-AAD1CDA4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7D693-0699-4B12-AB7A-A4812E1C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DE0D4-8977-41A6-A621-871A7B1B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A7312-5327-4620-A67C-BF69E10F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9F50A-3866-4F67-9EB9-8EC7C44A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BE03A-B1F2-4AA5-99C3-0BA04C2F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06E3A-A650-4683-9E21-67D6F7FB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7A839-C54C-4627-AEE3-C24D1360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AF47F-5639-4518-AEAE-B5C538AA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AC0A-F490-4938-8B9A-9C66792B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E031-8C10-428A-BF8E-E19BA029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958E-B0B5-43DD-9922-8C0B6D9C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2C80-07DF-4E92-8D5C-352FDAEC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51EF-194F-4D2F-9846-A84BADEC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8167-42D1-431D-A6AA-0FDDB5FE20F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6EB4-8F42-4D02-89D1-DFD3C8AD0F6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4B4B-426B-465E-A904-5FE6370FEFA0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53DC-CC79-4001-B24A-AB48FF39E24D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.wmf"/><Relationship Id="rId4" Type="http://schemas.openxmlformats.org/officeDocument/2006/relationships/package" Target="../embeddings/oleObject2.pptx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2297160" y="1724040"/>
          <a:ext cx="4549680" cy="34084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97160" y="1724040"/>
                    <a:ext cx="454968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449440" y="1876320"/>
          <a:ext cx="4549680" cy="340848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49440" y="1876320"/>
                    <a:ext cx="454968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990720" y="685800"/>
          <a:ext cx="7010280" cy="5486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90720" y="685800"/>
                    <a:ext cx="70102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143000" y="914400"/>
          <a:ext cx="68580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858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617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04920"/>
            <a:ext cx="9144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Chile: number of television sets per 1,000 inhabitants 1960-19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85800" y="1523880"/>
          <a:ext cx="76960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6960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-15120" y="6324480"/>
            <a:ext cx="91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</a:t>
            </a:r>
            <a:r>
              <a:rPr b="0" lang="es-C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Elaborated by economist Harald Beyer from a number of national statistics (</a:t>
            </a:r>
            <a:r>
              <a:rPr b="0" i="1" lang="es-C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o de Estudios Públicos</a:t>
            </a:r>
            <a:r>
              <a:rPr b="0" lang="es-C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Santiago de Chile, March 2000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6508800"/>
          <a:ext cx="5613480" cy="349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08800"/>
                    <a:ext cx="56134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447920" y="457200"/>
            <a:ext cx="5889600" cy="594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1447920" y="6477120"/>
          <a:ext cx="5613120" cy="17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6477120"/>
                    <a:ext cx="561312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019560" cy="568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1676520" y="6477120"/>
          <a:ext cx="5613120" cy="17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6477120"/>
                    <a:ext cx="561312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430200" y="404640"/>
          <a:ext cx="8713800" cy="5915160"/>
        </p:xfrm>
        <a:graphic>
          <a:graphicData uri="http://schemas.openxmlformats.org/drawingml/2006/table">
            <a:tbl>
              <a:tblPr/>
              <a:tblGrid>
                <a:gridCol w="2017440"/>
                <a:gridCol w="1670400"/>
                <a:gridCol w="2220840"/>
                <a:gridCol w="2805120"/>
              </a:tblGrid>
              <a:tr h="170244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ACCION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A A CARA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MEDIAT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(Telecom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UASI-MEDIAT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edi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xto espacio-tempo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-presencia. Contexto espacio-temporal compartid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aración de contextos. Extensión espacio-tempo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aración de contextos. Extensión espacio-tempo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go de señales simból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tiplicida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cció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cció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348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entación de la ac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ulariz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ularizad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ferenciad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lógica/monológica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lógic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lógic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ológic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15:19:03Z</dcterms:created>
  <dc:creator>Centro Estudios Publicos</dc:creator>
  <dc:description/>
  <dc:language>en-US</dc:language>
  <cp:lastModifiedBy>Lucas Sierra</cp:lastModifiedBy>
  <dcterms:modified xsi:type="dcterms:W3CDTF">2004-08-12T04:02:51Z</dcterms:modified>
  <cp:revision>4</cp:revision>
  <dc:subject/>
  <dc:title>Sin título de diapositiva</dc:title>
</cp:coreProperties>
</file>