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2B5EB-55F2-430E-AB29-E8DF06080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20E73-8CBA-444C-B872-B811D1671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DC5E0-32DD-41D8-82F5-EB5F30A62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DCE9B-80FD-4FBD-8061-B1191AC81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0BCDF-45DD-4836-9A6A-4D0EEFB1F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DB221-B4E9-454E-8F49-AA02048F5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7F937-AD54-4986-8B0B-4DC77282D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CF8BB-121D-4DD6-B84B-9E94F640B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53B0A-F581-4CDF-A470-2975CB1E2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8AE4-76D4-4F36-9DB1-86E451212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88D7D-4A53-435F-8BB9-98C8B05C7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9913-810B-4BB2-9BAB-96D685942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DDFE-CCE2-46F6-B365-AF56B5308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PRENS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ontroversia sobre la película  “Machu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9</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ntiendo la controversia por el contenido o visión política que se le da a la película "Machu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eo que hay que tener en cuenta que ésta sólo corresponde a la percepción que tendría el protagonista, un preadolescente de clase media alta de apellido Infante, de los últimos meses del gobierno de la 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os que vean la película les quedará claro que este joven no se desenvolvía bien ni en su familia ni en su curso, y que intentó buscar compañía en el joven Machuca, que representa una condición humilde, con el cual finalmente tampoco pudo relacionarse. Así la película logra adecuadamente mostrar el grado de confusión y parcialidad ingenua de su protagonista en relación con los eventos que ocurrieron en esa época. Por eso es que creo que si se entra a debatir su contenido buscando rigurosidad, se cae en un error, ya que la película, lejos de calificarse como un documental, es sólo una invención dramá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DRÉS ÁLAMOS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0</a:t>
            </a:r>
            <a:endParaRPr b="0" lang="en-US" sz="4400" spc="-1" strike="noStrike">
              <a:solidFill>
                <a:srgbClr val="000000"/>
              </a:solidFill>
              <a:latin typeface="Arial"/>
            </a:endParaRPr>
          </a:p>
        </p:txBody>
      </p:sp>
      <p:sp>
        <p:nvSpPr>
          <p:cNvPr id="6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película recién estrenada "Machuca" recrea muy bien lo que sucedía en 1973 en Chile. Para verla, incluso tuve que hacer "cola", igual que en esa épo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RGIO ITURRI WORMA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 pasado 30 años de la historia de Infante y Machuca y siento que debemos sentirnos orgullosos de haber cerrado las páginas de dos gobiernos tan extremist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amente la tarea está inconclusa: sepultar la pobreza margi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FRANCISCA BUSTOS ROCHET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2</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e visto la película Machuca y no sé si la veré, pero me parece destacable que a menos de una semana de su estreno la película ya haya causado efectos muy positiv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rtas publicadas en este mismo espacio, hemos podido leer opiniones muy dispares sobre el contenido de la película, marcadas por la polarización extrema que aún persiste en nuestra sociedad sobre temas políticos. Da gusto constatar que las variadas opiniones vertidas en estas cartas mantienen una visión de respeto por quienes piensan distinto, dejando de lado las descalificaciones e ironías tan propias de nuestra cultu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á que estamos empezando a aprender a conviv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RUI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3</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ropósito de la opinión de don Víctor Avilés Hernández en estas páginas, quisiera aportar la m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viví los hechos relatados en la película de Wood; seguramente ni siquiera estaba en los planes de mis padres. Pero afortunadamente ellos me traspasaron sus vivencias, sus historias y una tremenda capacidad crítica que me permite formarme una opinión sobre la époc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sorprende que una persona educada sea capaz de colocar sustantivos como oferta y demanda, en el mismo párrafo en el que pretende expresarse acerca de lo que él entiende como cultura. Esta no se fomenta; nace de los actos humanos, sean éstos cuales fueren, y financiados por quien lo financie. Un país donde es necesario fomentar la cultura, es un país que no la tiene, y yo no vivo en ese país. El Fondart y otras fuentes de asignación de recursos destinados al financiamiento de las artes tienen como trasfondo el papel subsidiario del Estado y el fomento de proyectos artísticos tras los cuales hay trabajo, aunque no sean del gusto de to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iendo al señor Avilés en su incomodidad y molestia. "Machuca", más que acrecentar el odio social, reabrir heridas o invitar a vivir separados protegiéndose los unos a los otros, nos muestra una mirada, subjetiva por esencia, de hechos que sucedieron en Chile, exagerados o minimizados, que harán a muchos recordar lo que hacían en esos días y de qué manera pusieron su granito de arena, sea promoviendo la vía armada para lograr sus objetivos, sea acaparando mercancías para desatar el caos, para que todo terminara en esos Hawker-Hunters sobrevolando Santiag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nto orgullo de que los impuestos que pago hayan permitido la exhibición de una obra de arte como la que pude ir a ver en compañía de mis padres. Sin duda, una película madura del cine chileno, paradójicamente protagonizada por niñ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andor de los protagonistas, su ingenuidad y miradas sólo me hacen pensar que buscar interpretaciones forzadas de una obra es sólo muestra de que los pilares sobre los cuales hemos construido nuestra propia visión de las cosas no son lo suficientemente sólidos, y, en este caso, argumenta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DRIGO FERRARI PRIET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recto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vista Tamb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4</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y el orgulloso padre de tres niños que participan en la película "Machuca", siendo el mayor de ellos uno de los protagonistas. Sin embargo le ahorraré a los lectores mi satisfacción como padre para referirme a la película. No somos una familia de farándula y si decidimos autorizar a nuestros hijos a participar en esta hermosa aventura fue porque la historia que Andrés Wood nos contó emocionado -misma emoción que logró plasmar bellamente en su filme- nos pareció que aportaría a desarrollar un diálogo más honesto y menos atrincherado sobre nuestra historia reciente, tal como lo es la visión de los niños.</a:t>
            </a:r>
            <a:br>
              <a:rPr sz="1400"/>
            </a:br>
            <a:br>
              <a:rPr sz="1400"/>
            </a:br>
            <a:r>
              <a:rPr b="0" lang="es-ES" sz="1400" spc="-1" strike="noStrike">
                <a:solidFill>
                  <a:srgbClr val="000000"/>
                </a:solidFill>
                <a:latin typeface="Arial"/>
              </a:rPr>
              <a:t>No nos equivocamos. Al escuchar y leer las críticas y por sobre todo las opiniones del público general, incluidas las Cartas al Director aparecidas en "El Mercurio", nos damos cuenta de que la película, además de ser un éxito comercial, ha desatado una ola de conversaciones donde hay miradas distintas y hasta contrapuestas, pero en general respetuosas de otras visiones. Creo que "Machuca" está haciendo una contribución significativa al diálogo y la reconciliación permitiéndonos mirar el pasado inmediato con ojos más limpios, de niño.</a:t>
            </a:r>
            <a:br>
              <a:rPr sz="1400"/>
            </a:br>
            <a:br>
              <a:rPr sz="1400"/>
            </a:br>
            <a:r>
              <a:rPr b="0" lang="es-ES" sz="1400" spc="-1" strike="noStrike">
                <a:solidFill>
                  <a:srgbClr val="000000"/>
                </a:solidFill>
                <a:latin typeface="Arial"/>
              </a:rPr>
              <a:t>Oportuno es decir que es recomendable ir a ver la película con niños y escucharlos hablar después, su mirada trae un aire fresco que nos ayuda y hace más fácil mirarnos, al menos a los que en esa época teníamos la edad que tienen los protagonistas (o más).</a:t>
            </a:r>
            <a:br>
              <a:rPr sz="1400"/>
            </a:br>
            <a:br>
              <a:rPr sz="1400"/>
            </a:br>
            <a:r>
              <a:rPr b="0" lang="es-ES" sz="1400" spc="-1" strike="noStrike">
                <a:solidFill>
                  <a:srgbClr val="000000"/>
                </a:solidFill>
                <a:latin typeface="Arial"/>
              </a:rPr>
              <a:t>SANTIAGO QUER CUE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5</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ser experto en el tema, me pareció una película técnicamente bien realizada; sin embargo, advertí en ella dos grandes ausentes:</a:t>
            </a:r>
            <a:br>
              <a:rPr sz="1800"/>
            </a:br>
            <a:br>
              <a:rPr sz="1800"/>
            </a:br>
            <a:r>
              <a:rPr b="0" lang="en-US" sz="1800" spc="-1" strike="noStrike">
                <a:solidFill>
                  <a:srgbClr val="000000"/>
                </a:solidFill>
                <a:latin typeface="Arial"/>
              </a:rPr>
              <a:t>1. "La clase media real de ese entonces", que luchaba por la existencia, por conseguir alimentar a sus hijos, darles salud y una escolaridad acorde con sus principios. En la película se presenta sólo una caricatura de esta clase, ocupada exclusivamente de valores hedonistas y muy corrupta.</a:t>
            </a:r>
            <a:br>
              <a:rPr sz="1800"/>
            </a:br>
            <a:br>
              <a:rPr sz="1800"/>
            </a:br>
            <a:r>
              <a:rPr b="0" lang="en-US" sz="1800" spc="-1" strike="noStrike">
                <a:solidFill>
                  <a:srgbClr val="000000"/>
                </a:solidFill>
                <a:latin typeface="Arial"/>
              </a:rPr>
              <a:t>2. "La presencia de Allende", asumiendo la responsabilidad que le cupiera sobre la situación imperante.</a:t>
            </a:r>
            <a:br>
              <a:rPr sz="1800"/>
            </a:br>
            <a:br>
              <a:rPr sz="1800"/>
            </a:br>
            <a:r>
              <a:rPr b="0" lang="en-US" sz="1800" spc="-1" strike="noStrike">
                <a:solidFill>
                  <a:srgbClr val="000000"/>
                </a:solidFill>
                <a:latin typeface="Arial"/>
              </a:rPr>
              <a:t>Pero, en realidad, lo que me movió a escribir es el convencimiento de que las injusticias y diferencia de oportunidades, que se observan crudamente en la película, aún están presentes en nuestra sociedad, y preguntarme públicamente qué es lo que voy a hacer yo para cooperar a la solución de esta grave situación.</a:t>
            </a:r>
            <a:br>
              <a:rPr sz="1800"/>
            </a:br>
            <a:br>
              <a:rPr sz="1800"/>
            </a:br>
            <a:r>
              <a:rPr b="0" lang="en-US" sz="1800" spc="-1" strike="noStrike">
                <a:solidFill>
                  <a:srgbClr val="000000"/>
                </a:solidFill>
                <a:latin typeface="Arial"/>
              </a:rPr>
              <a:t>GUSTAVO CANTIZANO ARA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6</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stuve en el Saint George's. No tuve compañeros Machuca. No he podido ver la película todaví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ero que lo anterior no me inhabilite para opinar, pues he leído muchos testimonios y cartas en los diarios y he participado de varias sobremesas con el tema de fondo: ¿fue buena o mala la integración de personas de origen socioeconómico distinto al tradicional del Saint Geor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me parece una mala idea la integración, aunque en el contexto que se hizo, de un extrema ideologización de la sociedad, da la impresión de que no fue del todo adecuada ni provech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 caso, me preocupa mucho más otro fenómeno, que es actual y del cual todavía no se hace ninguna película. Y no se trata de la integración a la fuerza, sino, todo lo contrario, de la segregación a como dé lugar, con colegios como ghettos o clubes sociales, donde ojalá todos los niños vengan de hogares, barrios o capillas ideológicas y religiosas lo más uniforme posible. Donde ojalá los niños no conozcan nada de lo que ocurre un poco más all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muy propio de una sociedad subdesarrollada, desconfiada y temer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aso la segregación y las visiones parciales del mundo no condicionan una educación de mala calidad si lo miramos desde el punto de vista integral de la formación de seres human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ÍAS DEL RÍO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ha ocurrido en estos últimos años, en Chile nuevamente se utiliza la figura de los militares para ser los malos de la pel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É NORAMBUENA VÉL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prendido he leído la carta de don Nicolás González en la que afirma no estar de acuerdo con la integración de los "niños pobres" a colegios de "niños ricos", pero sí apoya la situación contra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o que decir que nuestra sociedad no está preparada para eso, además de ser una sentencia absolutamente paternalista, es un err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 tuve la suerte de estudiar en un colegio (el San Ignacio) en el que existe un arancel diferenciado. Este consiste, básicamente, en que el alumno debe pagar un porcentaje de lo que ganan sus padres, no importando cuánto sea esto. En mi época creo que era entre 0 y 150% de la colegiatura. Así, cuando mis padres se vieron enfrentados a problemas monetarios yo no tuve que abandonar ni mi colegio ni a mis amigos ni mi formación. Además, los alumnos sabíamos que había quienes pagaban menos y quienes no pagaban (la verdad, es que nunca tuve muy claro quiénes eran y creo que a nadie le importó), y estoy seguro de que ninguno de los que obtuvieron este beneficio se siente menos ante sus compañeros o ante la sociedad. Creo que la sociedad sí está preparada para este tipo de iniciativas, y estoy seguro de que si se repitieran más, nuestro país sería más justo y sa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ISCO JAVIER VERA 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ción 92 Colegio San Ignac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ñor Director:</a:t>
            </a:r>
            <a:br>
              <a:rPr sz="1400"/>
            </a:br>
            <a:br>
              <a:rPr sz="1400"/>
            </a:br>
            <a:r>
              <a:rPr b="0" lang="en-US" sz="1400" spc="-1" strike="noStrike">
                <a:solidFill>
                  <a:srgbClr val="000000"/>
                </a:solidFill>
                <a:latin typeface="Arial"/>
              </a:rPr>
              <a:t>Siempre he creído que debe invertirse la forma en que se fomenta la cultura desde el Estado por la vía de financiar no la oferta sino la demanda.</a:t>
            </a:r>
            <a:br>
              <a:rPr sz="1400"/>
            </a:br>
            <a:br>
              <a:rPr sz="1400"/>
            </a:br>
            <a:r>
              <a:rPr b="0" lang="en-US" sz="1400" spc="-1" strike="noStrike">
                <a:solidFill>
                  <a:srgbClr val="000000"/>
                </a:solidFill>
                <a:latin typeface="Arial"/>
              </a:rPr>
              <a:t>De esa manera, al entregar recursos directamente a la gente, es ésta la que elige qué creación privilegiar. Así, se estimula la creatividad y diversidad cultural, evitando la tentación del poder de crear una cultura oficial.</a:t>
            </a:r>
            <a:br>
              <a:rPr sz="1400"/>
            </a:br>
            <a:br>
              <a:rPr sz="1400"/>
            </a:br>
            <a:r>
              <a:rPr b="0" lang="en-US" sz="1400" spc="-1" strike="noStrike">
                <a:solidFill>
                  <a:srgbClr val="000000"/>
                </a:solidFill>
                <a:latin typeface="Arial"/>
              </a:rPr>
              <a:t>Ahora bien, luego de ver Machuca y de cara a las próximas elecciones, mi convicción se acrecienta. Se trata de una película muy bien dirigida y actuada, con una fotografía excelente y una historia conmovedora. Es una película que muestra una visión de la realidad, acrecienta el odio social y reabre heridas, invitando a quienes ya tienen suficientes motivos torpes para vivir separados a protegerse los unos de los otros. El drama de esto no es la creación cultural de calidad, sino el financiamiento público de ella haciendo uso de recursos de todos, que deben destinarse al incremento de la unidad e identidad nacional, razón esencial de que el Estado destine fondos a la cultura.</a:t>
            </a:r>
            <a:br>
              <a:rPr sz="1400"/>
            </a:br>
            <a:br>
              <a:rPr sz="1400"/>
            </a:br>
            <a:r>
              <a:rPr b="0" lang="en-US" sz="1400" spc="-1" strike="noStrike">
                <a:solidFill>
                  <a:srgbClr val="000000"/>
                </a:solidFill>
                <a:latin typeface="Arial"/>
              </a:rPr>
              <a:t>Aún más, "Machuca", muy publicitada por un emocionado Gobierno, es un acto de propaganda electoral indirecta, que rompe cualquier posibilidad de igualdad y democracia, en un esquema donde por ley hoy existe limitación del gasto, donaciones y período de propaganda.</a:t>
            </a:r>
            <a:br>
              <a:rPr sz="1400"/>
            </a:br>
            <a:br>
              <a:rPr sz="1400"/>
            </a:br>
            <a:r>
              <a:rPr b="0" lang="en-US" sz="1400" spc="-1" strike="noStrike">
                <a:solidFill>
                  <a:srgbClr val="000000"/>
                </a:solidFill>
                <a:latin typeface="Arial"/>
              </a:rPr>
              <a:t>VÍCTOR MANUEL AVILÉS HERNÁNDE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haber visto la película "Machuca", quisiera referirme al tema de la integración social que hizo (o hace) el colegio Saint George, el cual ha sido recordado por algunos ex alumn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iero hacer presente que hay un colegio, silencioso, público y que es verdadero foco de luz de la nación, el que ha hecho la más grande integración social que ha tenido nuestro país, fortaleciendo en su momento a la hoy alicaída clase me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 refiero al Instituto Nacional General José Miguel Carrera, fundado en 1813, que ha hecho que muchos jóvenes puedan mirar el futuro con optimismo y confianza. Gracias a mi colegio estudio derecho en la Pontifica Universidad Católica, y es así como verdaderamente podemos hablar de igualdad de oport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LIPE ANDRÉS C.R. LIZAMA ALLEN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chuca 21</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1000" spc="-1" strike="noStrike">
                <a:solidFill>
                  <a:srgbClr val="000000"/>
                </a:solidFill>
                <a:latin typeface="Arial"/>
              </a:rPr>
              <a:t>Hace pocos días tuve la oportunidad de ver "Machuca", y debo reconocer que me asombró su calidad cinematográfica, guión, sonido e imagen, su fidelidad con la realidad de los hechos que narra y la extraordinaria capacidad actoral de sus jóvenes protagonistas. Lejos, la mejor película chilena que he visto hasta ahora.</a:t>
            </a:r>
            <a:br>
              <a:rPr sz="1000"/>
            </a:br>
            <a:br>
              <a:rPr sz="1000"/>
            </a:br>
            <a:r>
              <a:rPr b="0" lang="es-ES" sz="1000" spc="-1" strike="noStrike">
                <a:solidFill>
                  <a:srgbClr val="000000"/>
                </a:solidFill>
                <a:latin typeface="Arial"/>
              </a:rPr>
              <a:t>Inevitablemente, quienes vivimos esa época durante nuestra juventud debemos estar más proclives a recibir sus mensajes con una mirada distinta de quienes sólo la conocen por referencias históricas, más o menos sesgadas. Sin embargo, debo señalar que me impresionó el respeto y madurez con que los cientos de jóvenes y niños presentes en la sala disfrutaron de la película, lo que se vio confirmado con un silencio casi sepulcral a su término.</a:t>
            </a:r>
            <a:br>
              <a:rPr sz="1000"/>
            </a:br>
            <a:br>
              <a:rPr sz="1000"/>
            </a:br>
            <a:r>
              <a:rPr b="0" lang="es-ES" sz="1000" spc="-1" strike="noStrike">
                <a:solidFill>
                  <a:srgbClr val="000000"/>
                </a:solidFill>
                <a:latin typeface="Arial"/>
              </a:rPr>
              <a:t>Ciertamente deben haber quedado impactados, emocionados y, de seguro, motivados a reflexionar y actuar en torno a realidades que hasta hoy nos acompañan, lamentablemente, como son las divisiones sociales y económicas.</a:t>
            </a:r>
            <a:br>
              <a:rPr sz="1000"/>
            </a:br>
            <a:br>
              <a:rPr sz="1000"/>
            </a:br>
            <a:r>
              <a:rPr b="0" lang="es-ES" sz="1000" spc="-1" strike="noStrike">
                <a:solidFill>
                  <a:srgbClr val="000000"/>
                </a:solidFill>
                <a:latin typeface="Arial"/>
              </a:rPr>
              <a:t>Un mensaje alentador para ellos: no sólo el Colegio Saint George se ha destacado por intentar generar cambios en materia de integración. Con mucho orgullo puedo señalarles que desde hace más de un siglo mi colegio, el Instituto Nacional, ha venido marcando con su sello indeleble los destinos de muchos jóvenes que, provenientes de las más distintas realidades socioeconómicas, dentro de una filosofía laica y humanista tuvimos la posibilidad de acceder a la mejor educación, impartida por profesores de excelencia, generando lazos de camaradería y verdadera amistad que van más allá de la mera integración de mundos distintos, los que perduran por toda la vida. Un digno ejemplo de democracia y justicia social que se funden en el reconocimiento de nuestra condición de institutanos.</a:t>
            </a:r>
            <a:br>
              <a:rPr sz="1000"/>
            </a:br>
            <a:br>
              <a:rPr sz="1000"/>
            </a:br>
            <a:r>
              <a:rPr b="0" lang="es-ES" sz="1000" spc="-1" strike="noStrike">
                <a:solidFill>
                  <a:srgbClr val="000000"/>
                </a:solidFill>
                <a:latin typeface="Arial"/>
              </a:rPr>
              <a:t>LUIS MATURANA V.</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sideraciones final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mos presupuesto que una argumentación presupone una controversia. En este caso especial, es decir, en el caso de la película “Machuca”, podemos ver con más detalle todo lo que una argumentación impl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consideramos la sucesión de cartas, podemos ver que en todos ellas predomina el intento por determinar el “verdadero” significado de la película, lo que permitiría resolver la controvers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 de lograr este objetivo, se debe analizar la estructura de la argumentación y, en consecuencia, se deben respetar ciertos pasos metodológicos. En especial, establecer el punto de vista y las raz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sto no se respeta, el objetivo no se puede lograr y la argumentación puede extinguirse sin que se logre su resol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culiar, por decir lo menos, es la novedosa y radical propuesta de utilizar fondos públicos para promover el arte que tiene el lector Víctor Manuel Avilés Hernández.</a:t>
            </a:r>
            <a:br>
              <a:rPr sz="1800"/>
            </a:br>
            <a:br>
              <a:rPr sz="1800"/>
            </a:br>
            <a:r>
              <a:rPr b="0" lang="es-ES" sz="1800" spc="-1" strike="noStrike">
                <a:solidFill>
                  <a:srgbClr val="000000"/>
                </a:solidFill>
                <a:latin typeface="Arial"/>
              </a:rPr>
              <a:t>Pero lo que me parece que es realmente deplorable es la manera en que acusa de "propaganda cultural encubierta" a la recién estrenada película "Machuca", del director Andrés Wood.</a:t>
            </a:r>
            <a:br>
              <a:rPr sz="1800"/>
            </a:br>
            <a:br>
              <a:rPr sz="1800"/>
            </a:br>
            <a:r>
              <a:rPr b="0" lang="es-ES" sz="1800" spc="-1" strike="noStrike">
                <a:solidFill>
                  <a:srgbClr val="000000"/>
                </a:solidFill>
                <a:latin typeface="Arial"/>
              </a:rPr>
              <a:t>Si la excelente película fuese, como señala Avilés, propaganda del Gobierno en el momento preciso previo a las elecciones municipales, tendría que haber habido una intrincada trama detrás, puesto que la cinta fue filmada en 2003 y es una coproducción entre Chile, Inglaterra, Francia y España. Este último país, por ejemplo, en ese momento se encontraba en manos del PP José María Aznar.</a:t>
            </a:r>
            <a:br>
              <a:rPr sz="1800"/>
            </a:br>
            <a:br>
              <a:rPr sz="1800"/>
            </a:br>
            <a:r>
              <a:rPr b="0" lang="es-ES" sz="1800" spc="-1" strike="noStrike">
                <a:solidFill>
                  <a:srgbClr val="000000"/>
                </a:solidFill>
                <a:latin typeface="Arial"/>
              </a:rPr>
              <a:t>Lastimoso, me parece, buscarle a todo la quinta pata al gato en vez de disfrutar de la que va a ser probablemente la mejor película de este año.</a:t>
            </a:r>
            <a:br>
              <a:rPr sz="1800"/>
            </a:br>
            <a:br>
              <a:rPr sz="1800"/>
            </a:br>
            <a:r>
              <a:rPr b="0" lang="es-ES" sz="1800" spc="-1" strike="noStrike">
                <a:solidFill>
                  <a:srgbClr val="000000"/>
                </a:solidFill>
                <a:latin typeface="Arial"/>
              </a:rPr>
              <a:t>RAFAELA MERINO BIANC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3</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 los juicios expresados en esta misma sección respecto del financiamiento público de la película "Machuca", creo necesario informar que ésta fue financiada en un 40 % por capitales españoles, franceses e ingleses, 43% por empresas privadas chilenas (Chilefilms y Wood Producciones), 9 % por un fondo concursable internacional (Ibermedia) y sólo un 8% por fondos estatales (concurso Fondart y Corfo). "Machuca" recibió como aporte estatal lo mismo que han recibido la mayoría de las últimas producciones naciona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fue apoyada en su distribución por VTR, Bancoestado, El Mercurio, Euro RSCG, Hotel Neruda, Municipalidad de Santiago, Radio Cooperativa, Clear Channel, Canal 13 y otro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ía de los fondos estatales corresponden al concurso de Fondart del año 2003, donde una comisión de audiovisualistas, y no de políticos, seleccionó el proyect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amás he recibido por parte del Estado ni presiones ni recomendaciones sobre qué películas hacer, por lo que suponer que "Machuca" sea un acto de propaganda electoral indirecto me parece una conjetura mal intencionad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DRÉS WOO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4</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eñor Víctor Avilés (carta del domingo 8 de agosto) critica que la película "Machuca" haya obtenido fondos del concurso público Fondart para su realización y opina que debe "privilegiarse la demanda y no la oferta" para fomentar la cultura. Asimismo, considera la película como acto de "propaganda electoral indirecta" del Gobiern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de ver la película, comparto sus comentarios positivos en cuanto a la dirección, actuación, guión y estética y creo que estas virtudes son ya razones para que se adjudique el beneficio. Es lógico que una obra con contenido político presente la visión de la realidad de sus autores y que será recibida con diferentes ópticas por parte del público y no pienso que esa deba ser una objeción a su realización y concurs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además creo que justamente en este caso se "privilegia la demanda" de cultura. La demanda de una parte importante de la gente de la película "que faltaba" , de la película "que no había podido realizarse" por ausencia de posibilidad de "igualdad y democracia" que el señor Avilés alude como garantes de los actos que deben motivar la cultur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tengo objeción para que se apoye con recursos de mi aporte público iniciativas abiertas de alto nivel de calidad artística, especialmente después de años de oscurantismo cultur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TRICIO GONZÁLEZ 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5</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relación con la carta publicada el domingo 8 de agosto, no dejaré pasar la oportunidad de agradecerle al cineasta chileno Andrés Wood por hacerme pasar no sólo un momento de emoción, sino que de admiración profunda por el progreso del cine chileno en términos humanos y técnicos. Yo he trabajado mil veces con niños y sé lo difícil que es dirigirlos, y en esta ocasión sólo puedo decir que están notables. Cuando se olvida el tema de la fotografía, el sonido, la iluminación o la actuación, es maravilloso dejarse llevar por el relato de una histo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o, igual que el señor Víctor Manuel Avilés Hernández, he discrepado muchas veces por el mal uso de los fondos concursables; pero pensar que esta película tiene como objetivo un afán partidista o político me parece pintoresco, por decir lo menos. Parece que estamos hablando de diferentes películas, porque la que vi yo se trataba de la desigualdad en el trato humano; si mal no recuerdo, sólo en los últimos 10 minutos se muestran los feroces atropellos a los derechos humanos. Pero también vi las colas, el caos y la ingobernabilidad. Es por eso que con mis 32 años no puedo más que darle mil gracias a todo ese equipo por contarme una parte de la historia de Chile con maestría y talen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SCO MOULIA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r Ejecutivo Canal 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6</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abo de ver "Machuca", película que es un interesante retrato del momento histórico que pretende representar; sin embargo, incurre en una serie de "idealizaciones" alejadas de la realidad que me tocó vivir en el Saint George's College (SG) en dichos años. Las expongo con dolor y respeto por todos los involucrados, Father Whelan incluido, y con el ánimo de que no se afecte negativamente a otras generac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l grado de ideologización del proyecto pedagógico y formativo que se pretendió imponer a los alumnos en el SG fue extremo, cosa que he podido comprobar al conversar con egresados de colegios particulares de otras congregaciones religiosas. En ninguno de los otros casos que he conocido se trató de influir por vías tan radicales en las conciencias de los estudiantes. El "si no te gusta el SG colegio de iglesia, ándate a Tabancura colegio pituco" es anecdótico, pero cierto, y revela el grado de presión ejercida sobre los estudiantes que pensábamos distinto que la administración del coleg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No fueron sólo los padres y apoderados, sino que también nosotros los mismos alumnos quienes -formados en el espíritu crítico "Georgean"- nos opusimos en forma firme y organizada a los intentos de la administración del colegio por influir indebidamente en nuestras concienci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incorporación de alumnos de otra condición socioeconómica fue sólo una de las decisiones tomadas. Sin embargo, habiendo tenido estrecho contacto previo con el mundo campesino por el trabajo de mi padre agricultor, esto no fue algo nuevo para mí, y guardo buenos recuerdos de esta experiencia. Tuve buenos amigos entre los nuevos alumnos. Nunca vi violencia hacia ellos, ni tampoco la discriminación violenta que relata la película. Me ha sido grato reencontrarme en las reuniones anuales que hace nuestra promoción SG 75 con uno de ellos que es hoy un destacado ejecutivo financier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reo que el camino seguido en esos años por la Holy Cross Congregation fue errado, como lo fue el de varias congregaciones a las cuales les dio cargo de conciencia educar a una élite. Entre otras cosas, el haber solicitado leer la teología de la liberación (Camilo Torres, Ernesto Cardenal) en vez de haber estudiado, por ejemplo, la siempre actual Doctrina Social de la Iglesia, me parece hoy un error formativo. Aprecio la formación humana que recibí en el SG; sin embargo la formación doctrinal fue mal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odos los miembros de la congregación estuvieron de acuerdo con la reforma planteada. El Father Ted Huard, quien me confesaba de niño, prefirió ingresar al monasterio de los Trapenses, donde probablemente con su activa oración de monje impidió males mayores en el S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CORREA K., SG '7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7</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viví el Golpe. Tengo 27 años y crecí en una familia de derecha. Pero el domingo, mientras veía "Machuca", tuve mi propio golpe. A través de distintas escenas, cargadas de emotividad, logré vivir un momento histórico, aún no del todo enterrado, desde la perspectiva notable que Andrés Wood propus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tener la experiencia de haber estado ahí, sospecho que la extrema izquierda encontrará que es "un filme momio", y que los más derechistas la considerarán "una película comunacha". Pero, personalmente, creo que "Machuca" logró mostrar una realidad que Chile sufrió, sin intentar convencer a nadie de quién tenía la razón. Y presentó, a través de las vivencias del "pituco", no sólo el gran conflicto político, sino el eterno problema social de la desigualdad y la falta de oportunidades. En esa escena en que Tamara Acosta, magistralmente, cuenta cómo los pobres "siempre son los culpables", pude sentir la impotencia del que no tiene, y que sabe que probablemente nunca tendr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obra me hizo enorgullecerme del cine chileno, y creo que nos plantea a todos el desafío de encontrar soluciones para los miles de "Machucas" que existen en el Chile de ho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DRÉS HÖDAR DÍAZ</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eniero Civ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8</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 siento muy halagado por haber generado la pronta y clara respuesta de doña Rafaela Merino, Andrés Wood y Patricio González a mi carta denominada "Machuc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racia de la democracia es poder dialogar, sin crear dogmas donde no hace falta. No es un axioma el sistema actual de fomento del Estado a la oferta cultural. Es razonable plantear que el Estado financie no la oferta -donde un funcionario decide qué obra apoyar-, sino la demanda de cultura, permitiendo a las personas ver qué actividad cultural privilegian. Así, el poder vuelve a la gente y, de paso, se evita una cultura oficial o, al menos, la sospecha del "apitutamiento" que siempre pena. Ése es el sentido de mi carta anterior. No insinúo siquiera que antes de hacer la película el Gobierno haya pauteado a Wood. Sólo señalo que financiar la oferta antes de la creación puede generar espacio para que el funcionario opte por la película que más sirve al poder de turno, sin necesidad de presionar a nadi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bre "Machuca" comenté que me pareció una excelente película. Probablemente será muy vista y rentable. Por ello, me parece buena idea que en el esquema de subsidio a la oferta de cultura se estudie que deban devolverse fondos al Estado si una buena obra artística resulta comercialmente via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relación con el "acto electoral", no es la película la que llamo de esa manera, sino al desfile del Gobierno en pleno, emocionado hasta las lágrimas, llamando a verla por revivir una época, es decir, el darle a la obra un carácter de documental. Eso es un acto si no electoral, al menos con alcances políticos más allá de lo artístico. No se trata de buscar una conspiración ridícula donde hasta Aznar tendría que estar de acuerdo con hacerle daño a la derech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CTOR MANUEL AVILÉS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9:56:35Z</dcterms:created>
  <dc:creator>bibalumnos</dc:creator>
  <dc:description/>
  <dc:language>en-US</dc:language>
  <cp:lastModifiedBy>Instituto de Letras</cp:lastModifiedBy>
  <dcterms:modified xsi:type="dcterms:W3CDTF">2004-08-25T18:41:01Z</dcterms:modified>
  <cp:revision>5</cp:revision>
  <dc:subject/>
  <dc:title>ANALISIS DE PRENSA</dc:title>
</cp:coreProperties>
</file>