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00620-D3F1-498B-A3A2-E2488C4A4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3A157-4550-4259-9561-301117CE2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31381-F463-47CF-8B55-321D97C7B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707C4-9AA3-41CF-9E8E-98314D298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2626A-5D78-4B05-90E0-5BB69F10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E64D-6095-4BCF-A3E4-B70099C4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70FA-9406-4272-AFDF-020764395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305A2-F3E8-41F3-938C-C63A739F6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07CC2-AB78-44CE-AD6A-CB024EB6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8BF2-CF20-4674-855B-1727534B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A6E1-D7B6-4284-BF8B-65CF344A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D451-3403-457C-819F-026FA7C33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E20A-BCE0-48D2-BCCF-8D35F14EAFF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mbigüedad</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rcicios bre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alacias de anfibologi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Comentari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New York"/>
              </a:rPr>
              <a:t>  </a:t>
            </a:r>
            <a:r>
              <a:rPr b="0" lang="es-ES_tradnl" sz="3200" spc="-1" strike="noStrike">
                <a:solidFill>
                  <a:srgbClr val="000000"/>
                </a:solidFill>
                <a:latin typeface="New York"/>
              </a:rPr>
              <a:t>Las falacias de anfibología se producen especialmente en aquellas ocasiones en que es necesario comprimir información en pocas palabras.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1</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2" marL="1131480" indent="-226080">
              <a:lnSpc>
                <a:spcPct val="100000"/>
              </a:lnSpc>
              <a:spcBef>
                <a:spcPts val="601"/>
              </a:spcBef>
              <a:buClr>
                <a:srgbClr val="000000"/>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1)</a:t>
            </a:r>
            <a:r>
              <a:rPr b="0" lang="es-ES_tradnl" sz="2400" spc="-1" strike="noStrike">
                <a:solidFill>
                  <a:srgbClr val="000000"/>
                </a:solidFill>
                <a:latin typeface="New York"/>
              </a:rPr>
              <a:t>	</a:t>
            </a:r>
            <a:r>
              <a:rPr b="0" lang="es-ES_tradnl" sz="2400" spc="-1" strike="noStrike">
                <a:solidFill>
                  <a:srgbClr val="000000"/>
                </a:solidFill>
                <a:latin typeface="New York"/>
              </a:rPr>
              <a:t>[AVISO COMERCIAL] Nosotros permanecemos detrás de cada cama que vendemos.</a:t>
            </a:r>
            <a:endParaRPr b="0" lang="en-US" sz="2400" spc="-1" strike="noStrike">
              <a:solidFill>
                <a:srgbClr val="000000"/>
              </a:solidFill>
              <a:latin typeface="Times New Roman"/>
            </a:endParaRPr>
          </a:p>
          <a:p>
            <a:pPr lvl="2" marL="11314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2)</a:t>
            </a:r>
            <a:r>
              <a:rPr b="0" lang="es-ES_tradnl" sz="2400" spc="-1" strike="noStrike">
                <a:solidFill>
                  <a:srgbClr val="000000"/>
                </a:solidFill>
                <a:latin typeface="New York"/>
              </a:rPr>
              <a:t>	</a:t>
            </a:r>
            <a:r>
              <a:rPr b="0" lang="es-ES_tradnl" sz="2400" spc="-1" strike="noStrike">
                <a:solidFill>
                  <a:srgbClr val="000000"/>
                </a:solidFill>
                <a:latin typeface="New York"/>
              </a:rPr>
              <a:t>[CONSEJO ESTUDIANTIL] Si quieres saber lo que es el caos, </a:t>
            </a:r>
            <a:r>
              <a:rPr b="0" lang="es-ES_tradnl" sz="2400" spc="-1" strike="noStrike">
                <a:solidFill>
                  <a:srgbClr val="000000"/>
                </a:solidFill>
                <a:latin typeface="New York"/>
              </a:rPr>
              <a:t>	</a:t>
            </a:r>
            <a:r>
              <a:rPr b="0" lang="es-ES_tradnl" sz="2400" spc="-1" strike="noStrike">
                <a:solidFill>
                  <a:srgbClr val="000000"/>
                </a:solidFill>
                <a:latin typeface="New York"/>
              </a:rPr>
              <a:t>ven a las clases del profesor de Física.</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New York"/>
              </a:rPr>
              <a:t>3)</a:t>
            </a:r>
            <a:r>
              <a:rPr b="0" lang="es-ES_tradnl" sz="2400" spc="-1" strike="noStrike">
                <a:solidFill>
                  <a:srgbClr val="000000"/>
                </a:solidFill>
                <a:latin typeface="New York"/>
              </a:rPr>
              <a:t>	</a:t>
            </a:r>
            <a:r>
              <a:rPr b="0" lang="es-ES_tradnl" sz="2400" spc="-1" strike="noStrike">
                <a:solidFill>
                  <a:srgbClr val="000000"/>
                </a:solidFill>
                <a:latin typeface="New York"/>
              </a:rPr>
              <a:t>[REFRAN] Si UD. no va al funeral de otras personas, ellas no vendrán al suyo.</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AVISO EN  UN RESTAURANTE] Si UD. cree que los mozos son mal educados, vea al jef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AVISO EN UNA CLINICA]  Si UD. tiene problemas para quedar embarazada, visíteno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INFORME POLICIAL] La Policía informa que cada día es más </a:t>
            </a:r>
            <a:r>
              <a:rPr b="0" lang="en-US" sz="2400" spc="-1" strike="noStrike">
                <a:solidFill>
                  <a:srgbClr val="000000"/>
                </a:solidFill>
                <a:latin typeface="Times New Roman"/>
              </a:rPr>
              <a:t>	</a:t>
            </a:r>
            <a:r>
              <a:rPr b="0" lang="en-US" sz="2400" spc="-1" strike="noStrike">
                <a:solidFill>
                  <a:srgbClr val="000000"/>
                </a:solidFill>
                <a:latin typeface="Times New Roman"/>
              </a:rPr>
              <a:t>difícil realizar las investigaciones sobre los homicidios </a:t>
            </a:r>
            <a:r>
              <a:rPr b="0" lang="en-US" sz="2400" spc="-1" strike="noStrike">
                <a:solidFill>
                  <a:srgbClr val="000000"/>
                </a:solidFill>
                <a:latin typeface="Times New Roman"/>
              </a:rPr>
              <a:t>	</a:t>
            </a:r>
            <a:r>
              <a:rPr b="0" lang="en-US" sz="2400" spc="-1" strike="noStrike">
                <a:solidFill>
                  <a:srgbClr val="000000"/>
                </a:solidFill>
                <a:latin typeface="Times New Roman"/>
              </a:rPr>
              <a:t>porque las víctimas no desean coopera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Acento</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acento se producen especialmente por el uso de un lenguaje irón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UD. puede pensar como UD. quier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Times New Roman"/>
              </a:rPr>
              <a:t>	</a:t>
            </a:r>
            <a:r>
              <a:rPr b="0" lang="en-US" sz="3200" spc="-1" strike="noStrike">
                <a:solidFill>
                  <a:srgbClr val="000000"/>
                </a:solidFill>
                <a:latin typeface="Times New Roman"/>
              </a:rPr>
              <a:t>No perderé tiempo en leer su trabaj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se puede decir nada demasiado bueno de este lib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LACIAS DE EQUIVOCAC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ntario</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falacias de equivocación son las más recurrentes en una argumentación y son las más difíciles de detectar porque resultan invisibles al revisar la argumentación línea por línea. Para hacerlas explícitas es necesario poner atención a las sinónim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UD. cree en los milagros de la ciencia, tales como los aviones a propulsión a chorro, los trasplantes de órganos, la televisión, los antibióticos y los computadores, entonces también debería creer en los milagros de la Biblia.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i la ley norteamericana permite que el divorcio por incompatibilidad, entonces no entiendo por qué no se divorcian todos los norteamericanos. He conocido muchos matrimonios felices, pero nunca uno compatible. La razón es que la mujer y el hombre como tales son incompatible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 La obligación de la prensa es informar de todos los acontecimientos que son de interés para la opinión pública. No se puede negar que el escándalo en que se vio envuelto el diplomático inglés ha despertado el interés de la opinión pública. En consecuencia, la prensa no cumpliría con su deber si no informara sobre las intimidades del diplomátic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a:solidFill>
                  <a:srgbClr val="000000"/>
                </a:solidFill>
                <a:latin typeface="Times New Roman"/>
              </a:rPr>
              <a:t>	</a:t>
            </a:r>
            <a:r>
              <a:rPr b="0" lang="en-US" sz="1800" spc="-1" strike="noStrike">
                <a:solidFill>
                  <a:srgbClr val="000000"/>
                </a:solidFill>
                <a:latin typeface="Times New Roman"/>
              </a:rPr>
              <a:t>La naturaleza selecciona a los más aptos y destruye a los menos aptos, a fin de que éstos no contaminen la herencia genética de los más aptos. Si la naturaleza hace eso, es  evidente que se puede eliminar a los seres menos aptos de nuestra sociedad.</a:t>
            </a:r>
            <a:endParaRPr b="0" lang="en-US" sz="1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14:37:18Z</dcterms:created>
  <dc:creator>Instituto de Letras</dc:creator>
  <dc:description/>
  <dc:language>en-US</dc:language>
  <cp:lastModifiedBy>Universidad del Desarrollo</cp:lastModifiedBy>
  <dcterms:modified xsi:type="dcterms:W3CDTF">1970-01-15T20:06:08Z</dcterms:modified>
  <cp:revision>1</cp:revision>
  <dc:subject/>
  <dc:title>Falacias de ambigüedad</dc:title>
</cp:coreProperties>
</file>