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22C983-A67E-4F40-9B1C-6E1FE10013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60426-A6F3-46F6-B980-0D15AC829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C4024D-7995-4E61-A9EE-76592BF646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020D45-38DF-4F18-B4CB-B8CE328FC3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068C5-E887-493D-8A1D-87E19EDD7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16AA1-7CE4-45C7-B927-1CAD0EFAC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E9D86-2F82-4C71-9C66-49E42B54C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AC872-3D09-4581-A0D6-022509267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8DDB3-1C82-41D1-BD5B-51B02D02B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371EC-3ADE-4D12-AA1B-33A1A39C8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BAAC5-4498-4136-9C48-68D7E3992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C146A-3636-4805-A245-44A9EB7C11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CE122-F1A9-45CB-A949-F86405A28BEF}"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Análisis de prensa 2</a:t>
            </a:r>
            <a:endParaRPr b="0" lang="en-US" sz="4400" spc="-1" strike="noStrike">
              <a:solidFill>
                <a:srgbClr val="ffff99"/>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álisis de falaci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FERIADO 1</a:t>
            </a:r>
            <a:endParaRPr b="0" lang="en-US" sz="4400" spc="-1" strike="noStrike">
              <a:solidFill>
                <a:srgbClr val="ffff99"/>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chocolate del loro</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Mercurio 2/09/04)</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Señor Director:</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 propósito de feriados. "No se construyen grandes países" estableciendo impuestos desmedidos, rigidizando el mercado laboral, regulando las actividades nacionales, forzando un cambio cultural desde el Estado y con políticas públicas en general estatistas. Por el contrario, así se incrementa la cesantía, se desalienta la inversión y se reduce el crecimiento de la economía interna a menos del 2%, confiando el resto al auge exportador que depende de los vaivenes de los precios de nuestros commodities y de la demanda externa, lo que encierra serios peligros en el tiemp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JOSÉ MUSALEM SAFFI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FERIADO 2</a:t>
            </a:r>
            <a:endParaRPr b="0" lang="en-US" sz="4400" spc="-1" strike="noStrike">
              <a:solidFill>
                <a:srgbClr val="ffff99"/>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ropósito de feriados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ñor Directo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s días 25 de diciembre de 2004 y 1 de diciembre de 2005 caen en día sábado. Para evitarse y evitarnos bochornos de última hora, ¿sería posible que los señores parlamentarios discutieran desde ya el traslado de dichos feriado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RNARDITA TORR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FERIADO 3</a:t>
            </a:r>
            <a:endParaRPr b="0" lang="en-US" sz="4400" spc="-1" strike="noStrike">
              <a:solidFill>
                <a:srgbClr val="ffff99"/>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eque de feriados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ñor Directo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 que estamos por hacer trueque de feriados, ¿por qué no se decretan feriados los próximos 17 y 20 de septiembre y se canjean por el 29 de febrero de 2008 y de 201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veo el problema de quitarles un día a los años a los que justamente les sobra un día.</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IO CÓRDOVA PÉREZ</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LEGADO DE PINOCHET 1</a:t>
            </a:r>
            <a:endParaRPr b="0" lang="en-US" sz="4400" spc="-1" strike="noStrike">
              <a:solidFill>
                <a:srgbClr val="ffff99"/>
              </a:solidFill>
              <a:latin typeface="Arial"/>
            </a:endParaRPr>
          </a:p>
        </p:txBody>
      </p:sp>
      <p:sp>
        <p:nvSpPr>
          <p:cNvPr id="50"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Señor Director:</a:t>
            </a: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Tras el desafuero del general Pinochet por la Corte Suprema, en una estrecha votación, algunos querrían sellar definitivamente el juicio de la historia a su gobierno con un fallo "condenatorio". Los más generosos entre sus detractores, en el mejor de los casos, estarán dispuestos a concederle el que su gobierno haya sentado las bases del modelo económico que tantas alabanzas ha merecido en el mundo entero.</a:t>
            </a: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o el legado del general Pinochet y de su gobierno es mucho más que eso. El éxito del modelo económico es sólo una cara de una revolución mucho más profunda: esa revolución silenciosa que cambió radicalmente la actitud de los chilenos frente a su propia realización material y espiritual. Sí, el cambio más profundo que generó su administración fue el sociocultural. Tuvo que ver con la forma en que se plantea cada persona frente a la sociedad y al Estado. Las profundas reformas introducidas por su gobierno apuntaron a devolver la fe en el individuo, en su iniciativa y capacidad de emprendimiento, en la riqueza, diversidad y potencialidad que hay en una sociedad que pone al Estado al servicio del individuo, y no viceversa.</a:t>
            </a: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Todas las transformaciones que lideró Pinochet tuvieron ese sello. En el plano económico nos entregó un país con un mercado transparente, altas tasas de crecimiento, una inflación controlada y una sana política fiscal y financiera. Se dotó al país de una institucionalidad confiable, con un Banco Central autónomo, un sólido derecho de propiedad y un marco legal atractivo para la inversión extranjera, particularmente en la minería. La rebaja unilateral de aranceles abrió el país al comercio mundial, iniciando un camino que ha situado a Chile como un socio comercial atractivo y confiable. En materia laboral, el país dio un salto cualitativo con el nuevo régimen de negociación colectiva y una regulación que favorecía la creación de nuevos empleos. En el plano de las políticas sociales, se ideó un sistema de pensiones que hasta el día de hoy es imitado en todo el mundo. En educación se avanzó significativamente con la municipalización de las escuelas públicas y el sistema de subvenciones, lo que permitió hacer realidad tanto la libertad de enseñanza como el derecho de los padres a escoger la educación para sus hijos.</a:t>
            </a: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Son muchos los avances que no tienen espacio en esta columna. Tal vez hoy muchas de las medidas adoptadas nos parecen obvias; en su momento, sin embargo, llevarlas adelante implicó un gran liderazgo y visión de futuro. El gran legado de Pinochet es haber introducido en Chile las reformas legales e institucionales que permitieron un profundo cambio de actitud y mentalidad de los chilenos frente al desarrollo. Sin duda que ese cambio ha favorecido nuestra capacidad como individuos y como país para enfrentar adecuadamente el mundo exigente y competitivo que nos plantea la globalización. Si hoy podemos sentirnos orgullosos de eso, es en buena medida gracias a la obra de su gobierno. Estoy seguro de que la historia no lo olvidará.</a:t>
            </a: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ARCO A. CARIOL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LEGADO DE PINOCHET 2</a:t>
            </a:r>
            <a:endParaRPr b="0" lang="en-US" sz="4400" spc="-1" strike="noStrike">
              <a:solidFill>
                <a:srgbClr val="ffff99"/>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eñor Director:</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tiempo constituye uno de los grandes aliados que poseen la justicia y la verdad. Sólo el tiempo permite dar a conocer verdades que se pretende mantener ocultas. Gracias al tiempo muchas personas podrán ver sus errores y arrepentirse. Por ende, mientras más tiempo pase la figura de Pinochet continuará con el progresivo deterioro que hasta ahora se ha producido. En 50 o 60 años más los chilenos se darán cuenta de la verdadera historia del régimen militar, de las atrocidades cometidas, y tomarán como suyo el juicio público internacional que se ha hecho acerca de Augusto Pinochet y que aún no vemo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arlos Mánquez Aray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L LAVINISMO</a:t>
            </a:r>
            <a:endParaRPr b="0" lang="en-US" sz="4400" spc="-1" strike="noStrike">
              <a:solidFill>
                <a:srgbClr val="ffff99"/>
              </a:solidFill>
              <a:latin typeface="Arial"/>
            </a:endParaRPr>
          </a:p>
        </p:txBody>
      </p:sp>
      <p:sp>
        <p:nvSpPr>
          <p:cNvPr id="54"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fontScale="99000"/>
          </a:bodyPr>
          <a:p>
            <a:pPr marL="339480" indent="-3394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vín versus el lavinismo </a:t>
            </a:r>
            <a:endParaRPr b="0" lang="en-US" sz="1200" spc="-1" strike="noStrike">
              <a:solidFill>
                <a:srgbClr val="ffffff"/>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Señor Director:</a:t>
            </a:r>
            <a:endParaRPr b="0" lang="en-US" sz="1200" spc="-1" strike="noStrike">
              <a:solidFill>
                <a:srgbClr val="ffffff"/>
              </a:solidFill>
              <a:latin typeface="Arial"/>
            </a:endParaRPr>
          </a:p>
          <a:p>
            <a:pPr marL="339480" indent="-3394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 dos meses de la antesala electoral para las presidenciales de 2005, se abre una gran encrucijada para el abanderado opositor Joaquín Lavín.</a:t>
            </a:r>
            <a:endParaRPr b="0" lang="en-US" sz="1200" spc="-1" strike="noStrike">
              <a:solidFill>
                <a:srgbClr val="ffffff"/>
              </a:solidFill>
              <a:latin typeface="Arial"/>
            </a:endParaRPr>
          </a:p>
          <a:p>
            <a:pPr marL="339480" indent="-3394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alambicado escenario que se le presenta al alcalde de Santiago no está dado por los cinco años que lleva como candidato presidencial y el consiguiente desgaste que eso significa. Tampoco tiene su origen en la eclosión de las ministras Bachelet y Alvear ni en los sondeos que lo notifican a la baja en estos últimos seis meses.</a:t>
            </a:r>
            <a:endParaRPr b="0" lang="en-US" sz="1200" spc="-1" strike="noStrike">
              <a:solidFill>
                <a:srgbClr val="ffffff"/>
              </a:solidFill>
              <a:latin typeface="Arial"/>
            </a:endParaRPr>
          </a:p>
          <a:p>
            <a:pPr marL="339480" indent="-3394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gran desafío que se le presenta al líder gremialista de cara a estos dos procesos eleccionarios es superar la incapacidad que ha tenido para "reinventarse" como el candidato del cambio. Lo que el 99 fue una gran marca registrada que lo llevó a una impensada segunda vuelta frente al actual Presidente Lagos, hoy se está transformando en una pesada mochila que carga sobre sus hombros.</a:t>
            </a:r>
            <a:endParaRPr b="0" lang="en-US" sz="1200" spc="-1" strike="noStrike">
              <a:solidFill>
                <a:srgbClr val="ffffff"/>
              </a:solidFill>
              <a:latin typeface="Arial"/>
            </a:endParaRPr>
          </a:p>
          <a:p>
            <a:pPr marL="339480" indent="-3394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cambio que nos ofrece el presidenciable desde esa fecha ya no le pertenece exclusivamente a él. Sus conceptos de "los problemas reales, las necesidades de la gente y un político no tradicional" ya le fueron plagiados y en la actualidad son vendidos en el mercado electoral por diversos comerciantes ambulantes, lo que cruza a todo el crisol.</a:t>
            </a:r>
            <a:endParaRPr b="0" lang="en-US" sz="1200" spc="-1" strike="noStrike">
              <a:solidFill>
                <a:srgbClr val="ffffff"/>
              </a:solidFill>
              <a:latin typeface="Arial"/>
            </a:endParaRPr>
          </a:p>
          <a:p>
            <a:pPr marL="339480" indent="-3394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nueva forma de hacer política" que nos planteó el abanderado de la Alianza por Chile está replicado a gran escala, lo que sin duda es el gran mérito que logró el edil: hacer del cambio un fenómeno.</a:t>
            </a:r>
            <a:endParaRPr b="0" lang="en-US" sz="1200" spc="-1" strike="noStrike">
              <a:solidFill>
                <a:srgbClr val="ffffff"/>
              </a:solidFill>
              <a:latin typeface="Arial"/>
            </a:endParaRPr>
          </a:p>
          <a:p>
            <a:pPr marL="339480" indent="-3394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o la fórmula se agotó y a los ciudadanos ya no les importa comprar la producción original o la plagiada, de lo que surge la imperiosa necesidad de Lavín y sus asesores de hacer un relanzamiento de su eslogan, pero no como mero precepto de marketing, sino que sustentado en un valor agregado que le permita obtener el 3% de utilidades que requiere para alcanzar la mayoría el próximo año y sentarse en La Moneda.</a:t>
            </a:r>
            <a:endParaRPr b="0" lang="en-US" sz="1200" spc="-1" strike="noStrike">
              <a:solidFill>
                <a:srgbClr val="ffffff"/>
              </a:solidFill>
              <a:latin typeface="Arial"/>
            </a:endParaRPr>
          </a:p>
          <a:p>
            <a:pPr marL="339480" indent="-3394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se valor agregado dice relación con el compromiso real de la derecha de hacer un programa de gobierno que enfatice un rictus social, eficiente y profundo, al modelo económico. La oposición no puede continuar con el discurso del crecimiento económico per se y el chorreo ipso facto. Ahora se necesitan planteamientos concretos que terminen con las desigualdades en educación, salud, remuneraciones y bienestar.</a:t>
            </a:r>
            <a:endParaRPr b="0" lang="en-US" sz="1200" spc="-1" strike="noStrike">
              <a:solidFill>
                <a:srgbClr val="ffffff"/>
              </a:solidFill>
              <a:latin typeface="Arial"/>
            </a:endParaRPr>
          </a:p>
          <a:p>
            <a:pPr marL="339480" indent="-3394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lavinismo ya no es novedad y el concepto de cambio está raído. En consecuencia, Lavín debe reimpulsar su campaña con nuevas ideas si no quiere terminar como el Dr. Frankenstein, a quien lo terminó destruyendo su propia criatura.</a:t>
            </a:r>
            <a:endParaRPr b="0" lang="en-US" sz="1200" spc="-1" strike="noStrike">
              <a:solidFill>
                <a:srgbClr val="ffffff"/>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arlos Cuadrado 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2T20:40:43Z</dcterms:created>
  <dc:creator>bibalumnos</dc:creator>
  <dc:description/>
  <dc:language>en-US</dc:language>
  <cp:lastModifiedBy>Universidad del Desarrollo</cp:lastModifiedBy>
  <dcterms:modified xsi:type="dcterms:W3CDTF">1970-01-12T14:00:11Z</dcterms:modified>
  <cp:revision>4</cp:revision>
  <dc:subject/>
  <dc:title>Análisis de prensa 2</dc:title>
</cp:coreProperties>
</file>