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13106-5D89-4927-8C4B-04F3B6C12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6650E-BAB0-48FC-A858-FEED4B7B9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D4372-9034-4F3F-A0CF-A237FCBC4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216B3-7B52-462A-B6BA-FDD332115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35880-17AE-4C5D-9DE6-EB061C720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9BE75-69CE-42D7-AA91-882354E28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D6E1-587C-4ABA-B784-0B2010EBF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61BF5-DD31-48BC-9E82-3C0274B4C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846FE-AAA6-43D4-8D17-48D65CE1C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7EC0F-8905-4E26-A809-E1287DC75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0F31E-1BB6-4551-9F47-0FD2285FA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BC137-E33E-4AD6-AF81-B6269A87F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0C3D-7E76-48A1-B199-BB16C5C06C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A CARTAS DE CREDITO BANCARIA</a:t>
            </a:r>
            <a:r>
              <a:rPr b="0" lang="es-ES" sz="2000" spc="-1" strike="noStrike">
                <a:solidFill>
                  <a:srgbClr val="ffff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8000" y="4384800"/>
            <a:ext cx="8931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síntesis, según se puede observar de la simple enumeración de las menciones  que usualmente contiene una Carta de Crédito, se trata de representar del mejor modo  posible, las principales cláusulas del Contrato de Compraventa.</a:t>
            </a:r>
            <a:endParaRPr b="0" lang="en-US" sz="1800" spc="-1" strike="noStrike">
              <a:solidFill>
                <a:srgbClr val="000000"/>
              </a:solidFill>
              <a:latin typeface="Times New Roman"/>
            </a:endParaRPr>
          </a:p>
        </p:txBody>
      </p:sp>
      <p:sp>
        <p:nvSpPr>
          <p:cNvPr id="73"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74" name=""/>
          <p:cNvSpPr/>
          <p:nvPr/>
        </p:nvSpPr>
        <p:spPr>
          <a:xfrm>
            <a:off x="611280" y="1052640"/>
            <a:ext cx="8391600" cy="3221640"/>
          </a:xfrm>
          <a:prstGeom prst="rect">
            <a:avLst/>
          </a:prstGeom>
          <a:noFill/>
          <a:ln w="0">
            <a:noFill/>
          </a:ln>
        </p:spPr>
        <p:style>
          <a:lnRef idx="0"/>
          <a:fillRef idx="0"/>
          <a:effectRef idx="0"/>
          <a:fontRef idx="minor"/>
        </p:style>
        <p:txBody>
          <a:bodyPr lIns="90000" rIns="90000" tIns="46800" bIns="46800" anchor="t">
            <a:spAutoFit/>
          </a:bodyPr>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mbarques parciale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rmit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rohib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ransbor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rmit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rohib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diciones especiales.</a:t>
            </a: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Forma de pago del cliente al Ban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esta manera, por la vía de copiar dichas cláusulas, esta orden de pago bancaria, que es la Carta de Crédito, protegerá en la práctica tanto al Comprador como al Vendedor.   En efecto, en la medida en que las instrucciones otorgadas al Banco sean claras, precisas y simples, y que, por lo tanto dichas instrucciones representen de un modo fiel las intenciones y el entendimiento de exportador e importador, en esa misma medida se estará garantizando a uno y otro que el pago de la mercadería se efectuará sólo y cuando se cumpla fielmente con los términos pactados.  Esto es,  el Vendedor, que ahora  pasa a ser exportador, o, mejor dicho, Beneficiario, tendrá la seguridad que recibirá el pago en el momento en que presente los Documentos de Embarque emitidos correcta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imismo, el Comprador, que ahora pasa a ser importador o, mejor dicho, Ordenante, tendrá la seguridad que se pagará el precio, sólo y cuando se cumpla con todas las instrucciones indicadas por él y que, por lo tanto, la mercadería que recibirá en definitiva, es la misma que compró.</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hora bien, a riesgo de ser excesivamente reiterativo, la Carta de Crédito es un instrumento de pago que si bien nace como consecuencia de un Contrato de Compraventa Internacional, es independiente y se separa de él. Los Bancos no pueden considerar el Contrato de Compraventa para los efectos de interpretar las Cartas de Crédito.</a:t>
            </a:r>
            <a:endParaRPr b="0" lang="en-US" sz="1800" spc="-1" strike="noStrike">
              <a:solidFill>
                <a:srgbClr val="000000"/>
              </a:solidFill>
              <a:latin typeface="Times New Roman"/>
            </a:endParaRPr>
          </a:p>
        </p:txBody>
      </p:sp>
      <p:sp>
        <p:nvSpPr>
          <p:cNvPr id="77"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08000" y="981000"/>
            <a:ext cx="89312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cuerdo con la definición que hemos elaborado, y que se menciona más atrás en este Capítulo, se pueden resumir los principales elementos que definen a la institución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Orden de pago bancar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gún se establece la definición  de las Reglas y Usos Uniformes cumpliéndose los requisitos del caso, el Banco Emisor se obliga a pagar o a hacer pagar a un tercero el valor indicado en la misma Carta de Crédi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ale decir, ya no es el comprador obligado al pago sino que esta obligación recae  sobre el Banco que emite este docu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Se emite a petición d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bancos comerciales no emiten Cartas de Crédito sin que exista alguna cau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 causa usualmente consiste en la petición que les hace su cliente y la posterior aceptación del mismo banco que se transforma en la emisión de la Orden de Pago en sí misma.</a:t>
            </a:r>
            <a:endParaRPr b="0" lang="en-US" sz="1800" spc="-1" strike="noStrike">
              <a:solidFill>
                <a:srgbClr val="000000"/>
              </a:solidFill>
              <a:latin typeface="Times New Roman"/>
            </a:endParaRPr>
          </a:p>
        </p:txBody>
      </p:sp>
      <p:sp>
        <p:nvSpPr>
          <p:cNvPr id="80"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í pues, se produce una especie de doble línea de relaciones comerciales y jurídicas. Por un lado, frente al tercero o Beneficiario es una obligación solamente del banco, quien, una vez abierta no puede excusar su pago so pretexto que haya variado su relación con el cliente que requirió la Carta de Crédito. Por otro lado, entre el cliente ordenante y el Banco Emisor, existen diversas relaciones financieras y crediticias, que se mantienen incluso después que la Carta de Crédito ha vencido y que el Banco ha pagado al Beneficiario. En efecto, al final de cuentas, quien está obligado al pago final es el Ordenante y el Banco Emisor tiene acción para proceder al cobro de los valores pagados a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generalmente irrevoc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cuerdo con las disposiciones del artículo 6 de las Reglas y Usos Uniformes, los créditos pueden ser revocables o irrevocables. Todo crédito deberá, por consiguiente, indicar en forma clara si es revocable o irrevocable. A falta de tal indicación, el crédito  será considerado irrevoc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pesar de lo anterior, lo usual es que las partes convengan que las Cartas de Crédito sean irrevocables.</a:t>
            </a:r>
            <a:endParaRPr b="0" lang="en-US" sz="1800" spc="-1" strike="noStrike">
              <a:solidFill>
                <a:srgbClr val="000000"/>
              </a:solidFill>
              <a:latin typeface="Times New Roman"/>
            </a:endParaRPr>
          </a:p>
        </p:txBody>
      </p:sp>
      <p:sp>
        <p:nvSpPr>
          <p:cNvPr id="83"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08000" y="981000"/>
            <a:ext cx="89312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a orden de pago condi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mismo artículo 9 establece que este compromiso en firme para el Banco Emisor, lo es en la medida en que los documentos  estipulados hayan sido presentados al banco emisor y que los términos y condiciones del crédito sean respetad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esta manera, se concluye que la Carta de Crédito no es una orden de pago pura y simple. El beneficiario debe presentar los documentos requeridos, en las condiciones y  términos estipulados en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r su lado, el artículo 13 establece que los bancos deben examinar todos los          documentos con cuidado razonable para comprobar que parecen </a:t>
            </a:r>
            <a:r>
              <a:rPr b="1" lang="es-ES" sz="1800" spc="-1" strike="noStrike">
                <a:solidFill>
                  <a:srgbClr val="ffff00"/>
                </a:solidFill>
                <a:latin typeface="Comic Sans MS"/>
              </a:rPr>
              <a:t>aparentemente </a:t>
            </a:r>
            <a:r>
              <a:rPr b="0" lang="es-ES" sz="1800" spc="-1" strike="noStrike">
                <a:solidFill>
                  <a:srgbClr val="ffff00"/>
                </a:solidFill>
                <a:latin typeface="Comic Sans MS"/>
              </a:rPr>
              <a:t>(la norma antigua usaba la frase</a:t>
            </a:r>
            <a:r>
              <a:rPr b="1" lang="es-ES" sz="1800" spc="-1" strike="noStrike">
                <a:solidFill>
                  <a:srgbClr val="ffff00"/>
                </a:solidFill>
                <a:latin typeface="Comic Sans MS"/>
              </a:rPr>
              <a:t> a primera vista</a:t>
            </a:r>
            <a:r>
              <a:rPr b="0" lang="es-ES" sz="1800" spc="-1" strike="noStrike">
                <a:solidFill>
                  <a:srgbClr val="ffff00"/>
                </a:solidFill>
                <a:latin typeface="Comic Sans MS"/>
              </a:rPr>
              <a:t>) estar de  acuerdo con los términos y las condiciones del crédito. La aparente conformidad de los documentos se determinará en base a las prácticas bancarias internacionales tal como se recogen en los presentes artícul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grega la misma norma que los documentos que, </a:t>
            </a:r>
            <a:r>
              <a:rPr b="1" lang="es-ES" sz="1800" spc="-1" strike="noStrike">
                <a:solidFill>
                  <a:srgbClr val="ffff00"/>
                </a:solidFill>
                <a:latin typeface="Comic Sans MS"/>
              </a:rPr>
              <a:t>en apariencia, no concuerden entre sí, serán considerados como que no están, aparentemente, de acuerdo con los términos y las condiciones  del crédito</a:t>
            </a:r>
            <a:r>
              <a:rPr b="0" lang="es-ES" sz="1800" spc="-1" strike="noStrike">
                <a:solidFill>
                  <a:srgbClr val="ffff00"/>
                </a:solidFill>
                <a:latin typeface="Comic Sans MS"/>
              </a:rPr>
              <a:t>.</a:t>
            </a:r>
            <a:endParaRPr b="0" lang="en-US" sz="1800" spc="-1" strike="noStrike">
              <a:solidFill>
                <a:srgbClr val="000000"/>
              </a:solidFill>
              <a:latin typeface="Times New Roman"/>
            </a:endParaRPr>
          </a:p>
        </p:txBody>
      </p:sp>
      <p:sp>
        <p:nvSpPr>
          <p:cNvPr id="86"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bancos disponen de un plazo razonable, no superior a 7 días hábiles bancarios a partir de la fecha de recepción de los documentos para examinarlos y decidir si los aceptan o rechazan y notificar su decisión a la parte de quien los haya recib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i el banco emisor determina que aparentemente, los documentos no están de acuerdo con los términos y condiciones podrá por propia iniciativa, ponerse en contacto con el ordenante para obtener su conformidad a pesar de las discrepancias.  Este trámite no ampliará, sin embargo, el período de 7 días hábiles bancarios para examinar los document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importantísimo para todos los exportadores, tener conciencia de que se debe cumplir con todas y cada una de las estipulaciones de la Carta de Crédito, </a:t>
            </a:r>
            <a:r>
              <a:rPr b="1" lang="es-ES" sz="1800" spc="-1" strike="noStrike">
                <a:solidFill>
                  <a:srgbClr val="ffff00"/>
                </a:solidFill>
                <a:latin typeface="Comic Sans MS"/>
              </a:rPr>
              <a:t>letra a letra</a:t>
            </a:r>
            <a:r>
              <a:rPr b="0" lang="es-ES" sz="1800" spc="-1" strike="noStrike">
                <a:solidFill>
                  <a:srgbClr val="ffff00"/>
                </a:solidFill>
                <a:latin typeface="Comic Sans MS"/>
              </a:rPr>
              <a:t>, con el objeto de evitar el rechazo de los documentos por causa de discrepancias  y la consecuente falta de pago.</a:t>
            </a:r>
            <a:endParaRPr b="0" lang="en-US" sz="1800" spc="-1" strike="noStrike">
              <a:solidFill>
                <a:srgbClr val="000000"/>
              </a:solidFill>
              <a:latin typeface="Times New Roman"/>
            </a:endParaRPr>
          </a:p>
        </p:txBody>
      </p:sp>
      <p:sp>
        <p:nvSpPr>
          <p:cNvPr id="89"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08000" y="981000"/>
            <a:ext cx="8931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 instrumento de pago form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 quiere decir, según establece el artículo 4 de las Reglas y Usos, que en las operaciones de crédito todas las partes que intervienen negocian sobre documentos y no sobre mercancías, servicios y/u otras prestaciones que puedan tener relación con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e principio es consecuencia del anterior, en cuanto, los bancos no son partícipes del Contrato de Compraventa ni de las relaciones comerciales entre Ordenante y beneficiario de la Carta de Crédito. Los bancos sólo cumplen con emitir esta orden de pago condicional, de acuerdo con lo solicitado con el ordenante donde sólo se revisan  los documentos de embarque que </a:t>
            </a:r>
            <a:r>
              <a:rPr b="1" lang="es-ES" sz="1800" spc="-1" strike="noStrike">
                <a:solidFill>
                  <a:srgbClr val="ffff00"/>
                </a:solidFill>
                <a:latin typeface="Comic Sans MS"/>
              </a:rPr>
              <a:t>aparentemente</a:t>
            </a:r>
            <a:r>
              <a:rPr b="0" lang="es-ES" sz="1800" spc="-1" strike="noStrike">
                <a:solidFill>
                  <a:srgbClr val="ffff00"/>
                </a:solidFill>
                <a:latin typeface="Comic Sans MS"/>
              </a:rPr>
              <a:t> cumplan co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hí que los artículos 15 a 18 de las Reglas y Usos Uniformes establecen que los bancos no asumen ninguna obligación ni responsabilidad por hechos tales como la exactitud, autenticidad, falsificación de los documentos; o por otros hechos derivados de transmisiones de mensajes erróneos o incompletos, o por interrupciones de su propia actividad derivadas de casos fortuitos. </a:t>
            </a:r>
            <a:endParaRPr b="0" lang="en-US" sz="1800" spc="-1" strike="noStrike">
              <a:solidFill>
                <a:srgbClr val="000000"/>
              </a:solidFill>
              <a:latin typeface="Times New Roman"/>
            </a:endParaRPr>
          </a:p>
        </p:txBody>
      </p:sp>
      <p:sp>
        <p:nvSpPr>
          <p:cNvPr id="92"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a orden de pago tempor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se expresa más adelante en este mismo Capítulo, las Cartas de Crédito deben establecer una fecha última de vencimi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be establecerse un plazo para la presentación de los documentos, a contar de la fecha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independiente del Contr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3 de las Reglas y Usos Uniformes, establece que los créditos son, por su naturaleza, operaciones comerciales independientes de la venta o de cualquier otro Contrato(s) en los que puedan estar basados, los que, en ningún caso, afectarán ni obligarán a los bancos, aun cuando el crédito contenga alguna referencia a tal Contrato, y  cualquiera que sea esta referenc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 norma es consecuencia  de los principios  de formalidad y de condicionalidad, señalados más atrá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í, la Carta de Crédito se hace absolutamente independiente y se separa del Contrato que le dio origen. Los bancos no pueden considerarlo de ninguna manera.</a:t>
            </a:r>
            <a:endParaRPr b="0" lang="en-US" sz="1800" spc="-1" strike="noStrike">
              <a:solidFill>
                <a:srgbClr val="000000"/>
              </a:solidFill>
              <a:latin typeface="Times New Roman"/>
            </a:endParaRPr>
          </a:p>
        </p:txBody>
      </p:sp>
      <p:sp>
        <p:nvSpPr>
          <p:cNvPr id="95"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e principio es extraordinariamente importante y, por desgracia, a veces no bien comprendido  por quienes participan en operaciones de comercio interna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nuestra vida profesional, nos ha tocado atender situaciones, a veces de carácter dramático, en que por falta de advertencia o de cuidado, tanto comercial como jurídico, empresarios chilenos tuvieron que sufrir pérdidas importan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un caso, se trataba de un exportador pequeño, que iniciaba sus lides en este    campo, con mucho entusiasmo y poca experiencia.  Acordó con un Comprador del   exterior un Contrato de Exportación de cueros terminados. El despacho de la mercadería   se hizo en un todo de acuerdo con las condiciones del Contrato. Las condiciones de calidad,  presentación, embalaje,  época del embarque, etc., fueron todas cuidadosamente cumplid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mentablemente, por su falta de experiencia, los documentos de embarque contenían errores en su redacción, que, aún cuando no afectaban la esencia del Contrato en si mismo, fueron causal suficiente para que tales documentos fueran rechazados, en definitiva, por su Comprador en el exterior, por discrepancias con las condiciones y términos de la Carta de Crédito. </a:t>
            </a:r>
            <a:endParaRPr b="0" lang="en-US" sz="1800" spc="-1" strike="noStrike">
              <a:solidFill>
                <a:srgbClr val="000000"/>
              </a:solidFill>
              <a:latin typeface="Times New Roman"/>
            </a:endParaRPr>
          </a:p>
        </p:txBody>
      </p:sp>
      <p:sp>
        <p:nvSpPr>
          <p:cNvPr id="98"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uede haber ocurrido que, con posterioridad a la celebración del contrato, el comprador extranjero encontró un posible abastecimiento de esa mercadería a un precio menor. En ese caso, para desligarse de sus obligaciones en el vendedor chileno, dicho comprador en el exterior utilizó este expediente de la  formalidad para abusando del mismo, excusarse de cumplir con su obligación de pa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caso es que desde el punto de vista de la Carta de Crédito en sí misma, no hubo ninguna solución, puesto que efectivamente existían discrepancias formales en los documentos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tra situación fue exactamente la inver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 trataba de un importador chileno de productos textiles quien había acordado la importación de unas telas que parecían ser de muy buena calidad, a un precio conveniente. Así, por lo menos, aparecía de las muestras que recibió por correo. Se emitió la correspondiente Carta de Crédito, requiriendo la presentación de diversos documentos que acreditaran el embarque y la calidad de dicha mercadería de acuerdo con los términos del Contrato. Poco tiempo después recibió el correspondiente aviso del despacho y, enseguida, se recibieron todos los documentos  de embarque emitidos perfectamente, cumpliendo con todas y cada una de las menciones de la Carta de Crédito. </a:t>
            </a:r>
            <a:endParaRPr b="0" lang="en-US" sz="1800" spc="-1" strike="noStrike">
              <a:solidFill>
                <a:srgbClr val="000000"/>
              </a:solidFill>
              <a:latin typeface="Times New Roman"/>
            </a:endParaRPr>
          </a:p>
        </p:txBody>
      </p:sp>
      <p:sp>
        <p:nvSpPr>
          <p:cNvPr id="101"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bligación principal del Comprador es pagar el pre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su vez, la obligación principal del Vendedor es entregar la mercaderí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Más atrás,  se menciona brevemente esta especie de situación dramática que se produce entre uno y otro, en cuanto quien cumple prim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problema lo resuelve la institución de la Carta de Crédito, en virtud de la cual es ahora un tercero, un Banco quien cumplirá la obligación de pago y, al mismo tiempo, revisará que los documentos de embarque cumplan con los requisitos solicitados por el Compra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el Capítulo relativo al Contrato de Compraventa Internacional se mencionan dos documentos, que tienden a clarificar la situación contractual entre dos partes, situadas en distintos países, en una compraventa de esta natural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Uno de tales documentos fue aprobado por la Convención de Viena, de Naciones Unidas y el otro por la Cámara de Comercio Internacional con sede en Parí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gún se expresa en ese mismo Capítulo, la misma Cámara ha elaborado también otro documento para la Carta de Crédito y que se conoce con el nombre  “Reglas y Usos Uniformes Relativos a los Créditos Documentarios". </a:t>
            </a:r>
            <a:endParaRPr b="0" lang="en-US" sz="1800" spc="-1" strike="noStrike">
              <a:solidFill>
                <a:srgbClr val="000000"/>
              </a:solidFill>
              <a:latin typeface="Times New Roman"/>
            </a:endParaRPr>
          </a:p>
        </p:txBody>
      </p:sp>
      <p:sp>
        <p:nvSpPr>
          <p:cNvPr id="48" name=""/>
          <p:cNvSpPr/>
          <p:nvPr/>
        </p:nvSpPr>
        <p:spPr>
          <a:xfrm>
            <a:off x="430920" y="304920"/>
            <a:ext cx="269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GENERAL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se trataba de un crédito a la vista, los bancos habían pagado dichos documentos a su primera presentación. Sin embargo, un breve tiempo después, cuando recibió en su bodega en Santiago el contenedor correspondiente se encontró con  la dramática sorpresa que el despacho no era de la tela de alta calidad que él había comprado, sino que, por el contrario, solamente había pedazos de género sin ningún valor.  Resumiendo el caso, el exportador a quien él había adquirido esta mercadería resultó ser un estafador internacional que falsificó los documentos de embarque de tal manera que cumplió con todos los términos del crédito. Ese exportador delincuente procedió, por lo  tanto a cobrar el valor del crédito y después desapareció.</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s situaciones suelen ocurrir en el comercio internacional, por lo que la conclusión más importante de estos hechos es que la mejor garantía de cumplimiento del Contrato,  reside en comprobar la idoneidad y la seriedad de las contrapartes.</a:t>
            </a:r>
            <a:endParaRPr b="0" lang="en-US" sz="1800" spc="-1" strike="noStrike">
              <a:solidFill>
                <a:srgbClr val="000000"/>
              </a:solidFill>
              <a:latin typeface="Times New Roman"/>
            </a:endParaRPr>
          </a:p>
        </p:txBody>
      </p:sp>
      <p:sp>
        <p:nvSpPr>
          <p:cNvPr id="104"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esta materia, que está reglamentada en los artículos 42 a 45 de las Reglas y Usos Uniformes, hay que distinguir los siguientes plaz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Plazo dentro del cual puede utilizarse o negociars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odos los créditos tienen un plazo de validez, desde la fecha de inicio hasta la fecha final para la presentación de los documentos por parte de los beneficiarios.  En caso que no se indique la fecha de inicio  se tomará como primer día la fecha de emisión del crédito por parte del Banco emisor, en cuanto a su vigencia, todos los créditos deben estipular una fecha final y un lugar para presentar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 Vigencia del compromiso de pago por el banco emis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créditos deben mencionar la fecha hasta la cual son válidos. Transcurrido dicho plazo, el compromiso adquirido por el banco emisor deja de tener vig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decir los plazos a que están sujetos los créditos son resolutorios y de caducidad, ya que su llegada implica la imposibilidad de obtener el pago y su vencimiento no requiere  declaración de ninguna especie.</a:t>
            </a:r>
            <a:endParaRPr b="0" lang="en-US" sz="1800" spc="-1" strike="noStrike">
              <a:solidFill>
                <a:srgbClr val="000000"/>
              </a:solidFill>
              <a:latin typeface="Times New Roman"/>
            </a:endParaRPr>
          </a:p>
        </p:txBody>
      </p:sp>
      <p:sp>
        <p:nvSpPr>
          <p:cNvPr id="107" name=""/>
          <p:cNvSpPr/>
          <p:nvPr/>
        </p:nvSpPr>
        <p:spPr>
          <a:xfrm>
            <a:off x="458640" y="352440"/>
            <a:ext cx="253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LAZO DE VALID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8000" y="981000"/>
            <a:ext cx="8931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 Plazo de presentación de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 estipular una fecha final para la presentación de los documentos, todo crédito que exija la presentación de documentos de transporte, deberá también estipular un plazo específico dentro del cual debe efectuar la presentación de documentos segú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i el plazo para presentar los documentos no se menciona en el acreditivo, los bancos  rechazarán los documentos que se les presenten con un retardo de más de 21 días, contados  a partir de la fecha de emisión de los documentos de transporte. Los documentos presentados fuera de plazo se denominan documentos añejos (stale documents). </a:t>
            </a:r>
            <a:endParaRPr b="0" lang="en-US" sz="1800" spc="-1" strike="noStrike">
              <a:solidFill>
                <a:srgbClr val="000000"/>
              </a:solidFill>
              <a:latin typeface="Times New Roman"/>
            </a:endParaRPr>
          </a:p>
        </p:txBody>
      </p:sp>
      <p:sp>
        <p:nvSpPr>
          <p:cNvPr id="110" name=""/>
          <p:cNvSpPr/>
          <p:nvPr/>
        </p:nvSpPr>
        <p:spPr>
          <a:xfrm>
            <a:off x="458640" y="352440"/>
            <a:ext cx="253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LAZO DE VALID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48 de las Reglas y Usos Uniformes relativos a los Créditos Documentarios dispone que un crédito transferible en un crédito en virtud del cual el Beneficiario puede solicitar al Banco autorizado a pagar a poner el crédito total o parcialmente a disposición de uno o más beneficiar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Un crédito puede ser transferido  sólo si está expresamente designado como “transferible por el Banco emisor”.  Términos tales como “divisible”,  “fraccionable”, “cedible”, y “transmisible” no determinan que el crédito sea transferible.  Si dichos términos se utilizan no serán consider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hecho de que un Crédito no se establezca como transferible, no afectará el derecho del Beneficiario de ceder cualquier producto del Crédito del que sea, o pueda ser, titular en virtud de dicho Crédito, de acuerdo con las disposiciones legales aplicables.  Este artículo se refiere solamente a la cesión del producto del Crédito y no a la cesión del derecho a actuar en virtud del Crédito mismo.</a:t>
            </a:r>
            <a:endParaRPr b="0" lang="en-US" sz="1800" spc="-1" strike="noStrike">
              <a:solidFill>
                <a:srgbClr val="000000"/>
              </a:solidFill>
              <a:latin typeface="Times New Roman"/>
            </a:endParaRPr>
          </a:p>
        </p:txBody>
      </p:sp>
      <p:sp>
        <p:nvSpPr>
          <p:cNvPr id="113" name=""/>
          <p:cNvSpPr/>
          <p:nvPr/>
        </p:nvSpPr>
        <p:spPr>
          <a:xfrm>
            <a:off x="617400" y="352440"/>
            <a:ext cx="557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TRANSFERENCIA DE LA CARTA DE CREDI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08000" y="981000"/>
            <a:ext cx="8931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Comic Sans MS"/>
              </a:rPr>
              <a:t>Relaciones entre el banco y 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s derechos y obligaciones nacen desde el momento en que se perfecciona entre el Ordenante y el banco el contrato de apertura de crédito y son principal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Abrir un crédito en favor d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no da crédito al beneficiario sino al Ordenante, ya que se obliga a pagar al  primero el monto del acreditivo sin que el Ordenante, por regla general, haya provisto los  fon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 Comunicar al beneficiario del acreditivo la apertura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no hacerlo se ocasionarían perjuicios al Ordenante al quedar éste como responsable de los daños que el incumplimiento provocaría al beneficiario.</a:t>
            </a:r>
            <a:endParaRPr b="0" lang="en-US" sz="1800" spc="-1" strike="noStrike">
              <a:solidFill>
                <a:srgbClr val="000000"/>
              </a:solidFill>
              <a:latin typeface="Times New Roman"/>
            </a:endParaRPr>
          </a:p>
        </p:txBody>
      </p:sp>
      <p:sp>
        <p:nvSpPr>
          <p:cNvPr id="116"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 Negociación de los documentos señalados por 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s documentos son la constancia de que, por intermedio del banco, el Ordenante cumplió las obligaciones que tenía con el beneficiario nacidas del contrato de compraventa internacional.  Estos documentos facultan al tomador de la carta de crédito a retirar las mercaderías del puerto de consignación y disponer de ellas.   Para el banco los documentos constituyen una garantía que tiene frente al Ordenante en caso que éste no cancele  el total o parte del crédito abier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 Verificar la regularidad y conformidad de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ya se ha hecho referencia, los documentos presentados por el beneficiario del acreditivo deben conformarse a las instrucciones dadas por el Ordenante al ban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tiene el deber jurídico de rehusarlos cuando no se conformen dichos documentos. El pago al beneficiado está sujeto a la condición de conformidad en los documentos.</a:t>
            </a:r>
            <a:endParaRPr b="0" lang="en-US" sz="1800" spc="-1" strike="noStrike">
              <a:solidFill>
                <a:srgbClr val="000000"/>
              </a:solidFill>
              <a:latin typeface="Times New Roman"/>
            </a:endParaRPr>
          </a:p>
        </p:txBody>
      </p:sp>
      <p:sp>
        <p:nvSpPr>
          <p:cNvPr id="119"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08000" y="981000"/>
            <a:ext cx="8931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 Enviar al Ordenante los documentos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jamás garantiza al Ordenante la calidad, cantidad o naturaleza de las mercaderías.  Las obligaciones del banco frente al Ordenante son totalmente autónomas e independientes de las relaciones entre el Ordenante y 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Relaciones entre el ordenante y el banco emis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bligación principal del Ordenante es pagar el monto del crédito abierto en la   forma y condiciones aceptadas por el ban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umplida esta obligación tendrá derecho a que el banco le entregue los documentos recibidos d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08000" y="981000"/>
            <a:ext cx="8931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Relaciones entre el banco y 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l banco debe enviar el original del acreditivo al beneficiario, sea directamente o por intermedio de un corresponsal suyo. Si el banco corresponsal confirma el acreditivo, comprometiéndose por tanto él con el beneficiario, expedirá un nuevo acreditivo transcribiendo las mismas condiciones y conservara el original como título contra el banco  Ordenante para obtener el reembolso de lo pag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su vez, el beneficiario tiene derecho a exigir del banco emisor o confirmador según el caso, el pago del valor de los documentos, siempre y cuando éstos sean encontrados conformes.</a:t>
            </a:r>
            <a:endParaRPr b="0" lang="en-US" sz="1800" spc="-1" strike="noStrike">
              <a:solidFill>
                <a:srgbClr val="000000"/>
              </a:solidFill>
              <a:latin typeface="Times New Roman"/>
            </a:endParaRPr>
          </a:p>
        </p:txBody>
      </p:sp>
      <p:sp>
        <p:nvSpPr>
          <p:cNvPr id="125"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2 de las Reglas y Usos Uniformes Relativos a los Créditos Documentarios la define com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odo acuerdo, cualquiera que sea su denominación o descripción, por medio del cual un banco (banco emisor),  actuando a petición y en conformidad con las instrucciones de un cliente (el Ordenante del crédito),  o en su propio nomb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 Se obliga a pagar a un tercero (el beneficiario), o a su orden, o  a aceptar y pagar letras de cambio (drafts) giradas por el beneficiario, 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i) Autoriza a otro banco para que efectúe el pago o para que acepte y pague, tales letras de cambio, 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ii) Autoriza a otro banco para negoci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tra los documentos exigidos, siempre y cuando se cumpla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ara los efectos de estos artículos, las sucursales de un banco en países diferentes son consideradas como otro banco”.</a:t>
            </a:r>
            <a:endParaRPr b="0" lang="en-US" sz="1800" spc="-1" strike="noStrike">
              <a:solidFill>
                <a:srgbClr val="000000"/>
              </a:solidFill>
              <a:latin typeface="Times New Roman"/>
            </a:endParaRPr>
          </a:p>
        </p:txBody>
      </p:sp>
      <p:sp>
        <p:nvSpPr>
          <p:cNvPr id="51" name=""/>
          <p:cNvSpPr/>
          <p:nvPr/>
        </p:nvSpPr>
        <p:spPr>
          <a:xfrm>
            <a:off x="358920" y="304920"/>
            <a:ext cx="6016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DEFINICION DE CARTA DE CRED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8000" y="981000"/>
            <a:ext cx="8931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osotros podríamos, a partir de la norma anterior y de nuestra experiencia práctica, intentar una definición propia señalando 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arta de Crédito es una orden de pago que emite un Banco, a petición del Ordenante, en favor de un tercero, llamada beneficiario, orden de pago que es generalmente irrevocable y que, además, es condicional, temporal, formal, internacional, e independiente del Contrato de Compraventa que le dio origen".</a:t>
            </a:r>
            <a:endParaRPr b="0" lang="en-US" sz="1800" spc="-1" strike="noStrike">
              <a:solidFill>
                <a:srgbClr val="000000"/>
              </a:solidFill>
              <a:latin typeface="Times New Roman"/>
            </a:endParaRPr>
          </a:p>
        </p:txBody>
      </p:sp>
      <p:sp>
        <p:nvSpPr>
          <p:cNvPr id="54" name=""/>
          <p:cNvSpPr/>
          <p:nvPr/>
        </p:nvSpPr>
        <p:spPr>
          <a:xfrm>
            <a:off x="358920" y="304920"/>
            <a:ext cx="6016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DEFINICION DE CARTA DE CRED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as partes que intervienen en la Carta de Crédito 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Ordenante o Tomador</a:t>
            </a:r>
            <a:r>
              <a:rPr b="0" lang="es-ES" sz="1800" spc="-1" strike="noStrike">
                <a:solidFill>
                  <a:srgbClr val="ffff00"/>
                </a:solidFill>
                <a:latin typeface="Comic Sans MS"/>
              </a:rPr>
              <a:t>: Es aquella persona natural o jurídica, que participa como comprador en el Contrato de Compraventa y ordena a su banco a abrir la Carta de Crédito en favor del exportador. El tomador también recibe el nombre de Ordenante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a Carta de Crédito debe contener la individualización precisa y clara del Ordenante, indicando su domicilio.  Hay que tener especial cuidado con la forma de consignar los datos en la Carta de Crédito, ya que ésta debe coincidir letra por letra con la documentación de embarque que se presente con posterioridad para negociar 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eneficiario o Acreedor de la Carta de Crédito</a:t>
            </a:r>
            <a:r>
              <a:rPr b="0" lang="es-ES" sz="1800" spc="-1" strike="noStrike">
                <a:solidFill>
                  <a:srgbClr val="ffff00"/>
                </a:solidFill>
                <a:latin typeface="Comic Sans MS"/>
              </a:rPr>
              <a:t>: Es la persona natural o jurídica a cuyo beneficio se abre la Carta de Crédito y generalmente será el exportador o vende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eneficiario deberá ver si se presentan dudas o discrepancias respecto de su individualización, tal como ella aparece en el crédito.</a:t>
            </a:r>
            <a:endParaRPr b="0" lang="en-US" sz="1800" spc="-1" strike="noStrike">
              <a:solidFill>
                <a:srgbClr val="000000"/>
              </a:solidFill>
              <a:latin typeface="Times New Roman"/>
            </a:endParaRPr>
          </a:p>
        </p:txBody>
      </p:sp>
      <p:sp>
        <p:nvSpPr>
          <p:cNvPr id="57"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8000" y="981000"/>
            <a:ext cx="8931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l importador y exportador. que figuran como parte en un contrato de compraventa internacional, en este tipo de negocios intervienen los bancos, los cuales 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anco Emisor</a:t>
            </a:r>
            <a:r>
              <a:rPr b="0" lang="es-ES" sz="1800" spc="-1" strike="noStrike">
                <a:solidFill>
                  <a:srgbClr val="ffff00"/>
                </a:solidFill>
                <a:latin typeface="Comic Sans MS"/>
              </a:rPr>
              <a:t>: Este es el "Banco del Importador" que recibe el encargo de éste para que emita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Emisor avisa el Acreditivo al Beneficiario por intermedio de otro Banco establecido en el domicilio o residencia del Beneficiario de la Carta de Crédito. Este último Banco se denomina "Banco Avisador o Banco Notificador, o Banco Receptor”. El Banco Emisor emite y notifica la apertura del Acreditivo y, eventualmente solicita lo confirme a un banco corresponsal suyo en el lugar en que reside el Beneficiario, para que éste avise al Acreedor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identificación del Banco Emisor aparece en los formularios que cada institución financiera tiene para estos efectos.  Además, el original del Acreditivo que se envía al banco del domicilio de residencia del beneficiario debe estar firmado por oficiales autorizados del Banco Emisor.</a:t>
            </a:r>
            <a:endParaRPr b="0" lang="en-US" sz="1800" spc="-1" strike="noStrike">
              <a:solidFill>
                <a:srgbClr val="000000"/>
              </a:solidFill>
              <a:latin typeface="Times New Roman"/>
            </a:endParaRPr>
          </a:p>
        </p:txBody>
      </p:sp>
      <p:sp>
        <p:nvSpPr>
          <p:cNvPr id="60"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anco Receptor</a:t>
            </a:r>
            <a:r>
              <a:rPr b="0" lang="es-ES" sz="1800" spc="-1" strike="noStrike">
                <a:solidFill>
                  <a:srgbClr val="ffff00"/>
                </a:solidFill>
                <a:latin typeface="Comic Sans MS"/>
              </a:rPr>
              <a:t>: Es un banco del domicilio o residencia del acreedor de la Carta de Crédito que ha recibido el aviso de apertura del Acreditivo, cumple con la notificación. Si el banco notificador además confirma la Carta de Crédito al beneficiario, es decir le garantiza que le pagará su importe siempre que se cumplan las condiciones impuestas, pasa a llamarse Banco Confirma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que confirma una Carta de Crédito se obliga a pagarle al Beneficiario, siempre que éste cumpla con las condiciones estipuladas en el Acredi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suma, el Banco Receptor recibe los documentos de embarque para examinarlos y procede al pago o a solicitar la autorización para tal efe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r lo tanto, debe establecerse si el Banco Receptor está sólo autorizado para notificar el crédito, o también ha recibido poder para proceder al pago si, a su juicio, la documentación de embarque se encuentra en orden.</a:t>
            </a:r>
            <a:endParaRPr b="0" lang="en-US" sz="1800" spc="-1" strike="noStrike">
              <a:solidFill>
                <a:srgbClr val="000000"/>
              </a:solidFill>
              <a:latin typeface="Times New Roman"/>
            </a:endParaRPr>
          </a:p>
        </p:txBody>
      </p:sp>
      <p:sp>
        <p:nvSpPr>
          <p:cNvPr id="63"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08000" y="981000"/>
            <a:ext cx="8931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 indican a continuación las menciones principales que figuran en este documento, que también se incluyen en otro documento semejante, en que el cliente solicita a su banco la emisión de una carta de crédito.</a:t>
            </a:r>
            <a:endParaRPr b="0" lang="en-US" sz="1800" spc="-1" strike="noStrike">
              <a:solidFill>
                <a:srgbClr val="000000"/>
              </a:solidFill>
              <a:latin typeface="Times New Roman"/>
            </a:endParaRPr>
          </a:p>
        </p:txBody>
      </p:sp>
      <p:sp>
        <p:nvSpPr>
          <p:cNvPr id="66"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67" name=""/>
          <p:cNvSpPr/>
          <p:nvPr/>
        </p:nvSpPr>
        <p:spPr>
          <a:xfrm>
            <a:off x="539640" y="2133720"/>
            <a:ext cx="8391600" cy="4208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mportador o solicitante.</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anco Corresponsal en el exterior.</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úmero y fecha de la Carta de Crédi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encimien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eneficiari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alor total de la Carta de Crédi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ransferencia.</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firm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70" name=""/>
          <p:cNvSpPr/>
          <p:nvPr/>
        </p:nvSpPr>
        <p:spPr>
          <a:xfrm>
            <a:off x="539640" y="981000"/>
            <a:ext cx="8391600" cy="6221880"/>
          </a:xfrm>
          <a:prstGeom prst="rect">
            <a:avLst/>
          </a:prstGeom>
          <a:noFill/>
          <a:ln w="0">
            <a:noFill/>
          </a:ln>
        </p:spPr>
        <p:style>
          <a:lnRef idx="0"/>
          <a:fillRef idx="0"/>
          <a:effectRef idx="0"/>
          <a:fontRef idx="minor"/>
        </p:style>
        <p:txBody>
          <a:bodyPr lIns="90000" rIns="90000" tIns="46800" bIns="46800" anchor="t">
            <a:spAutoFit/>
          </a:bodyPr>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ocumentos de 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Factura Comercial.</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ocimientos de 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ólizas o Certificados de Seguro.</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otas de Gastos.</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ista de Empa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Otros documentos.</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láusula de Compra (C.l.F., F.O.B. u otra).</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sd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Has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q</cp:lastModifiedBy>
  <dcterms:modified xsi:type="dcterms:W3CDTF">2004-05-28T05:52:42Z</dcterms:modified>
  <cp:revision>97</cp:revision>
  <dc:subject/>
  <dc:title>PowerPoint Presentation</dc:title>
</cp:coreProperties>
</file>