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C4E-244F-4B35-95A9-B4686854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6EE-AFB9-409C-BBD3-D8E2EA80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28C-8BF8-454E-B7B1-11833F10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D2EF-0633-4B2C-AC34-6AD6E4CB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C251-D5EA-43B4-B700-FC576438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3C5A-848F-4FA1-BAC9-DF343EF6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3CB-39ED-4338-84B7-57C1A17E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CE3D-A66E-4C66-B282-742481C7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4215-02A4-48B9-B18E-498023BF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A28B-2F37-4CFA-8D2D-1397E126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745-08A5-40F8-8B9E-0C5C086B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CDD5-FCC2-41FE-A393-8C8E6817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9B05-08DF-45A1-AF05-3326E01B6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7160" y="200160"/>
            <a:ext cx="453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recho Comercial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ofesor Sr. José Luis López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24000" y="5157720"/>
            <a:ext cx="83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COMPRAVENTA INTERNACIONAL DE MERCAD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FIJACIÓN DE PRECIOS Y CLAUSULAS INCO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981000"/>
            <a:ext cx="893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1.-  Las cláusulas Incoterms se utilizan en los contratos de compraventa internacional de mercaderías para definir el precio de la compraventa en función del lugar de la entre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2.-  El precio se establece en divisas y debe contener las siguientes especific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Comic Sans MS"/>
              </a:rPr>
              <a:t>FIJACIÓN DE PRECIOS Y CLAUSULAS INCO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2924280"/>
            <a:ext cx="8137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a)  La moneda en que se paga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Euro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Y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1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1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b) La unidad de medida a la cual se aplic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Tonelada mét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Li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Ki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Barr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C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1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1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c) La cláusula Incoterms conven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3994200"/>
            <a:ext cx="893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3.- Ejemplo de cláus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15 la caja bodega Lin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1,30 la libra FOB Antofaga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15 la caja FOB Pudahuel 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500 la tonelada métrica FOB Antofaga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600 la tonelada métrica FOB Talcahu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1.000 la tonelada métrica CIF Nueva Y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500 la tonelada métrica DDP bodega ZZ Amsterd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Comic Sans MS"/>
              </a:rPr>
              <a:t>FIJACIÓN DE PRECIOS Y CLAUSULAS INCO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1125360"/>
            <a:ext cx="81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21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e) El lugar de la entreg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Establecimiento del vendedor indicando ciu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Bodega intermedia indicando ciu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Valparaí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San Ant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Buenos Ai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Nueva Y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Fron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- Establecimiento del comprador indicando ciu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22:47:01Z</dcterms:created>
  <dc:creator>Ureta</dc:creator>
  <dc:description/>
  <dc:language>en-US</dc:language>
  <cp:lastModifiedBy>FAS</cp:lastModifiedBy>
  <dcterms:modified xsi:type="dcterms:W3CDTF">2004-06-09T16:00:15Z</dcterms:modified>
  <cp:revision>91</cp:revision>
  <dc:subject/>
  <dc:title>PowerPoint Presentation</dc:title>
</cp:coreProperties>
</file>