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EFC-5416-4E6F-8912-DF17766B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5ED-7D4C-4105-B751-AAF0B3EB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708-403D-403A-A8C0-A6ACF377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ECA-BC3D-456D-8869-C1D18302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C0C-9A7E-4FD6-9D6C-E3DD420E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195-BC97-4760-B68D-4B3DA965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54C-E55A-4443-936B-9F4558E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DD7-16CB-457E-A049-2D192BC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A52-70F4-4ED6-954E-1097B8A9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510-A82C-4F60-9606-7E7BDFA9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DC8-C51B-43B5-A556-AD5E5250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135-0611-4489-88AA-624D68C7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298B-FD50-4C16-8E54-25F51D638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COMPRAVENTA INTERNACIONAL DE MERCAD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FIJACIÓN DE PRECIOS Y CLAUSULAS INCO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98100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1.-  Las cláusulas Incoterms se utilizan en los contratos de compraventa internacional de mercaderías para definir el precio de la compraventa en función del lugar de la entre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2.-  El precio se establece en divisas y debe contener las siguientes especif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Comic Sans MS"/>
              </a:rPr>
              <a:t>FIJACIÓN DE PRECIOS Y CLAUSULAS INCO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924280"/>
            <a:ext cx="813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)  La moneda en que se paga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Euro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Y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b) La unidad de medida a la cual se apl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Tonelada mé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Li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K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Bar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c) La cláusula Incoterms conven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3994200"/>
            <a:ext cx="89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3.- Ejemplo de cláus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5 la caja bodega Lin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,30 la libra FOB Antofaga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5 la caja FOB Pudahuel 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500 la tonelada métrica FOB Antofaga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600 la tonelada métrica FOB Talcahu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.000 la tonelada métrica CIF Nueva Y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500 la tonelada métrica DDP bodega ZZ Amsterd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Comic Sans MS"/>
              </a:rPr>
              <a:t>FIJACIÓN DE PRECIOS Y CLAUSULAS INCO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12536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e) El lugar de la entreg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Establecimiento del vendedor indicando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Bodega intermedia indicando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Valparaí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San Ant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Buenos 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Nueva Y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Fron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- Establecimiento del comprador indicando ciu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FAS</cp:lastModifiedBy>
  <dcterms:modified xsi:type="dcterms:W3CDTF">2004-06-09T16:00:15Z</dcterms:modified>
  <cp:revision>91</cp:revision>
  <dc:subject/>
  <dc:title>PowerPoint Presentation</dc:title>
</cp:coreProperties>
</file>