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587-DD9D-4D25-81C4-94B6EA58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8E77-E106-43DF-8125-344F0F76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CEF-A3E7-4892-B7E4-4F3D2B8D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B51-1378-4EB8-AE48-5A57090D1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539-562A-48A3-9CB7-63B9155D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022-1F08-4B60-AC52-CDDC7A77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140-7094-42CC-875B-FE69A4FD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CB2-6DE0-4758-B380-DC17F412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684-90CE-47D5-92D9-7B861A98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020-2356-404D-828C-90107B47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7130-4582-4738-8017-4A0278DA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7A62-521E-4A2C-AD3F-9ECC70C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3AA3-BAD7-4274-A466-847459CC1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COMPRAVENTA INTERNACIONAL DE MERCAD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FIJACIÓN DE PRECIOS Y CLAUSULAS INCO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981000"/>
            <a:ext cx="893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1.-  Las cláusulas Incoterms se utilizan en los contratos de compraventa internacional de mercaderías para definir el precio de la compraventa en función del lugar de la entre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2.-  El precio se establece en divisas y debe contener las siguientes especif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Comic Sans MS"/>
              </a:rPr>
              <a:t>FIJACIÓN DE PRECIOS Y CLAUSULAS INCO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2924280"/>
            <a:ext cx="8137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a)  La moneda en que se paga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Euro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Y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b) La unidad de medida a la cual se apl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Tonelada mé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Li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Ki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Bar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c) La cláusula Incoterms conven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3994200"/>
            <a:ext cx="893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3.- Ejemplo de cláus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5 la caja bodega Lin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,30 la libra FOB Antofaga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5 la caja FOB Pudahuel 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500 la tonelada métrica FOB Antofaga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600 la tonelada métrica FOB Talcahu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1.000 la tonelada métrica CIF Nueva Y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US$ 500 la tonelada métrica DDP bodega ZZ Amsterd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Comic Sans MS"/>
              </a:rPr>
              <a:t>FIJACIÓN DE PRECIOS Y CLAUSULAS INCO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12536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216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e) El lugar de la entreg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Establecimiento del vendedor indicando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Bodega intermedia indicando ciu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Valparaí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San Ant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Buenos Ai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Nueva Y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2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_tradnl" sz="1800" spc="-1" strike="noStrike">
                <a:solidFill>
                  <a:srgbClr val="ffff00"/>
                </a:solidFill>
                <a:latin typeface="Comic Sans MS"/>
              </a:rPr>
              <a:t>- Fron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- Establecimiento del comprador indicando ciu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FAS</cp:lastModifiedBy>
  <dcterms:modified xsi:type="dcterms:W3CDTF">2004-06-09T16:00:15Z</dcterms:modified>
  <cp:revision>91</cp:revision>
  <dc:subject/>
  <dc:title>PowerPoint Presentation</dc:title>
</cp:coreProperties>
</file>