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ACE-48C5-435F-A8F6-D7A9817E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34B-FF2E-4AD0-ADE8-9D621BD2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203-9BA0-4173-B050-017909A0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E56-641A-416E-8534-B5D3C851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8C7-0E76-40BC-8959-0F011458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CED-3672-40A7-86ED-D2C5A15F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7AB-1905-41A6-A3DE-A87A74A3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0C7-5467-4FB5-A0A8-49F51C93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76C-4398-49FE-AE7B-66ADCAE8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058-DB89-4F27-A920-0698038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2C1-D253-4503-82A4-68C241F7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00B-9957-4A50-9788-228167E3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1CB7-F1C2-4156-A485-55B7E9F0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CARTAS DE CREDITO BANCARIAS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NALISIS OPERACIONAL Y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981000"/>
            <a:ext cx="8931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caso de respuesta positiva, se emitirá l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e caso, el banco puede pedir garantías, que protejan el riesgo del crédi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torgado a su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 podrán requerir garantías para la emisión de una carta de crédito si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sar de las respuestas positivas a todas las variables anteriores, se prefi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ducir el riesgo que signifique el otorgamiento de un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proceso de otorgamiento de créditos a los clientes con o sin garantías, est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glamentado por la Superintendencia de Ban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garantías se refieren a un bien distinto con cuya liquidación el banco pue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btener los recursos para pagarse del valor de la carta de crédito, si todos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canismos anteriores no permiten al banco recuperar su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garantías, en términos generales, pueden ser hipotecas, prendas, avale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anz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90792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ersp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endo los bancos instituciones comerciales, les interesa definir y establecer 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lación de mediano plazo con su cliente, en que se analizan todas las posi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tras alternativas de relación bancaria: depósitos en cuenta corriente, depósito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lazo, otro tipo de negoci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4. Aspectos operacional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 en todo el mundo establecen entre ellos relaciones de carác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ercial  que se llaman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orresponsalía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 corresponsalía corresponde a una especie de convenio que suscriben 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s, establecidos en países distintos, con el objeto de realizar oper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erciales financieras y de comercio exterior entre sí y con sus cl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establecer una corresponsalía los bancos se estudian entre sí de la mis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anera que un banco estudia a su cliente.  Se revisan sus balances de los últi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ños, sus resultados, y la posición que cada uno de ellos tiene de sus respecti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íses y en el sistema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981000"/>
            <a:ext cx="8931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establecida la corresponsalía  los bancos intercambian una serie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 entre sí, tales como, registros de firmas de sus ejecutivos, cl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identificar sus mensaj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que el banco emite la carta de crédito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(beneficiario) enviando un mensaje al país de origen  (o al banco que e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es indique en cualquier país),  a través de un banco correspon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e banco corresponsal al recibir la carta de crédito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ien, por esta vía, tiene la seguridad de que un banco en el país de destino abri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carta de crédito por la cantidad convenida en su fav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banco corresponsal que recibe la carta de crédito y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e asumir dos conduc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084640"/>
            <a:ext cx="846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) Simplemente notifica al vendedor la apertura de la carta de crédito y 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trega su tex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i) Le agrega su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onfirmación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lo que quiere decir, que ese banco correspon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 asume la obligación de pago de la carta de crédito.  En este caso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endedor tiene una segunda garantía de que el precio del contrato le s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981000"/>
            <a:ext cx="8931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 Concepto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sde un punto de vista general, la carta de crédito es un documento formal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, a petición de un cliente, un banco asume el compromiso de pagar a un terc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determinada suma de di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mismo documento el banco informa al tercero, comúnmente llam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eneficiario, la cantidad de dinero a pagar y las condiciones que se exigen par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o de esa s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s condiciones deben ser indicadas por el cliente del banco y también acept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é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que el banco emite el documento y lo notifica al beneficiario, asum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iso irrevocable de pagarle la cantidad de dinero que allí se indica, si és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mple con las condiciones establecidas en el mismo docu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 obligación la asume el banco como propia frente al beneficiario, incluso e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vento en que el cliente del banco no le haga entrega de fondos suficientes par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o de la misma.  El banco, una vez emitida y notificada, está obligado siempr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ar las cartas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65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65000"/>
            <a:ext cx="8931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 Las cartas de crédito en comercio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e instrumento tiene una gran utilización en las operaciones de comprave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ternacional  de mercader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mite que el comprador (importador) entregue instrucciones claras y precisa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 banco para pagar el precio del contrato, cuando a ese banco (o a su ban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rresponsal) el vendedor (exportador) entregue sin discrepancias, todos y c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o de los documentos de embar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ta manera, el comprador tiene la seguridad que el banco pagará el valor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rcadería siempre y cuando el vendedor acredite que ha dado fiel cumpli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l contrato mediante la entrega de los documentos de embar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xportador, por su parte, tiene la seguridad de que puede despachar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barcar la mercadería sabiendo que, si cumple con el contrato, y entrega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 de embarque en forma correcta y oportuna, el banco le pagará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ecio del cont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xistiendo seguridades para ambas partes, ellas pueden iniciar el proces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mplimiento de un contrato de comercio exterior, que, como toda compraventa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istancia, supone el desarrollo de una compleja serie de actos y de oper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cada una de las par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26028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981000"/>
            <a:ext cx="8931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3. Aspec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primer paso, el comprador debe solicitar a un banco la emisión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rrespondiente carta de crédito a favor del vende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se ha dicho, una vez emitida, el banco asume en este caso una oblig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opia, independientemente de la situación económica y financiera del comprado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ta manera, si después emitida la carta de crédito y notificada al vended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comprador presenta algún tipo de dificultades económicas y financieras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 que la emitió estará siempre obligada a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mismo, antes de asumir tal compromiso, los bancos realizan un comple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álisis, no sólo de la operación comercial en que se les pide abrir la cart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édito, sino que también, de antecedentes complementarios, muy important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lacionados con la situación económica y financiera de su cliente que les solic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itir es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analizar este tema, uno de los mecanismos que tradicionalmente han utiliz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, se denomina el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studio de las 5 P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, que corresponde a un análisis de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ariables, que permite analizar el caso, todas las cuales empiezan con la letra P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o 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ersp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los puntos siguientes se comentan brevemente cada una de esta vari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banco trata de obtener la información más completa posible acerca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sona que solicita la emisión de l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la palabra lo indica,  este es un </a:t>
            </a:r>
            <a:r>
              <a:rPr b="0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crédito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que el banco otorgará a su cliente,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anto lo usual es que el banco pague al vendedor el precio y después recupere 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alor de su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tanto, habrá un período en que el banco, que ya pagó el valor de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, tiene un crédito en contra del comprador y que, si no lo pue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cuperar, deberá asumir la 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tanto, en esta primera fase del cuestionario, los bancos deben obtene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guridad de que el cliente tiene una disposición moral para cumplir con s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isos y que ha tenido comportamiento adecuados en su historia comercial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nanci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xisten datos de carácter públicos que proporcionan antecedentes sobre 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ater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, el banco solicita información financiera del cliente, como por ejemp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tecedentes tributarios, balances, pagos de impuestos, ventas recient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a variable el banco solicita, por lo general, informes muy completos sobre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egocio mismo que se le pide financ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ejemplo, se suele pedir antecedentes del producto, calidad, grad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ceptación en el público, antecedentes históricos de ventas, proyeccione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entas futuras, situación de la competencia, margen de gananci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981000"/>
            <a:ext cx="8931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palabras simples, el banco quiere entender que está participando e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nanciamiento de un negocio serio, que ha tenido buenos resul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teriormente y en donde no existen mayores riesgos de realizarlo en 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port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se trata de negocios nuevos, en que no existe mucha información histórica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 será más cauteloso y pedirá más antecedentes para tener la seguridad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no hay un riesgo muy ele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ada negocio debe bastarse y financiarse a sí mismo, es la regla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a variable se necesita saber todo el detalle de los costos de la import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e producto que al banco se le pide financiar y cuáles son los resul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perados de ese negocio, de manera que con el producto del mismo, el compra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a pagar al banco y también tener ut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ello es muy importante la información obtenida anteriormente en los pun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a mencionados, respecto de la historia comercial del cliente y del propósi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 impor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continuación, se realiza otro ejercicio para determinar que, si por alguna raz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negocio no resulta como se había inicialmente estimado, si existen otros fon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el cliente pueda tener para pagar con posterioridad al banco el valor que és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bonó al vende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e ocurrir, y de hecho ha ocurrido muchas veces, en comercio internacion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una vez embarcada la mercadería se presenten problemas que afecten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sultados del negocio, a veces muy grave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ejemplo, puede suceder que se trate de productos perecibles y que suf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años en el transporte marítimo, en donde el seguro fue insuficiente.  En ese cas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comprador sin duda recibirá un producto deteriorado en el país de destino y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 podrá vender en la cantidad y precio que inicialmente había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sí, los ejemplos podrían seguir.  En el comercio internacional existen much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iesgos que pueden alterar fundamentalmente el negocio:  demoras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avegación, pérdida de parte de los productos, echazón, hundimientos, guerr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huelgas, conmoción civil y tantos 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981000"/>
            <a:ext cx="893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la gran mayoría de los riesgos existe cobertura de seguro, pero si no se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omado una cobertura adecuada, alguien sufrirá una 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otro lado, en muchos productos pueden existir bajas bruscas de pre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spués que la mercadería se ha embarcado y que afecten la venta de los mis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mercado de destino, con lo cual el comprador tendrá que venderlo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 puede haber incumplimientos del vendedor, en que no entrega 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rcaderías adecuadas, sino que otras; o bien entrega las mercaderí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etidas, pero están disconformes; o entrega menos cantidad; o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balaje no es el ade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todos estos casos, podemos ver que el resultado del negocio no fue el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icialmente se había previsto y que, en consecuencia, con el producto de e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mportación el cliente no está en condiciones de pagar al ban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mismo, en ese escenario el banco quiere saber  si el cliente tiene otr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cursos adicionales como para pagar el valor de la carta de crédito solici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FAS</cp:lastModifiedBy>
  <dcterms:modified xsi:type="dcterms:W3CDTF">2004-06-09T16:13:45Z</dcterms:modified>
  <cp:revision>103</cp:revision>
  <dc:subject/>
  <dc:title>PowerPoint Presentation</dc:title>
</cp:coreProperties>
</file>