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DF9F-A437-41A3-B77A-F38C6EBB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068-29EB-4354-8C41-BF9C6E42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CEB-7B3A-4E8C-BDF3-64668860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634-1F11-42B2-8D1E-2DAFD34A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EFE-0DBC-48F1-925E-F49A969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F55-C30B-41E0-B422-2B65BD2D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1A6-C7C1-4B0B-A009-94C1D2B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082-9573-4D04-AB42-CB103B42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B66-D8D2-453E-9329-08F52B4A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30B-EFEB-458B-B26C-6C00E60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0E7-844C-498A-84D5-CAC14DF2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23E-A734-4DA7-9104-203F924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7A0-F33A-4AD8-810B-9D22B10F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CARTAS DE CREDITO BANCARIAS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NALISIS OPERACIONAL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981000"/>
            <a:ext cx="8931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caso de respuesta positiva, se emitirá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e caso, el banco puede pedir garantías, que protejan el riesgo del créd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orgado a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podrán requerir garantías para la emisión de una carta de crédito si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sar de las respuestas positivas a todas las variables anteriores, se prefi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ducir el riesgo que signifique el otorgamiento de un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proceso de otorgamiento de créditos a los clientes con o sin garantías, est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glamentado por la Superintendencia de Ban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 se refieren a un bien distinto con cuya liquidación el banc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btener los recursos para pagarse del valor de la carta de crédito, si todos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canismos anteriores no permiten al banco recuperar su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, en términos generales, pueden ser hipotecas, prendas, avale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anz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90792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endo los bancos instituciones comerciales, les interesa definir y establecer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ón de mediano plazo con su cliente, en que se analizan todas las posi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ras alternativas de relación bancaria: depósitos en cuenta corriente, depósit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lazo, otro tipo de negoc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4. Aspectos operacional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en todo el mundo establecen entre ellos relaciones de carác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  que se llaman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rresponsalía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 corresponsalía corresponde a una especie de convenio que suscriben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s, establecidos en países distintos, con el objeto de realizar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es financieras y de comercio exterior entre sí y con sus cl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stablecer una corresponsalía los bancos se estudian entre sí de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nera que un banco estudia a su cliente.  Se revisan sus balances de los últi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ños, sus resultados, y la posición que cada uno de ellos tiene de sus respecti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íses y en el sistema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981000"/>
            <a:ext cx="8931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establecida la corresponsalía  los bancos intercambian una seri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entre sí, tales como, registros de firmas de sus ejecutivos, c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identificar sus mensaj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(beneficiario) enviando un mensaje al país de origen  (o al banco que e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es indique en cualquier país),  a través de un banco correspon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banco corresponsal al recibir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ien, por esta vía, tiene la seguridad de que un banco en el país de destino abri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carta de crédito por la cantidad convenida en su fav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corresponsal que recibe la carta de crédito y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asumir dos conduc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084640"/>
            <a:ext cx="846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) Simplemente notifica al vendedor la apertura de la carta de crédito y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trega su tex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i) Le agrega su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nfirmación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lo que quiere decir, que ese banco correspon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asume la obligación de pago de la carta de crédito.  En este caso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dedor tiene una segunda garantía de que el precio del contrato le s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 Concept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de un punto de vista general, la carta de crédito es un documento form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, a petición de un cliente, un banco asume el compromiso de pagar a un terc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determinada suma de di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ismo documento el banco informa al tercero, comúnmente llam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eneficiario, la cantidad de dinero a pagar y las condiciones que se exigen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esa s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s condiciones deben ser indicadas por el cliente del banco y también acept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é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el documento y lo notifica al beneficiario, asum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 irrevocable de pagarle la cantidad de dinero que allí se indica, si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e con las condiciones establecidas en el mismo docu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obligación la asume el banco como propia frente al beneficiario, inclus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vento en que el cliente del banco no le haga entrega de fondos suficientes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la misma.  El banco, una vez emitida y notificada, está obligado siempr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r las cartas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65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65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 Las cartas de crédito en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instrumento tiene una gran utilización en las operaciones de comprav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ternacional 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mite que el comprador (importador) entregue instrucciones claras y precisa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 banco para pagar el precio del contrato, cuando a ese banco (o a su ban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sal) el vendedor (exportador) entregue sin discrepancias, todos y c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o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el comprador tiene la seguridad que el banco pagará el valor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 siempre y cuando el vendedor acredite que ha dado fiel cumpli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contrato mediante la entrega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xportador, por su parte, tiene la seguridad de que puede despachar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rcar la mercadería sabiendo que, si cumple con el contrato, y entrega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de embarque en forma correcta y oportuna, el banco le pagará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cio del cont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iendo seguridades para ambas partes, ellas pueden iniciar el proce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imiento de un contrato de comercio exterior, que, como toda compraventa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istancia, supone el desarrollo de una compleja serie de actos y de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cada una de las par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2602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981000"/>
            <a:ext cx="8931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 Asp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primer paso, el comprador debe solicitar a un banco la emisión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diente carta de crédito a favor de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se ha dicho, una vez emitida, el banco asume en este caso una oblig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pia, independientemente de la situación económica y financiera del compra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si después emitida la carta de crédito y notificada al vended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presenta algún tipo de dificultades económicas y financieras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que la emitió estará siempre obligada 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antes de asumir tal compromiso, los bancos realizan un comple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álisis, no sólo de la operación comercial en que se les pide abrir la cart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édito, sino que también, de antecedentes complementarios, muy importan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onados con la situación económica y financiera de su cliente que les solic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itir es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analizar este tema, uno de los mecanismos que tradicionalmente han utiliz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, se denomina el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studio de las 5 P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, que corresponde a un análisis de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riables, que permite analizar el caso, todas las cuales empiezan con la letra 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o 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los puntos siguientes se comentan brevemente cada una de esta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trata de obtener la información más completa posible acerca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sona que solicita la emisión de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la palabra lo indica,  este es un </a:t>
            </a:r>
            <a:r>
              <a:rPr b="0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crédito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que el banco otorgará a su cliente,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anto lo usual es que el banco pague al vendedor el precio y después recupere 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lor de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habrá un período en que el banco, que ya pagó el valor de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, tiene un crédito en contra del comprador y que, si no l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perar, deberá asumir l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en esta primera fase del cuestionario, los bancos deben obten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uridad de que el cliente tiene una disposición moral para cumplir con 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s y que ha tenido comportamiento adecuados en su historia comercial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en datos de carácter públicos que proporcionan antecedentes sobre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te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, el banco solicita información financiera del cliente, como por ej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cedentes tributarios, balances, pagos de impuestos, ventas recient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el banco solicita, por lo general, informes muy completos sobre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egocio mismo que se le pide financ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se suele pedir antecedentes del producto, calidad, grad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ceptación en el público, antecedentes históricos de ventas, proyeccion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tas futuras, situación de la competencia, margen de gananci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981000"/>
            <a:ext cx="893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palabras simples, el banco quiere entender que está participand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amiento de un negocio serio, que ha tenido buen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riormente y en donde no existen mayores riesgos de realizarlo en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port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se trata de negocios nuevos, en que no existe mucha información histórica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será más cauteloso y pedirá más antecedentes para tener la seguridad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no hay un riesgo muy ele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ada negocio debe bastarse y financiarse a sí mismo, es la regla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se necesita saber todo el detalle de los costos de la import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e producto que al banco se le pide financiar y cuáles son l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perados de ese negocio, de manera que con el producto del mismo, el compra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a pagar al banco y también tener ut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llo es muy importante la información obtenida anteriormente e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a mencionados, respecto de la historia comercial del cliente y del propósi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impor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continuación, se realiza otro ejercicio para determinar que, si por alguna raz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negocio no resulta como se había inicialmente estimado, si existen otros fon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el cliente pueda tener para pagar con posterioridad al banco el valor que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onó a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ocurrir, y de hecho ha ocurrido muchas veces, en comercio internacion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una vez embarcada la mercadería se presenten problemas que afecten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sultados del negocio, a veces muy grav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puede suceder que se trate de productos perecibles y que suf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años en el transporte marítimo, en donde el seguro fue insuficiente.  En ese cas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sin duda recibirá un producto deteriorado en el país de destino y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podrá vender en la cantidad y precio que inicialmente había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sí, los ejemplos podrían seguir.  En el comercio internacional existen much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iesgos que pueden alterar fundamentalmente el negocio:  demoras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avegación, pérdida de parte de los productos, echazón, hundimientos, guerr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huelgas, conmoción civil y tant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981000"/>
            <a:ext cx="893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la gran mayoría de los riesgos existe cobertura de seguro, pero si no se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omado una cobertura adecuada, alguien sufrirá un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otro lado, en muchos productos pueden existir bajas bruscas de pre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pués que la mercadería se ha embarcado y que afecten la venta de los mis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ercado de destino, con lo cual el comprador tendrá que venderl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puede haber incumplimientos del vendedor, en que no entrega 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s adecuadas, sino que otras; o bien entrega las mercaderí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etidas, pero están disconformes; o entrega menos cantidad; o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laje no es el ade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todos estos casos, podemos ver que el resultado del negocio no fue el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icialmente se había previsto y que, en consecuencia, con el producto de e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mportación el cliente no está en condiciones de pagar al ban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en ese escenario el banco quiere saber  si el cliente tiene ot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rsos adicionales como para pagar el valor de la carta de crédito solici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13:45Z</dcterms:modified>
  <cp:revision>103</cp:revision>
  <dc:subject/>
  <dc:title>PowerPoint Presentation</dc:title>
</cp:coreProperties>
</file>