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FD1-5DBC-42AF-89F4-8023DFD4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0B61-3767-4997-804B-6A8CA057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447-D1E3-4534-9A5C-C03D50F4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2CA9-5BB7-44AA-BB88-D172D089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FAF-3113-48F1-8D88-7E1A738A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64B6-B9F4-4F78-BE6E-7080D2A2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27B-AFF1-4F15-95BF-9E34DFD6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9149-58E7-4833-AF8C-E6CAA5C5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6F39-E62A-47D5-99BB-854D2343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652-6910-44C7-9495-94D56F99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FE7-3D8E-4894-A093-7CCD010F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A75-631F-47B3-96AD-4576D6AE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1C74-62C1-481D-A3D9-A7F3FC1FB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7160" y="200160"/>
            <a:ext cx="453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recho Comercial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ofesor Sr. José Luis López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24000" y="5157720"/>
            <a:ext cx="83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CARTAS DE CREDITO BANCARIAS</a:t>
            </a: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imes New Roman"/>
              </a:rPr>
              <a:t>ANALISIS OPERACIONAL Y 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981000"/>
            <a:ext cx="8931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caso de respuesta positiva, se emitirá la carta de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rot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ste caso, el banco puede pedir garantías, que protejan el riesgo del crédi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otorgado a su cl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os bancos podrán requerir garantías para la emisión de una carta de crédito si,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esar de las respuestas positivas a todas las variables anteriores, se prefi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ducir el riesgo que signifique el otorgamiento de un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proceso de otorgamiento de créditos a los clientes con o sin garantías, est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glamentado por la Superintendencia de Ban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as garantías se refieren a un bien distinto con cuya liquidación el banco pue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obtener los recursos para pagarse del valor de la carta de crédito, si todos 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ecanismos anteriores no permiten al banco recuperar su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as garantías, en términos generales, pueden ser hipotecas, prendas, avales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fianz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90792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erspe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iendo los bancos instituciones comerciales, les interesa definir y establecer u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lación de mediano plazo con su cliente, en que se analizan todas las posib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otras alternativas de relación bancaria: depósitos en cuenta corriente, depósito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lazo, otro tipo de negocio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4. Aspectos operacionale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os bancos en todo el mundo establecen entre ellos relaciones de carác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ercial  que se llaman 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orresponsalías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a corresponsalía corresponde a una especie de convenio que suscriben 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bancos, establecidos en países distintos, con el objeto de realizar opera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erciales financieras y de comercio exterior entre sí y con sus cli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establecer una corresponsalía los bancos se estudian entre sí de la mis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anera que un banco estudia a su cliente.  Se revisan sus balances de los últim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ños, sus resultados, y la posición que cada uno de ellos tiene de sus respecti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íses y en el sistema intern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8000" y="981000"/>
            <a:ext cx="8931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vez establecida la corresponsalía  los bancos intercambian una serie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ocumentos entre sí, tales como, registros de firmas de sus ejecutivos, cla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identificar sus mensaj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vez que el banco emite la carta de crédito la notifica al vende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(beneficiario) enviando un mensaje al país de origen  (o al banco que el vende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es indique en cualquier país),  a través de un banco correspons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te banco corresponsal al recibir la carta de crédito la notifica al vende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ien, por esta vía, tiene la seguridad de que un banco en el país de destino abrió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carta de crédito por la cantidad convenida en su fav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banco corresponsal que recibe la carta de crédito y la notifica al vende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uede asumir dos conduc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5084640"/>
            <a:ext cx="846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) Simplemente notifica al vendedor la apertura de la carta de crédito y 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trega su tex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i) Le agrega su 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onfirmación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lo que quiere decir, que ese banco correspons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también asume la obligación de pago de la carta de crédito.  En este caso,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endedor tiene una segunda garantía de que el precio del contrato le ser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g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981000"/>
            <a:ext cx="89312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1. Concepto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sde un punto de vista general, la carta de crédito es un documento formal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, a petición de un cliente, un banco asume el compromiso de pagar a un terce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determinada suma de din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l mismo documento el banco informa al tercero, comúnmente llam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beneficiario, la cantidad de dinero a pagar y las condiciones que se exigen para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go de esa su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as condiciones deben ser indicadas por el cliente del banco y también acepta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és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a vez que el banco emite el documento y lo notifica al beneficiario, asume 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promiso irrevocable de pagarle la cantidad de dinero que allí se indica, si és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umple con las condiciones establecidas en el mismo docu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a obligación la asume el banco como propia frente al beneficiario, incluso en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vento en que el cliente del banco no le haga entrega de fondos suficientes para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go de la misma.  El banco, una vez emitida y notificada, está obligado siempr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gar las cartas de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650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65000"/>
            <a:ext cx="89312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2. Las cartas de crédito en comercio intern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te instrumento tiene una gran utilización en las operaciones de compraven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nternacional  de mercader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ermite que el comprador (importador) entregue instrucciones claras y precisa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 banco para pagar el precio del contrato, cuando a ese banco (o a su banc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rresponsal) el vendedor (exportador) entregue sin discrepancias, todos y c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uno de los documentos de embar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 esta manera, el comprador tiene la seguridad que el banco pagará el valor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ercadería siempre y cuando el vendedor acredite que ha dado fiel cumpli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l contrato mediante la entrega de los documentos de embar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exportador, por su parte, tiene la seguridad de que puede despachar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mbarcar la mercadería sabiendo que, si cumple con el contrato, y entrega 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ocumentos de embarque en forma correcta y oportuna, el banco le pagará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recio del contra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xistiendo seguridades para ambas partes, ellas pueden iniciar el proces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umplimiento de un contrato de comercio exterior, que, como toda compraventa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istancia, supone el desarrollo de una compleja serie de actos y de opera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cada una de las part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26028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981000"/>
            <a:ext cx="89312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3. Aspectos financi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o primer paso, el comprador debe solicitar a un banco la emisión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rrespondiente carta de crédito a favor del vende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o se ha dicho, una vez emitida, el banco asume en este caso una oblig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ropia, independientemente de la situación económica y financiera del comprador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 esta manera, si después emitida la carta de crédito y notificada al vendedo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comprador presenta algún tipo de dificultades económicas y financieras,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banco que la emitió estará siempre obligada a pa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lo mismo, antes de asumir tal compromiso, los bancos realizan un comple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nálisis, no sólo de la operación comercial en que se les pide abrir la cart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rédito, sino que también, de antecedentes complementarios, muy important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lacionados con la situación económica y financiera de su cliente que les solici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mitir esa carta de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analizar este tema, uno de los mecanismos que tradicionalmente han utiliz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los bancos, se denomina el 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Estudio de las 5 P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, que corresponde a un análisis de 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ariables, que permite analizar el caso, todas las cuales empiezan con la letra P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to 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98100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ers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ropó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rot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- Perspe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los puntos siguientes se comentan brevemente cada una de esta vari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ers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banco trata de obtener la información más completa posible acerca de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ersona que solicita la emisión de la carta de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o la palabra lo indica,  este es un </a:t>
            </a:r>
            <a:r>
              <a:rPr b="0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crédito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que el banco otorgará a su cliente,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uanto lo usual es que el banco pague al vendedor el precio y después recupere e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alor de su cl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lo tanto, habrá un período en que el banco, que ya pagó el valor de 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ocumentos, tiene un crédito en contra del comprador y que, si no lo pue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cuperar, deberá asumir la pérd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8000" y="98100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lo tanto, en esta primera fase del cuestionario, los bancos deben obtener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eguridad de que el cliente tiene una disposición moral para cumplir con s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promisos y que ha tenido comportamiento adecuados en su historia comercial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financi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xisten datos de carácter públicos que proporcionan antecedentes sobre es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ateri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También, el banco solicita información financiera del cliente, como por ejempl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ntecedentes tributarios, balances, pagos de impuestos, ventas recient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ropó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sta variable el banco solicita, por lo general, informes muy completos sobre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egocio mismo que se le pide financi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ejemplo, se suele pedir antecedentes del producto, calidad, grad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ceptación en el público, antecedentes históricos de ventas, proyeccione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entas futuras, situación de la competencia, margen de ganancia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981000"/>
            <a:ext cx="89312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palabras simples, el banco quiere entender que está participando en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financiamiento de un negocio serio, que ha tenido buenos result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nteriormente y en donde no existen mayores riesgos de realizarlo en es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oportun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Si se trata de negocios nuevos, en que no existe mucha información histórica,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banco será más cauteloso y pedirá más antecedentes para tener la seguridad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 no hay un riesgo muy ele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00"/>
                </a:solidFill>
                <a:uFillTx/>
                <a:latin typeface="Comic Sans MS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ada negocio debe bastarse y financiarse a sí mismo, es la regla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sta variable se necesita saber todo el detalle de los costos de la import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 ese producto que al banco se le pide financiar y cuáles son los result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perados de ese negocio, de manera que con el producto del mismo, el comprad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ueda pagar al banco y también tener util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ello es muy importante la información obtenida anteriormente en los punt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a mencionados, respecto de la historia comercial del cliente y del propósit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sa impor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98100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 continuación, se realiza otro ejercicio para determinar que, si por alguna razó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negocio no resulta como se había inicialmente estimado, si existen otros fon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 el cliente pueda tener para pagar con posterioridad al banco el valor que és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bonó al vende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uede ocurrir, y de hecho ha ocurrido muchas veces, en comercio internaciona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que una vez embarcada la mercadería se presenten problemas que afecten l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sultados del negocio, a veces muy grave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ejemplo, puede suceder que se trate de productos perecibles y que suf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años en el transporte marítimo, en donde el seguro fue insuficiente.  En ese cas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l comprador sin duda recibirá un producto deteriorado en el país de destino y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o podrá vender en la cantidad y precio que inicialmente había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Y así, los ejemplos podrían seguir.  En el comercio internacional existen much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iesgos que pueden alterar fundamentalmente el negocio:  demoras en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avegación, pérdida de parte de los productos, echazón, hundimientos, guerr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huelgas, conmoción civil y tantos ot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8000" y="981000"/>
            <a:ext cx="893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ara la gran mayoría de los riesgos existe cobertura de seguro, pero si no se h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tomado una cobertura adecuada, alguien sufrirá una pérd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otro lado, en muchos productos pueden existir bajas bruscas de prec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spués que la mercadería se ha embarcado y que afecten la venta de los mism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el mercado de destino, con lo cual el comprador tendrá que venderlos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érd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También puede haber incumplimientos del vendedor, en que no entrega 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ercaderías adecuadas, sino que otras; o bien entrega las mercaderí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comprometidas, pero están disconformes; o entrega menos cantidad; o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mbalaje no es el adecu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n todos estos casos, podemos ver que el resultado del negocio no fue el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nicialmente se había previsto y que, en consecuencia, con el producto de e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mportación el cliente no está en condiciones de pagar al ban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or lo mismo, en ese escenario el banco quiere saber  si el cliente tiene otr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cursos adicionales como para pagar el valor de la carta de crédito solicit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76200"/>
            <a:ext cx="61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ANALISIS OPERACIONAL Y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22:47:01Z</dcterms:created>
  <dc:creator>Ureta</dc:creator>
  <dc:description/>
  <dc:language>en-US</dc:language>
  <cp:lastModifiedBy>FAS</cp:lastModifiedBy>
  <dcterms:modified xsi:type="dcterms:W3CDTF">2004-06-09T16:13:45Z</dcterms:modified>
  <cp:revision>103</cp:revision>
  <dc:subject/>
  <dc:title>PowerPoint Presentation</dc:title>
</cp:coreProperties>
</file>