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752C8-4537-4390-BAF5-8EAF2288C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2105C-1A9F-42CA-B721-E857B556A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88D66-6C6D-47FE-9E51-88C87DB2B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BE597-16F2-472F-9EA9-508EDEB83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D2583-5437-49DF-9DA9-0CBC6CD89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79F78-5F2E-4D3B-92D9-80D23A8B8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511DB-F00B-444C-BFC8-62F56D7EA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FF70C-DE5F-4434-8FC1-42ABC395E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85193-B5C5-4FAA-99EB-98EB90124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16D2C-7203-416C-87E4-5CCDE7E1B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96FF4-8D49-4BF0-BDF3-623861F3C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EBD02-C07D-48F3-9722-87BE21820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C8FA-55D1-4DE5-A13A-70993835F8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24000" y="5157720"/>
            <a:ext cx="8386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CONVENCIÓN DE VIENA DE 198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COMPRAVENTA INTERNACIONAL DE MERCADE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8000" y="981000"/>
            <a:ext cx="8931240" cy="613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tema no deja de tener relevancia.  Teóricamente, podría ocurrir que un exportador extranjero, basado en las prácticas internacionales, y tomando en consideración las recomendaciones de ciertos manuales del extranjero, pactara con un importador chileno esta cláusula de retención del título, creyendo de esa manera proteger de un modo más seguro sus intereses.  Sin embargo, como hemos visto, esa cláusula podría carece de validez legal en C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Recordamos aquí lo expresado más atrás en este mismo libro respecto de la relación que existe entre autonomía de la voluntad y orden públic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in embargo, teorías jurídicas más recientes han aceptado la validez de esa cláusula en C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s así, que en el texto actual del Código Aeronáutico aprobado por la ley 18.916 de 13 de junio de 1995, el artículo 39 dispone textualmente lo que sig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CL" sz="1600" spc="-1" strike="noStrike">
                <a:solidFill>
                  <a:srgbClr val="ffff00"/>
                </a:solidFill>
                <a:latin typeface="Comic Sans MS"/>
              </a:rPr>
              <a:t>(*) Ver Supra párrafo 16.  " La Autonomía de la Voluntad y Orden Público".</a:t>
            </a:r>
            <a:endParaRPr b="0" lang="en-US" sz="1600" spc="-1" strike="noStrike">
              <a:solidFill>
                <a:srgbClr val="000000"/>
              </a:solidFill>
              <a:latin typeface="Times New Roman"/>
            </a:endParaRPr>
          </a:p>
        </p:txBody>
      </p:sp>
      <p:sp>
        <p:nvSpPr>
          <p:cNvPr id="72"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8000" y="981000"/>
            <a:ext cx="8931240" cy="57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Artículo 39.  Podrán matricularse en Chile las aeronaves extranjeras que hayan sido entregadas en virtud de un contrato en que el propietario se reserva el dominio hasta el cumplimiento de una condición o hasta el pago total del precio, siempre que el adquirente se encuentre en alguno de los casos señalados en el artículo anteri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Mientras no se inscriba el documento que acredite el cumplimiento de la condición, el pago total del precio o la renuncia expresa, no se podrá transferir el dominio de la aeronave ni constituir hipotecas sobre ellas, sin autorización del propieta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a norma citada confirma que al menos en la legislación aeronáutica chilena se reconoce la validez de la cláusula retención del títul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tema no se ha analizado en profundidad en Chile y no se conocen sentencias sobre la mater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CL" sz="1600" spc="-1" strike="noStrike">
                <a:solidFill>
                  <a:srgbClr val="ffff00"/>
                </a:solidFill>
                <a:latin typeface="Comic Sans MS"/>
              </a:rPr>
              <a:t>(*) El artículo 38 señala qué personas naturales o jurídicas pueden matricular aeronaves en Chile, en que se exige como requisito esencial la nacionalidad chilena.</a:t>
            </a:r>
            <a:endParaRPr b="0" lang="en-US" sz="1600" spc="-1" strike="noStrike">
              <a:solidFill>
                <a:srgbClr val="000000"/>
              </a:solidFill>
              <a:latin typeface="Times New Roman"/>
            </a:endParaRPr>
          </a:p>
        </p:txBody>
      </p:sp>
      <p:sp>
        <p:nvSpPr>
          <p:cNvPr id="75"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08000" y="981000"/>
            <a:ext cx="89312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conclusión, hay quienes otorgan validez a la cláusula y no tienen problemas en aplicar a la legislación civil y comercial los principios consagrados en el Código de Aeronáut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or otro lado, hay quienes mantienen sus reservas jurídicas sobre la validez de esta cláusula.</a:t>
            </a:r>
            <a:endParaRPr b="0" lang="en-US" sz="2000" spc="-1" strike="noStrike">
              <a:solidFill>
                <a:srgbClr val="000000"/>
              </a:solidFill>
              <a:latin typeface="Times New Roman"/>
            </a:endParaRPr>
          </a:p>
        </p:txBody>
      </p:sp>
      <p:sp>
        <p:nvSpPr>
          <p:cNvPr id="78"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8000" y="981000"/>
            <a:ext cx="8931240" cy="436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artículo 33 de la Convención  dispone lo siguient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El vendedor deberá entregar las mercaderí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uando, con arreglo del contrato, se haya fijado o pued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terminarse una fecha, en esa fecha; 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uando, con arreglo con contrato se haya fijado o pued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terminarse un plazo, en cualquier momento dentro de ese plazo, 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menos que de la circunstancia resulte que corresponde a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legir la fecha.</a:t>
            </a:r>
            <a:endParaRPr b="0" lang="en-US" sz="2000" spc="-1" strike="noStrike">
              <a:solidFill>
                <a:srgbClr val="000000"/>
              </a:solidFill>
              <a:latin typeface="Times New Roman"/>
            </a:endParaRPr>
          </a:p>
          <a:p>
            <a:pPr lvl="1" marL="1093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cualquier otro caso, dentro de un plazo razonable a partir de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celebración del contrato.</a:t>
            </a:r>
            <a:endParaRPr b="0" lang="en-US" sz="2000" spc="-1" strike="noStrike">
              <a:solidFill>
                <a:srgbClr val="000000"/>
              </a:solidFill>
              <a:latin typeface="Times New Roman"/>
            </a:endParaRPr>
          </a:p>
        </p:txBody>
      </p:sp>
      <p:sp>
        <p:nvSpPr>
          <p:cNvPr id="81" name=""/>
          <p:cNvSpPr/>
          <p:nvPr/>
        </p:nvSpPr>
        <p:spPr>
          <a:xfrm>
            <a:off x="625320" y="304920"/>
            <a:ext cx="72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IEMPO PARA LA ENTREGA DE LA MERCADE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8000" y="981000"/>
            <a:ext cx="8931240" cy="5887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 acuerdo con la norma transcrita, el tiempo para entregar la mercadería se determina según los siguientes criterios.</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Fecha</a:t>
            </a:r>
            <a:r>
              <a:rPr b="0" lang="es-ES_tradnl" sz="2000" spc="-1" strike="noStrike">
                <a:solidFill>
                  <a:srgbClr val="ffff00"/>
                </a:solidFill>
                <a:latin typeface="Comic Sans MS"/>
              </a:rPr>
              <a:t> determinada o determinable, según el contrato.</a:t>
            </a: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Plazo</a:t>
            </a:r>
            <a:r>
              <a:rPr b="0" lang="es-ES_tradnl" sz="2000" spc="-1" strike="noStrike">
                <a:solidFill>
                  <a:srgbClr val="ffff00"/>
                </a:solidFill>
                <a:latin typeface="Comic Sans MS"/>
              </a:rPr>
              <a:t> determinado o determinable, según el contrato, a menos 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Corresponda al comprador elegir la fecha.</a:t>
            </a: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Plazo razonable</a:t>
            </a:r>
            <a:r>
              <a:rPr b="0" lang="es-ES_tradnl" sz="2000" spc="-1" strike="noStrike">
                <a:solidFill>
                  <a:srgbClr val="ffff00"/>
                </a:solidFill>
                <a:latin typeface="Comic Sans MS"/>
              </a:rPr>
              <a:t>,  si no está determinado de acuerdo con los criterios  anterior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concepto de plazo razonable es novedoso, en el sentido que no está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finido en la Conven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Finalmente, le tocará al juez resolver en caso de falta de entrega o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raso de la misma, si hay responsabilidad del vendedor por no haber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hecho dentro de lo que sería un plazo razonab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este sentido, puede ser importante la consideración de la letra b) d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mismo artículo 33 que establece que el período pueda ser "determinab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or el contrato".</a:t>
            </a:r>
            <a:endParaRPr b="0" lang="en-US" sz="2000" spc="-1" strike="noStrike">
              <a:solidFill>
                <a:srgbClr val="000000"/>
              </a:solidFill>
              <a:latin typeface="Times New Roman"/>
            </a:endParaRPr>
          </a:p>
        </p:txBody>
      </p:sp>
      <p:sp>
        <p:nvSpPr>
          <p:cNvPr id="84" name=""/>
          <p:cNvSpPr/>
          <p:nvPr/>
        </p:nvSpPr>
        <p:spPr>
          <a:xfrm>
            <a:off x="625320" y="304920"/>
            <a:ext cx="72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IEMPO PARA LA ENTREGA DE LA MERCADE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08000" y="981000"/>
            <a:ext cx="8931240" cy="6007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os principios UNIDROIT establecen en su artículo 6.1.1. concept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totalmente semejantes  con los anteriores, señalando que el tiempo,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rimer lugar, debe estar determinado por el contrato; enseguida, agreg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también la idea de que pueda ser determinable por el contrato y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finalmente, establece también la idea de un "tiempo razonab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profesor Hans Van Houtte, de la Universidad de Leuven señala que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rincipios UNIDROIT puedan incluir nociones de cierto riesgo jurídico a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ontener "notions á contenu variable</a:t>
            </a:r>
            <a:r>
              <a:rPr b="0" i="1" lang="es-ES_tradnl" sz="2000" spc="-1" strike="noStrike">
                <a:solidFill>
                  <a:srgbClr val="ffff00"/>
                </a:solidFill>
                <a:latin typeface="Comic Sans MS"/>
              </a:rPr>
              <a:t>",</a:t>
            </a:r>
            <a:r>
              <a:rPr b="0" lang="es-ES_tradnl" sz="2000" spc="-1" strike="noStrike">
                <a:solidFill>
                  <a:srgbClr val="ffff00"/>
                </a:solidFill>
                <a:latin typeface="Comic Sans MS"/>
              </a:rPr>
              <a:t> (*) que no tienen una defini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muy precisa y cuya interpretación final dependerá del juicio de la Corte, 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l árbitro, que tenga que aplicar los principios en cada caso partic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lo confirma nuestra conclusión previa, en el sentido que final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tocará al juez determinar el concepto de "plazo razonable" par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terminar el tiempo de la entrega de las mercaderí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 Hans Van Houtte.  The UNIDROIT Principles as a Guide to Drafting Contracts.  In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UNIDROIT Principles for Internacional Commercial Contracts.  ICC Publications.  </a:t>
            </a:r>
            <a:r>
              <a:rPr b="0" lang="es-ES" sz="1600" spc="-1" strike="noStrike">
                <a:solidFill>
                  <a:srgbClr val="ffff00"/>
                </a:solidFill>
                <a:latin typeface="Comic Sans MS"/>
              </a:rPr>
              <a:t>Pari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Comic Sans MS"/>
              </a:rPr>
              <a:t>1995.</a:t>
            </a:r>
            <a:endParaRPr b="0" lang="en-US" sz="1600" spc="-1" strike="noStrike">
              <a:solidFill>
                <a:srgbClr val="000000"/>
              </a:solidFill>
              <a:latin typeface="Times New Roman"/>
            </a:endParaRPr>
          </a:p>
        </p:txBody>
      </p:sp>
      <p:sp>
        <p:nvSpPr>
          <p:cNvPr id="87" name=""/>
          <p:cNvSpPr/>
          <p:nvPr/>
        </p:nvSpPr>
        <p:spPr>
          <a:xfrm>
            <a:off x="625320" y="304920"/>
            <a:ext cx="72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IEMPO PARA LA ENTREGA DE LA MERCADE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08000" y="981000"/>
            <a:ext cx="8931240" cy="5887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de Viena trata el punto de las obligaciones de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Capítulo III, en los artículos 53 a 59.</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El artículo 53 establece las dos obligaciones principales de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que son pagar el precio y recibir las mercaderías, disponien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textual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t>
            </a:r>
            <a:r>
              <a:rPr b="0" lang="es-CL" sz="2000" spc="-1" strike="noStrike">
                <a:solidFill>
                  <a:srgbClr val="ffff00"/>
                </a:solidFill>
                <a:latin typeface="Comic Sans MS"/>
              </a:rPr>
              <a:t>El comprador deberá pagar el precio de las mercaderías y recibirlas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las condiciones establecidas en el contrato y en la presente Conven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uevamente, la Convención reconoce el principio de la autonomía de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voluntad de las partes.  Es el contrato el que determina las condiciones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pago del precio y de recepción de las mercaderí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 falta de dicha estipulación entre las partes, la Convención determi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iertas regl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a) Obligación de pagar el precio.</a:t>
            </a:r>
            <a:endParaRPr b="0" lang="en-US" sz="2000" spc="-1" strike="noStrike">
              <a:solidFill>
                <a:srgbClr val="000000"/>
              </a:solidFill>
              <a:latin typeface="Times New Roman"/>
            </a:endParaRPr>
          </a:p>
        </p:txBody>
      </p:sp>
      <p:sp>
        <p:nvSpPr>
          <p:cNvPr id="90"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08000" y="981000"/>
            <a:ext cx="8931240" cy="625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primer lugar, el comprador está no sólo obligado al pago d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o que, como parte de tal  obligación, debe realizar los esfuerz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ecesarios para que el pago sea posib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54 de la Convención dispone textualment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La obligación del comprador de pagar el precio comprende la de adopta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medidas y cumplir los requisitos fijados por el contrato o por las ley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 los reglamentos pertinentes para que sea posible el pag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consecuencia, si por un hecho posterior, que el comprador pudo habe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vitado o corregido, el pago no se realiza, no podrá el comprador alega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su defensa,  la existencia de caso fortuito o de fuerza may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specto de la fijación o determinación del precio, los sistemas jurídic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la mayoría de los países, exigen que éste sea pactado en dinero,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a real y que esté determinado en el contrato, o que sea determinab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 acuerdo a criterios establecidos en el mismo contrato.</a:t>
            </a:r>
            <a:r>
              <a:rPr b="0" lang="es-ES"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93"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8000" y="981000"/>
            <a:ext cx="893124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139 del Código de Comercio chileno establece 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No hay compraventa si los contratantes no convienen en el precio o en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anera de determinarl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 embargo, la misma norma agrega 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Si la cosa vendida fuere entregada, se presumirá que las partes ha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ceptado el precio corriente que tenga en el día y lugar en que se hubier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elebrado el contrat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ás aún, el inciso segundo del mismo artículo agrega 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Habiendo diversidad de precios en el mismo día y lugar, e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berá pagar el precio medio”.</a:t>
            </a:r>
            <a:endParaRPr b="0" lang="en-US" sz="2000" spc="-1" strike="noStrike">
              <a:solidFill>
                <a:srgbClr val="000000"/>
              </a:solidFill>
              <a:latin typeface="Times New Roman"/>
            </a:endParaRPr>
          </a:p>
        </p:txBody>
      </p:sp>
      <p:sp>
        <p:nvSpPr>
          <p:cNvPr id="96"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
          <p:cNvSpPr/>
          <p:nvPr/>
        </p:nvSpPr>
        <p:spPr>
          <a:xfrm>
            <a:off x="0" y="83664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08000" y="836640"/>
            <a:ext cx="8931240" cy="606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a es una disposición curiosa, y que, de algún modo modifica para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praventa mercantil, los principios generales aplicables en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tratos civil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l respecto, el profesor Raúl Diez Duarte,  señal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Son nulos, ha dicho nuestra jurisprudencia en reiteradas  sentencias,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tratos de compraventa en que el precio no aparece fijado por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s, ni la manera de determinarl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la norma legal citada de nuestro Código de Comercio, el legisl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icia la disposición estableciendo que, a falta de fijación de precio, “n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ay compraventa”. Vale decir, el contrato sería inexistente. Sin embarg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 continuación se agrega que “si la cosa es entregada” (y por lo tant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cibida por el comprador), se presume la intención de las partes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aber pactado el precio corriente de plaza. Más, aún, en caso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iversidad de precios, se entenderá que las partes han pactado 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d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Raúl Diez Duarte.  Obra citada.  Pág. 89.</a:t>
            </a:r>
            <a:endParaRPr b="0" lang="en-US" sz="1600" spc="-1" strike="noStrike">
              <a:solidFill>
                <a:srgbClr val="000000"/>
              </a:solidFill>
              <a:latin typeface="Times New Roman"/>
            </a:endParaRPr>
          </a:p>
        </p:txBody>
      </p:sp>
      <p:sp>
        <p:nvSpPr>
          <p:cNvPr id="99"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08000" y="981000"/>
            <a:ext cx="8931240" cy="57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a cláusula de retención del título, que se conoce también con el nombre “reserva de dominio”, se refiere a un pacto de carácter facultativo que las partes pueden convenir, si así lo estiman convenie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virtud de ésta cláusula, el vendedor se reserva el dominio de la mercadería hasta que el comprador pague completamente el prec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autor español Enrique Guardiola la define de la siguiente mane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Aquella estipulación adicional a un contrato de  compraventa en virtud de la cual el vendedor se reserva el derecho de propiedad de  los bienes  vendidos hasta que el comprador haya satisfecho la totalidad del precio acordado, actuando como garantía a favor del primero de manera que pueda, caso de no percibir la totalidad de dicho precio, reivindicar el dominio o propiedad que se había reservado en el propio contrato de compraventa.“ </a:t>
            </a:r>
            <a:r>
              <a:rPr b="0" lang="es-ES_tradnl"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CL" sz="1600" spc="-1" strike="noStrike" u="sng">
                <a:solidFill>
                  <a:srgbClr val="ccccff"/>
                </a:solidFill>
                <a:uFillTx/>
                <a:latin typeface="Comic Sans MS"/>
                <a:hlinkClick r:id="rId2" action="ppaction://hlinksldjump"/>
              </a:rPr>
              <a:t>(*)</a:t>
            </a:r>
            <a:r>
              <a:rPr b="0" lang="es-CL" sz="1600" spc="-1" strike="noStrike">
                <a:solidFill>
                  <a:srgbClr val="ffff00"/>
                </a:solidFill>
                <a:latin typeface="Comic Sans MS"/>
              </a:rPr>
              <a:t> Enrique Guardiola S.  “La Compraventa Internacional”.  Bosch, Casa Editorial.  Barcelona 1994. Página 158. </a:t>
            </a:r>
            <a:endParaRPr b="0" lang="en-US" sz="1600" spc="-1" strike="noStrike">
              <a:solidFill>
                <a:srgbClr val="000000"/>
              </a:solidFill>
              <a:latin typeface="Times New Roman"/>
            </a:endParaRPr>
          </a:p>
        </p:txBody>
      </p:sp>
      <p:sp>
        <p:nvSpPr>
          <p:cNvPr id="48"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8000" y="981000"/>
            <a:ext cx="8931240" cy="6497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hecho esencial que hace, por así decirlo, “renacer” el contrato, es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cuerdo de voluntades en entregar y recibir la mercadería. Ello result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ógico, puesto que ante tal acuerdo, se presume que las part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erdaderamente han acordado celebrar el contrato y, a falta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ipulación sobre el precio, la ley indica un re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de Viena incluye una disposición semejante; aún cuando n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xactamente igu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55 dispon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Cuando el contrato haya sido válidamente celebrado pero en él ni expres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i tácitamente se haya señalado el precio o estipulado un medio par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terminarlo, se considerará, salvo indicación en contrario, que las part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an hecho referencia implícitamente al precio generalmente  cobrado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momento de  la celebración del contrato por tales mercaderí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endidas en circunstancias semejantes, en el tráfico mercantil de que 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rate”. </a:t>
            </a:r>
            <a:endParaRPr b="0" lang="en-US" sz="2000" spc="-1" strike="noStrike">
              <a:solidFill>
                <a:srgbClr val="000000"/>
              </a:solidFill>
              <a:latin typeface="Times New Roman"/>
            </a:endParaRPr>
          </a:p>
        </p:txBody>
      </p:sp>
      <p:sp>
        <p:nvSpPr>
          <p:cNvPr id="102"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08000" y="981000"/>
            <a:ext cx="8931240" cy="6497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ste caso, la Convención no exige que exista un acuerdo posterior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oluntades respecto de la entrega de la cosa vendida. Aquí, simple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otorga valor al contrato en sí mismo, y se establece que, a falta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ipulación sobre el precio, se entenderá que las partes han convenido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recio corriente de plaz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 importante relacionar el artículo 51 con el artículo 14 que señala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quisitos que debe tener la oferta.  La segunda frase del número 1) d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rtículo 14 dispone textual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na propuesta es suficientemente precisa si indica las mercaderías y,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xpresa o tácitamente, señala la cantidad y el precio, o prevé un med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a determinar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na lectura rápida de la norma recién citada, podría inducir a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clusión </a:t>
            </a:r>
            <a:r>
              <a:rPr b="0" i="1" lang="es-ES" sz="2000" spc="-1" strike="noStrike">
                <a:solidFill>
                  <a:srgbClr val="ffff00"/>
                </a:solidFill>
                <a:latin typeface="Comic Sans MS"/>
              </a:rPr>
              <a:t>prima facie</a:t>
            </a:r>
            <a:r>
              <a:rPr b="0" lang="es-ES" sz="2000" spc="-1" strike="noStrike">
                <a:solidFill>
                  <a:srgbClr val="ffff00"/>
                </a:solidFill>
                <a:latin typeface="Comic Sans MS"/>
              </a:rPr>
              <a:t> que si la oferta no indica el precio ni prevé u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dio para determinarlo, tal oferta sería incompleta y no daría origen 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n contrato.  En consecuencia, si el contrato no indica el precio, sería nulo </a:t>
            </a:r>
            <a:endParaRPr b="0" lang="en-US" sz="2000" spc="-1" strike="noStrike">
              <a:solidFill>
                <a:srgbClr val="000000"/>
              </a:solidFill>
              <a:latin typeface="Times New Roman"/>
            </a:endParaRPr>
          </a:p>
        </p:txBody>
      </p:sp>
      <p:sp>
        <p:nvSpPr>
          <p:cNvPr id="105"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08000" y="981000"/>
            <a:ext cx="8931240" cy="5887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disposición del artículo 55 transcrita más atrás resuelve el problem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gún dicha norma del artículo 55, si existe el acuerdo de voluntad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 las partes en celebrar el contrato, que es el principio que fluye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primera parte del artículo 55 ("cuando el contrato haya si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álidamente celebrado"), aún cuando el contrato no contenga ningu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dicación que permita determinar el precio, éste se entiende válido y 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resume que las partes han hecho implícitamente referencia a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generalmente cobrado por esas mercaderías, en circunstanci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mejantes, en el tráfico mercantil de que se trate.  Esto es, 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rriente de plaz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 embargo, la conclusión anterior, hablando con franqueza, no 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ncil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rofesor John Honnold sostiene que, al leer separadamente el artícul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14, podría interpretarse que no existe un contrato si no está precedi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una oferta que determine, expresa o tácitamente, el precio, o  prevé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n medio para determinarlo. </a:t>
            </a:r>
            <a:endParaRPr b="0" lang="en-US" sz="2000" spc="-1" strike="noStrike">
              <a:solidFill>
                <a:srgbClr val="000000"/>
              </a:solidFill>
              <a:latin typeface="Times New Roman"/>
            </a:endParaRPr>
          </a:p>
        </p:txBody>
      </p:sp>
      <p:sp>
        <p:nvSpPr>
          <p:cNvPr id="108"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8000" y="981000"/>
            <a:ext cx="8931240" cy="679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rofesor Honnold explica que la redacción del artículo 55 fue u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pecie de compromiso de todos los delegados asistentes a la Conven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sentido que puede entenderse que hay un contrato válida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elebrado, aún cuando no se haya señalado el precio o estipulado un med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a determinarlo.  En tal caso, concluye el profesor Honnold se entien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que las partes han hecho siempre una implícita referencia a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rriente de plaz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rofesor francés Denis Tallon sostiene que la anterior interpreta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l artículo 55 es una mala solución, pero al final de cuentas la única par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ciliar los artículos 55 y 14 de la Convención.  En el sentido que otorg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fectos jurídicos el artículo 55 y no priva al artículo 14 de to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gnifica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John Honnold.  Obra citada.  Párrafo 137.</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Denis Tallon.  Obligaciones del Comprador en la Convención.  </a:t>
            </a:r>
            <a:r>
              <a:rPr b="0" lang="en-US" sz="1600" spc="-1" strike="noStrike">
                <a:solidFill>
                  <a:srgbClr val="ffff00"/>
                </a:solidFill>
                <a:latin typeface="Comic Sans MS"/>
              </a:rPr>
              <a:t>En International Sales: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United Nations Conventions on Contracts for the International Sales of Goods.  </a:t>
            </a:r>
            <a:r>
              <a:rPr b="0" lang="es-ES" sz="1600" spc="-1" strike="noStrike">
                <a:solidFill>
                  <a:srgbClr val="ffff00"/>
                </a:solidFill>
                <a:latin typeface="Comic Sans MS"/>
              </a:rPr>
              <a:t>Columbia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Comic Sans MS"/>
              </a:rPr>
              <a:t>University.  Mathew Bender New York.  </a:t>
            </a:r>
            <a:r>
              <a:rPr b="0" lang="es-CL" sz="1600" spc="-1" strike="noStrike">
                <a:solidFill>
                  <a:srgbClr val="ffff00"/>
                </a:solidFill>
                <a:latin typeface="Comic Sans MS"/>
              </a:rPr>
              <a:t>1984.</a:t>
            </a:r>
            <a:endParaRPr b="0" lang="en-US" sz="1600" spc="-1" strike="noStrike">
              <a:solidFill>
                <a:srgbClr val="000000"/>
              </a:solidFill>
              <a:latin typeface="Times New Roman"/>
            </a:endParaRPr>
          </a:p>
        </p:txBody>
      </p:sp>
      <p:sp>
        <p:nvSpPr>
          <p:cNvPr id="111"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08000" y="981000"/>
            <a:ext cx="8931240" cy="741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cuanto al </a:t>
            </a:r>
            <a:r>
              <a:rPr b="1" lang="es-ES" sz="2000" spc="-1" strike="noStrike">
                <a:solidFill>
                  <a:srgbClr val="ffff00"/>
                </a:solidFill>
                <a:latin typeface="Comic Sans MS"/>
              </a:rPr>
              <a:t>lugar </a:t>
            </a:r>
            <a:r>
              <a:rPr b="0" lang="es-ES" sz="2000" spc="-1" strike="noStrike">
                <a:solidFill>
                  <a:srgbClr val="ffff00"/>
                </a:solidFill>
                <a:latin typeface="Comic Sans MS"/>
              </a:rPr>
              <a:t>en que se debe pagar el precio, la Convención establec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artículo 57 que, si el comprador no está obligado a hacerlo en u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ugar determinado, lo hará, en el establecimiento del vendedor, o bien, s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ago debe hacerse contra entrega de las mercaderías, en el lugar de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g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specto del </a:t>
            </a:r>
            <a:r>
              <a:rPr b="1" lang="es-ES" sz="2000" spc="-1" strike="noStrike">
                <a:solidFill>
                  <a:srgbClr val="ffff00"/>
                </a:solidFill>
                <a:latin typeface="Comic Sans MS"/>
              </a:rPr>
              <a:t>tiempo</a:t>
            </a:r>
            <a:r>
              <a:rPr b="0" lang="es-ES" sz="2000" spc="-1" strike="noStrike">
                <a:solidFill>
                  <a:srgbClr val="ffff00"/>
                </a:solidFill>
                <a:latin typeface="Comic Sans MS"/>
              </a:rPr>
              <a:t> del pago, el artículo 58, establece la regla general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sentido que, a falta de estipulación expresa, el comprador deberá paga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recio cuando el vendedor ponga su disposición las mercaderías o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ocumentos representativos de ellas.  Esto es precisamente lo que ocurr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las operaciones bajo Carta de Crédito, en que el comprador utilizó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icho mecanismo para el pago. En tal caso, el vendedor recibirá 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momento en que presente los documentos conformes en el banco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e notificó la Carta de Crédit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sta materia, la Convención de Viena contiene disposiciones similares 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que establece la ley chilena, al disponer en su artículo 58 Nº1 que :</a:t>
            </a:r>
            <a:endParaRPr b="0" lang="en-US" sz="2000" spc="-1" strike="noStrike">
              <a:solidFill>
                <a:srgbClr val="000000"/>
              </a:solidFill>
              <a:latin typeface="Times New Roman"/>
            </a:endParaRPr>
          </a:p>
        </p:txBody>
      </p:sp>
      <p:sp>
        <p:nvSpPr>
          <p:cNvPr id="114"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08000" y="981000"/>
            <a:ext cx="8931240" cy="558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El vendedor podrá hacer del pago una condición para la entrega d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s o los documentos”.  Incluso más, en el Nº2 del mismo artícul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agrega que, si el contrato implica transporte de las mercaderías,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endedor podrá despacharlas con  la instrucción de que no se entregu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o contra pago del prec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otro lado, según establece el Nº3 de la referida disposición,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prador no estará obligado a pagar el precio, mientras no haya teni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posibilidad de examinar las mercaderías.  Ello, a menos qu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odalidades de entrega o de pago pactadas por las partes, sea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compatibles con esa posibilidad, concluye la disposición citad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lo que se refiere a los </a:t>
            </a:r>
            <a:r>
              <a:rPr b="1" lang="es-ES" sz="2000" spc="-1" strike="noStrike">
                <a:solidFill>
                  <a:srgbClr val="ffff00"/>
                </a:solidFill>
                <a:latin typeface="Comic Sans MS"/>
              </a:rPr>
              <a:t>mecanismos y sistemas de pago</a:t>
            </a:r>
            <a:r>
              <a:rPr b="0" lang="es-ES" sz="2000" spc="-1" strike="noStrike">
                <a:solidFill>
                  <a:srgbClr val="ffff00"/>
                </a:solidFill>
                <a:latin typeface="Comic Sans MS"/>
              </a:rPr>
              <a:t>, en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peraciones de comercio internacional suele existir ciertas prácticas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so común por los distintos agentes comerciales en todos los países d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undo, tales como,</a:t>
            </a:r>
            <a:r>
              <a:rPr b="0" lang="es-ES"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117"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08000" y="981000"/>
            <a:ext cx="8931240" cy="680220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Carta de Crédito</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Cobranza Bancaria</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Cobranza Simp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elección del mecanismo más adecuado para el pago del precio  en cad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peración de comercio internacional, dependerá de muchos factores tal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o la naturaleza del contrato, las relaciones pre-existentes entr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s, la cláusula de venta convenida según INCOTERMS, el lugar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ga de la mercadería y el medio de transporte, si lo hubie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 la misma manera que al vendedor le interesa asegurarse el pago d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recio antes de entregar la mercadería, al comprador le interesa tambié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segurarse que se le entregue la mercadería, antes de pagar el prec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eso, y en consideración a los otros requisitos recién mencionad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specto de la elección del medio de pago, éste variará según sea mayor 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nor el riesgo que cada una de las partes esté dispuesta a aceptar,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ada contrato.</a:t>
            </a:r>
            <a:endParaRPr b="0" lang="en-US" sz="2000" spc="-1" strike="noStrike">
              <a:solidFill>
                <a:srgbClr val="000000"/>
              </a:solidFill>
              <a:latin typeface="Times New Roman"/>
            </a:endParaRPr>
          </a:p>
        </p:txBody>
      </p:sp>
      <p:sp>
        <p:nvSpPr>
          <p:cNvPr id="120"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08000" y="981000"/>
            <a:ext cx="893124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mecanismo de pago que se considera más seguro es a través de u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arta de Crédito, en que el comprador solicita la emisión de es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ocumento a un banco que lo notifica al vendedor.  En ese momento, qui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sume la obligación de pago es el banco, el que solamente lo hará en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dida en que todos y cada uno de los documentos presentados por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endedor para el cobro del crédito se encuentren conformes con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ipulaciones contenidas en la carta de crédito.  Este sistema de pago 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udia más adelante en este libr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tro de los mecanismos usados para este propósito es el de la Cobranz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Bancaria, en donde el vendedor envía toda la documentación de embar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l domicilio del comprador a través de un banco comercial.   Este sistem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upone un cierto grado de mayor confianza entre las partes puesto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quí, a diferencia del sistema recién comentado, no existe una obliga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bancaria de pago. </a:t>
            </a:r>
            <a:endParaRPr b="0" lang="en-US" sz="2000" spc="-1" strike="noStrike">
              <a:solidFill>
                <a:srgbClr val="000000"/>
              </a:solidFill>
              <a:latin typeface="Times New Roman"/>
            </a:endParaRPr>
          </a:p>
        </p:txBody>
      </p:sp>
      <p:sp>
        <p:nvSpPr>
          <p:cNvPr id="123"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08000" y="981000"/>
            <a:ext cx="8931240" cy="771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banco que recibe la documentación simplemente notifica a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que los documentos están a su disposición, contra pago, o contra u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garantía de pago.  Si el comprador no paga, o no da garantías suficient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banco comercial simplemente no le puede entregar los documentos y,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secuencia, el comprador no podrá disponer de la mercadería.  Esto 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o podrá retirarla del lugar en donde se encuentra; por ejemplo del bu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puerto de destino.   En tal caso, si la compañía naviera entregaré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 a pesar de que no se presenten los documentos original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bidamente pagados por el comprador, se hará responsable de los dañ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y perjuicios causados por este concepto al vendedor.  Este sistema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go es de menos costo, más fácil y expedito que el anterior, pero n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iene la garantía bancaria del pag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tro sistema, más simple y menos costoso, pero de mayor riesgo aún es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 Cobranza Simple, en que el  vendedor despacho directamente p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rreo los documentos, "en cobranza", al domicilio del vendedor.  Este, a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cibo de tales documentos debe efectuar el pago. Este procedimient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upone un muy alto grado de confianza entre las partes.</a:t>
            </a:r>
            <a:endParaRPr b="0" lang="en-US" sz="2000" spc="-1" strike="noStrike">
              <a:solidFill>
                <a:srgbClr val="000000"/>
              </a:solidFill>
              <a:latin typeface="Times New Roman"/>
            </a:endParaRPr>
          </a:p>
        </p:txBody>
      </p:sp>
      <p:sp>
        <p:nvSpPr>
          <p:cNvPr id="126"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08000" y="981000"/>
            <a:ext cx="8931240" cy="497268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b)</a:t>
            </a:r>
            <a:r>
              <a:rPr b="0" lang="es-ES" sz="2000" spc="-1" strike="noStrike">
                <a:solidFill>
                  <a:srgbClr val="ffff00"/>
                </a:solidFill>
                <a:latin typeface="Comic Sans MS"/>
              </a:rPr>
              <a:t>	</a:t>
            </a:r>
            <a:r>
              <a:rPr b="0" lang="es-ES" sz="2000" spc="-1" strike="noStrike">
                <a:solidFill>
                  <a:srgbClr val="ffff00"/>
                </a:solidFill>
                <a:latin typeface="Comic Sans MS"/>
              </a:rPr>
              <a:t>Obligación de recibir las mercaderías.</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cuanto a la otra obligación principal del comprador, cual  es la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cibir las mercaderías, éste deberá, según el artículo 60 de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ven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alizar todos los actos que razonablemente quepa espera de él para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vendedor pueda efectuar la entreg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a es una obligación de cooperación, similar a la que recae sobre él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uanto al pago d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letra b) del mismo artículo  agrega la obligación esencial, cual  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Hacerse cargo de las  mercaderías”.  </a:t>
            </a:r>
            <a:endParaRPr b="0" lang="en-US" sz="2000" spc="-1" strike="noStrike">
              <a:solidFill>
                <a:srgbClr val="000000"/>
              </a:solidFill>
              <a:latin typeface="Times New Roman"/>
            </a:endParaRPr>
          </a:p>
        </p:txBody>
      </p:sp>
      <p:sp>
        <p:nvSpPr>
          <p:cNvPr id="129"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08000" y="981000"/>
            <a:ext cx="8931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concepto jurídico de reserva de dominio por parte del vendedor tiene alguna posibilidad de aplicación práctica cuando la mercadería ya ha sido entregada al comprador, o al menos despachada.  De esta manera, en virtud de esta cláusula, el vendedor puede reivindicar, como dueño, su mercadería de manos del comprador, en caso que éste no la pag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mismo autor Enrique Guardiola agrega en la obra citada que en la legislación mundial existe gran diversidad de criterios jurídicos respecto de la validez de ésta cláusu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sí, algunas legislaciones la admiten plenamente, otras dificultan considerablemente el reconocimiento de su eficacia y otras simplemente no la admit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or ejemplo en Bélgica no se admite, en tanto que en Francia, Italia, Holanda, Alemania, Austria sí le otorgan reconocimiento.</a:t>
            </a:r>
            <a:endParaRPr b="0" lang="en-US" sz="2000" spc="-1" strike="noStrike">
              <a:solidFill>
                <a:srgbClr val="000000"/>
              </a:solidFill>
              <a:latin typeface="Times New Roman"/>
            </a:endParaRPr>
          </a:p>
        </p:txBody>
      </p:sp>
      <p:sp>
        <p:nvSpPr>
          <p:cNvPr id="51"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000" y="981000"/>
            <a:ext cx="8931240" cy="356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o es, recibirlas y tomar la carga y responsabilidad de los riesgos sobr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mismas.  Cabe recordar que los riesgos de la cosa vendida 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ransfieren al comprador en el momento de la  entrega d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s. (*)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lo mismo, si, por un hecho o culpa suya, el comprador no recib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s en el tiempo y forma que corresponden, deberá responder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os daños y perjuicios causados al vended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Ver Supra párrafo 35  "Transferencia de los Riesgos".</a:t>
            </a:r>
            <a:endParaRPr b="0" lang="en-US" sz="1600" spc="-1" strike="noStrike">
              <a:solidFill>
                <a:srgbClr val="000000"/>
              </a:solidFill>
              <a:latin typeface="Times New Roman"/>
            </a:endParaRPr>
          </a:p>
        </p:txBody>
      </p:sp>
      <p:sp>
        <p:nvSpPr>
          <p:cNvPr id="132"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08000" y="981000"/>
            <a:ext cx="89312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un modelo de contrato de compraventa internacional de mercaderías, elaborado por la Cámara de Comercio Internacional, se menciona la posibilidad de que las partes convengan dicha estipulación.   El modelo de contrato que propone la CCI se refiere a un contrato de venta internacional de mercaderías manufacturadas con el propósito que ella sea revendi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n el artículo 7 de las Condiciones Generales del Contrato, se establece lo siguiente  "If the  parties have validly agreed on retention of title, the goods shall remain the property of the Seller until the complete payment of the price, or as otherwise agre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o anterior, significa, simplemente, que si las partes lo acuerdan, las mercaderías continuarán bajo la propiedad del vendedor hasta el pago completo del pre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uál es la situación en Chile?.</a:t>
            </a:r>
            <a:endParaRPr b="0" lang="en-US" sz="2000" spc="-1" strike="noStrike">
              <a:solidFill>
                <a:srgbClr val="000000"/>
              </a:solidFill>
              <a:latin typeface="Times New Roman"/>
            </a:endParaRPr>
          </a:p>
        </p:txBody>
      </p:sp>
      <p:sp>
        <p:nvSpPr>
          <p:cNvPr id="54"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8000" y="981000"/>
            <a:ext cx="8931240" cy="58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bemos reiterar,  primeramente, que, a según se ha expresado en el párrafo  sobre "Compraventa y Transferencia del Dominio"  (*), que, en nuestro país la compraventa es un título y no un modo de adquirir el dominio.  La propiedad sobre las cosas se adquiere a través de un mecanismo denominado modo de adquirir, que en el caso de la compraventa corresponde a la llamada “tradic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retención del título" significa condicionar al pago del precio por el comprador la transferencia del dominio que se produce a éste, mediante la "tradición" de la cosa vend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caso de aplicarse dicha cláusula, podríamos imaginar un contrato de compraventa internacional en que el vendedor, domiciliado en un país determinado, efectivamente  entrega las mercaderías al comprador domiciliado en otro país,   habiendo quedado, en el ejemplo,  pendiente el pago del precio.  Si en definitiva, el comprador no paga el precio, y la cláusula se aplicare, no se habría producido con la entrega de l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Ver Supra párrafo 19. Compraventa y Transferencia de Dominio.</a:t>
            </a:r>
            <a:endParaRPr b="0" lang="en-US" sz="1600" spc="-1" strike="noStrike">
              <a:solidFill>
                <a:srgbClr val="000000"/>
              </a:solidFill>
              <a:latin typeface="Times New Roman"/>
            </a:endParaRPr>
          </a:p>
        </p:txBody>
      </p:sp>
      <p:sp>
        <p:nvSpPr>
          <p:cNvPr id="57"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08000" y="981000"/>
            <a:ext cx="8931240" cy="57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s la transferencia de propiedad al comprador. En ese caso, el vendedor podría pedir la restitución de las mercaderías entregadas, en calidad de dueño. Vale decir, su “título” o condición de reclamo en contra del comprador estaría en este caso basada en su calidad de dueño de las mercaderías y no en la condición de acreedor agraviad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pitiendo la pregunta anterior, ¿Cuál es el valor de dicha estipulación en C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nuestro ordenamiento jurídico,  según muchos tratadistas, la cláusula carece de validez.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egún otros tratadistas, la cláusula sería vál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00"/>
                </a:solidFill>
                <a:latin typeface="Comic Sans MS"/>
              </a:rPr>
              <a:t>El artículo 1874 del Código Civil disp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En esta parte se cambia sustancialmente la opinión del profesor contenida en su libro Compraventa de Mercaderías.</a:t>
            </a:r>
            <a:br>
              <a:rPr sz="1600"/>
            </a:br>
            <a:endParaRPr b="0" lang="en-US" sz="1600" spc="-1" strike="noStrike">
              <a:solidFill>
                <a:srgbClr val="000000"/>
              </a:solidFill>
              <a:latin typeface="Times New Roman"/>
            </a:endParaRPr>
          </a:p>
        </p:txBody>
      </p:sp>
      <p:sp>
        <p:nvSpPr>
          <p:cNvPr id="60"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08000" y="981000"/>
            <a:ext cx="89312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La cláusula de no transferirse el dominio sino en virtud de la paga del precio, no producirá otro efecto que el de la demanda alternativa enunciada en el artículo preced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 su vez, el artículo 1873 del mismo Código establece 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Si el comprador estuviere constituido en mora de pagar el precio en el lugar y tiempo dichos, el vendedor tendrá derecho para exigir el precio o la resolución de la venta, con resarcimiento de perjui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sto quiere decir que, si el comprador no paga el precio, el vendedor tiene derecho a pedir el cumplimiento forzado de la obligación, por la vía judicial, o bien la resolución del contrato.  Pero, en Chile, el vendedor, una vez producida la tradición no tiene derecho, para actuar en calidad de propietario y pedir la restitución de la cosa vendida.</a:t>
            </a:r>
            <a:endParaRPr b="0" lang="en-US" sz="2000" spc="-1" strike="noStrike">
              <a:solidFill>
                <a:srgbClr val="000000"/>
              </a:solidFill>
              <a:latin typeface="Times New Roman"/>
            </a:endParaRPr>
          </a:p>
        </p:txBody>
      </p:sp>
      <p:sp>
        <p:nvSpPr>
          <p:cNvPr id="63"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08000" y="981000"/>
            <a:ext cx="893124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Una sentencia del año 1962 de la Corte de Santiago niega validez a una cláusula de reserva de dominio, respecto de los efectos de la misma en Chile.  En su parte pertinente la sentencia disp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Aunque las partes hayan pactado en el extranjero, en conformidad  a las leyes del país donde fue otorgado, un contrato de compraventa condicional, que consiste en que el dominio de la cosa vendida (una aeronave) subsista en el  patrimonio del vendedor mientras no se pague el precio y se cumplan las demás condiciones estipuladas, si agregaron a dicho contrato una cláusula según la cual se autorizó la inscripción de la aeronave en el Registro de Matrícula de Aeronavegación en Chile, a nombre del comprador (el ejecutado) esos efectos deben ajustarse a la legislación chilen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cluye, de acuerdo con lo anterior, la referida sentencia lo siguie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Repertorio Código Civil.  Tomo VI.  Artículo 1.874 Código Civil.  Página 308. </a:t>
            </a:r>
            <a:endParaRPr b="0" lang="en-US" sz="1600" spc="-1" strike="noStrike">
              <a:solidFill>
                <a:srgbClr val="000000"/>
              </a:solidFill>
              <a:latin typeface="Times New Roman"/>
            </a:endParaRPr>
          </a:p>
        </p:txBody>
      </p:sp>
      <p:sp>
        <p:nvSpPr>
          <p:cNvPr id="66"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08000" y="981000"/>
            <a:ext cx="893124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En consecuencia, si la nave aérea materia de la tercería se encontraba inscrita a nombre del ejecutado y tal inscripción se hallaba pendiente al tiempo del embargo, resulta evidente, con arreglo a los preceptos de los artículos 6º, 7º y 10º del decreto con fuerza de ley 221, de 30 de marzo de 1931, sobre navegación aérea, los cuales son de orden público, que la propiedad de la nave embargada es del ejecutado y no de los terceristas  (los vendedores condiciona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conclusión, en Chile la cláusula de no transferirse el dominio sino en virtud de la paga del precio, de acuerdo con esa teoría, no produciría el efecto de no transferir el domin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00"/>
                </a:solidFill>
                <a:latin typeface="Comic Sans MS"/>
              </a:rPr>
              <a:t>Aún cuando el precio no esté pagado por el comprador, y aún cuando se haya pactado esta cláusula, si entre las partes se efectuó la "tradición" de la cosa vendida, el comprador pasa a ser propietario y, recíprocamente, el vendedor deja de ser dueño de la cosa vend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Misma cita anterior.</a:t>
            </a:r>
            <a:endParaRPr b="0" lang="en-US" sz="1600" spc="-1" strike="noStrike">
              <a:solidFill>
                <a:srgbClr val="000000"/>
              </a:solidFill>
              <a:latin typeface="Times New Roman"/>
            </a:endParaRPr>
          </a:p>
        </p:txBody>
      </p:sp>
      <p:sp>
        <p:nvSpPr>
          <p:cNvPr id="69"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4-30T13:30:40Z</dcterms:modified>
  <cp:revision>108</cp:revision>
  <dc:subject/>
  <dc:title>PowerPoint Presentation</dc:title>
</cp:coreProperties>
</file>