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5761C-23F3-4A08-91FD-938BF5C22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0FD76-5FB0-4E53-AE1B-E524EBC4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7D1B1-65F0-44DB-818C-E16C35ED0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E69EB-0A6D-4319-BF49-C8811B97D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70540-0445-4283-BE88-3B626F17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0B49-D05D-4DD8-B90B-AAA04A5C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59C8F-B555-4538-9BEA-672B14D4F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F154-BB06-4B76-A2D4-13831157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EA57-E5AF-475F-9915-30C767F18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AF205-9B20-404E-B640-308FA684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9A2A-45D7-46F0-9A90-05AB715C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B78B9-2F21-4DF1-8FDC-0875D1C09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EA9B-5A82-4BC2-9FF9-00B9C22CF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CONVENCIÓN DE VIENA DE 198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COMPRAVENTA INTERNACIONAL DE MERCADE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81000"/>
            <a:ext cx="8931240" cy="613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deja de tener relevancia.  Teóricamente, podría ocurrir que un exportador extranjero, basado en las prácticas internacionales, y tomando en consideración las recomendaciones de ciertos manuales del extranjero, pactara con un importador chileno esta cláusula de retención del título, creyendo de esa manera proteger de un modo más seguro sus intereses.  Sin embargo, como hemos visto, esa cláusula podría carece de validez legal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cordamos aquí lo expresado más atrás en este mismo libro respecto de la relación que existe entre autonomía de la voluntad y orden públic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n embargo, teorías jurídicas más recientes han aceptado la validez de esa cláusula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 así, que en el texto actual del Código Aeronáutico aprobado por la ley 18.916 de 13 de junio de 1995, el artículo 39 dispone textualmente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Ver Supra párrafo 16.  " La Autonomía de la Voluntad y Orden Público".</a:t>
            </a:r>
            <a:endParaRPr b="0" lang="en-US" sz="1600" spc="-1" strike="noStrike">
              <a:solidFill>
                <a:srgbClr val="000000"/>
              </a:solidFill>
              <a:latin typeface="Times New Roman"/>
            </a:endParaRPr>
          </a:p>
        </p:txBody>
      </p:sp>
      <p:sp>
        <p:nvSpPr>
          <p:cNvPr id="72"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81000"/>
            <a:ext cx="8931240" cy="57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rtículo 39.  Podrán matricularse en Chile las aeronaves extranjeras que hayan sido entregadas en virtud de un contrato en que el propietario se reserva el dominio hasta el cumplimiento de una condición o hasta el pago total del precio, siempre que el adquirente se encuentre en alguno de los casos señalados en el artículo anteri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Mientras no se inscriba el documento que acredite el cumplimiento de la condición, el pago total del precio o la renuncia expresa, no se podrá transferir el dominio de la aeronave ni constituir hipotecas sobre ellas, sin autorización del propieta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norma citada confirma que al menos en la legislación aeronáutica chilena se reconoce la validez de la cláusula retención del títu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se ha analizado en profundidad en Chile y no se conocen sentencia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El artículo 38 señala qué personas naturales o jurídicas pueden matricular aeronaves en Chile, en que se exige como requisito esencial la nacionalidad chilena.</a:t>
            </a:r>
            <a:endParaRPr b="0" lang="en-US" sz="1600" spc="-1" strike="noStrike">
              <a:solidFill>
                <a:srgbClr val="000000"/>
              </a:solidFill>
              <a:latin typeface="Times New Roman"/>
            </a:endParaRPr>
          </a:p>
        </p:txBody>
      </p:sp>
      <p:sp>
        <p:nvSpPr>
          <p:cNvPr id="75"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81000"/>
            <a:ext cx="8931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hay quienes otorgan validez a la cláusula y no tienen problemas en aplicar a la legislación civil y comercial los principios consagrados en el Código de Aeronáu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otro lado, hay quienes mantienen sus reservas jurídicas sobre la validez de esta cláusula.</a:t>
            </a:r>
            <a:endParaRPr b="0" lang="en-US" sz="2000" spc="-1" strike="noStrike">
              <a:solidFill>
                <a:srgbClr val="000000"/>
              </a:solidFill>
              <a:latin typeface="Times New Roman"/>
            </a:endParaRPr>
          </a:p>
        </p:txBody>
      </p:sp>
      <p:sp>
        <p:nvSpPr>
          <p:cNvPr id="7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3 de la Convención  dispone lo sigui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deberá entregar la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del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a fecha, en esa fecha;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con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 plazo, en cualquier momento dentro de ese plazo,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menos que de la circunstancia resulte que corresponde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legir la fecha.</a:t>
            </a:r>
            <a:endParaRPr b="0" lang="en-US" sz="2000" spc="-1" strike="noStrike">
              <a:solidFill>
                <a:srgbClr val="000000"/>
              </a:solidFill>
              <a:latin typeface="Times New Roman"/>
            </a:endParaRPr>
          </a:p>
          <a:p>
            <a:pPr lvl="1" marL="1093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ualquier otro caso, dentro de un plazo razonable a parti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elebración del contrato.</a:t>
            </a:r>
            <a:endParaRPr b="0" lang="en-US" sz="2000" spc="-1" strike="noStrike">
              <a:solidFill>
                <a:srgbClr val="000000"/>
              </a:solidFill>
              <a:latin typeface="Times New Roman"/>
            </a:endParaRPr>
          </a:p>
        </p:txBody>
      </p:sp>
      <p:sp>
        <p:nvSpPr>
          <p:cNvPr id="81"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acuerdo con la norma transcrita, el tiempo para entregar la mercadería se determina según los siguientes criterio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Fecha</a:t>
            </a:r>
            <a:r>
              <a:rPr b="0" lang="es-ES_tradnl" sz="2000" spc="-1" strike="noStrike">
                <a:solidFill>
                  <a:srgbClr val="ffff00"/>
                </a:solidFill>
                <a:latin typeface="Comic Sans MS"/>
              </a:rPr>
              <a:t> determinada o determinable, según el contrato.</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a:t>
            </a:r>
            <a:r>
              <a:rPr b="0" lang="es-ES_tradnl" sz="2000" spc="-1" strike="noStrike">
                <a:solidFill>
                  <a:srgbClr val="ffff00"/>
                </a:solidFill>
                <a:latin typeface="Comic Sans MS"/>
              </a:rPr>
              <a:t> determinado o determinable, según el contrato, a menos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orresponda al comprador elegir la fecha.</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 razonable</a:t>
            </a:r>
            <a:r>
              <a:rPr b="0" lang="es-ES_tradnl" sz="2000" spc="-1" strike="noStrike">
                <a:solidFill>
                  <a:srgbClr val="ffff00"/>
                </a:solidFill>
                <a:latin typeface="Comic Sans MS"/>
              </a:rPr>
              <a:t>,  si no está determinado de acuerdo con los criterios  anterior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de plazo razonable es novedoso, en el sentido que no está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finido en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le tocará al juez resolver en caso de falta de entrega 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raso de la misma, si hay responsabilidad del vendedor por no haber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echo dentro de lo que sería un plaz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ste sentido, puede ser importante la consideración de la letra b)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ismo artículo 33 que establece que el período pueda ser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l contrato".</a:t>
            </a:r>
            <a:endParaRPr b="0" lang="en-US" sz="2000" spc="-1" strike="noStrike">
              <a:solidFill>
                <a:srgbClr val="000000"/>
              </a:solidFill>
              <a:latin typeface="Times New Roman"/>
            </a:endParaRPr>
          </a:p>
        </p:txBody>
      </p:sp>
      <p:sp>
        <p:nvSpPr>
          <p:cNvPr id="84"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81000"/>
            <a:ext cx="8931240" cy="600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principios UNIDROIT establecen en su artículo 6.1.1. concept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talmente semejantes  con los anteriores, señalando que el tiemp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mer lugar, debe estar determinado por el contrato; enseguida, agre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ambién la idea de que pueda ser determinable por el contrato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establece también la idea de un "tiemp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profesor Hans Van Houtte, de la Universidad de Leuven señala que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ncipios UNIDROIT puedan incluir nociones de cierto riesgo jurídico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ntener "notions á contenu variable</a:t>
            </a:r>
            <a:r>
              <a:rPr b="0" i="1" lang="es-ES_tradnl" sz="2000" spc="-1" strike="noStrike">
                <a:solidFill>
                  <a:srgbClr val="ffff00"/>
                </a:solidFill>
                <a:latin typeface="Comic Sans MS"/>
              </a:rPr>
              <a:t>",</a:t>
            </a:r>
            <a:r>
              <a:rPr b="0" lang="es-ES_tradnl" sz="2000" spc="-1" strike="noStrike">
                <a:solidFill>
                  <a:srgbClr val="ffff00"/>
                </a:solidFill>
                <a:latin typeface="Comic Sans MS"/>
              </a:rPr>
              <a:t> (*) que no tienen una defini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uy precisa y cuya interpretación final dependerá del juicio de la Corte,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l árbitro, que tenga que aplicar los principios en cada caso partic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lo confirma nuestra conclusión previa, en el sentido que fin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cará al juez determinar el concepto de "plazo razonable"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terminar el tiempo de la entrega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Hans Van Houtte.  The UNIDROIT Principles as a Guide to Drafting Contracts.  In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DROIT Principles for Internacional Commercial Contracts.  ICC Publications.  </a:t>
            </a:r>
            <a:r>
              <a:rPr b="0" lang="es-ES" sz="1600" spc="-1" strike="noStrike">
                <a:solidFill>
                  <a:srgbClr val="ffff00"/>
                </a:solidFill>
                <a:latin typeface="Comic Sans MS"/>
              </a:rPr>
              <a:t>Pari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1995.</a:t>
            </a:r>
            <a:endParaRPr b="0" lang="en-US" sz="1600" spc="-1" strike="noStrike">
              <a:solidFill>
                <a:srgbClr val="000000"/>
              </a:solidFill>
              <a:latin typeface="Times New Roman"/>
            </a:endParaRPr>
          </a:p>
        </p:txBody>
      </p:sp>
      <p:sp>
        <p:nvSpPr>
          <p:cNvPr id="87"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trata el punto de las obligacion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pítulo III, en los artículos 53 a 59.</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l artículo 53 establece las dos obligaciones principal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que son pagar el precio y recibir las mercaderías, disponien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t>
            </a:r>
            <a:r>
              <a:rPr b="0" lang="es-CL" sz="2000" spc="-1" strike="noStrike">
                <a:solidFill>
                  <a:srgbClr val="ffff00"/>
                </a:solidFill>
                <a:latin typeface="Comic Sans MS"/>
              </a:rPr>
              <a:t>El comprador deberá pagar el precio de las mercaderías y recibirla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as condiciones establecidas en el contrato y en la presente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uevamente, la Convención reconoce el principio de la autonomía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voluntad de las partes.  Es el contrato el que determina las condicione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l precio y de recepción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falta de dicha estipulación entre las partes, la Convención determi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iertas regl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a) Obligación de pagar el precio.</a:t>
            </a:r>
            <a:endParaRPr b="0" lang="en-US" sz="2000" spc="-1" strike="noStrike">
              <a:solidFill>
                <a:srgbClr val="000000"/>
              </a:solidFill>
              <a:latin typeface="Times New Roman"/>
            </a:endParaRPr>
          </a:p>
        </p:txBody>
      </p:sp>
      <p:sp>
        <p:nvSpPr>
          <p:cNvPr id="9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81000"/>
            <a:ext cx="8931240" cy="625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primer lugar, el comprador está no sólo obligad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que, como parte de tal  obligación, debe realizar los esfuerz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ecesarios para que el pago sea posi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4 de la Convención dispone textualm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La obligación del comprador de pagar el precio comprende la de adopt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didas y cumplir los requisitos fijados por el contrato o por las ley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 los reglamentos pertinentes para que sea posible 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onsecuencia, si por un hecho posterior, que el comprador pudo habe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vitado o corregido, el pago no se realiza, no podrá el comprador ale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su defensa,  la existencia de caso fortuito o de fuerza may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fijación o determinación del precio, los sistemas jurídic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mayoría de los países, exigen que éste sea pactado en diner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a real y que esté determinado en el contrato, o que sea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acuerdo a criterios establecidos en el mismo contrato.</a:t>
            </a:r>
            <a:r>
              <a:rPr b="0" lang="es-ES"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9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39 del Código de Comercio chileno establece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No hay compraventa si los contratantes no convienen en el precio o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misma norma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i la cosa vendida fuere entregada, se presumirá que las partes h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eptado el precio corriente que tenga en el día y lugar en que se hubie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el contra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el inciso segundo del mismo artículo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biendo diversidad de precios en el mismo día y lugar, 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rá pagar el precio medio”.</a:t>
            </a:r>
            <a:endParaRPr b="0" lang="en-US" sz="2000" spc="-1" strike="noStrike">
              <a:solidFill>
                <a:srgbClr val="000000"/>
              </a:solidFill>
              <a:latin typeface="Times New Roman"/>
            </a:endParaRPr>
          </a:p>
        </p:txBody>
      </p:sp>
      <p:sp>
        <p:nvSpPr>
          <p:cNvPr id="9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83664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836640"/>
            <a:ext cx="8931240" cy="60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disposición curiosa, y que, de algún modo modifica par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 mercantil, los principios generales aplicables en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civi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l profesor Raúl Diez Duarte,  señal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on nulos, ha dicho nuestra jurisprudencia en reiteradas  sentencias,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compraventa en que el precio no aparece fijado por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ni la 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norma legal citada de nuestro Código de Comercio, el legisl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icia la disposición estableciendo que, a falta de fijación de preci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y compraventa”. Vale decir, el contrato sería inexistente. Sin embarg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continuación se agrega que “si la cosa es entregada” (y por lo ta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da por el comprador), se presume la intención de las parte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ber pactado el precio corriente de plaza. Más, aún, en cas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versidad de precios, se entenderá que las partes han pactado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úl Diez Duarte.  Obra citada.  Pág. 89.</a:t>
            </a:r>
            <a:endParaRPr b="0" lang="en-US" sz="1600" spc="-1" strike="noStrike">
              <a:solidFill>
                <a:srgbClr val="000000"/>
              </a:solidFill>
              <a:latin typeface="Times New Roman"/>
            </a:endParaRPr>
          </a:p>
        </p:txBody>
      </p:sp>
      <p:sp>
        <p:nvSpPr>
          <p:cNvPr id="9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7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cláusula de retención del título, que se conoce también con el nombre “reserva de dominio”, se refiere a un pacto de carácter facultativo que las partes pueden convenir, si así lo estiman conven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virtud de ésta cláusula, el vendedor se reserva el dominio de la mercadería hasta que el comprador pague completamente el prec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utor español Enrique Guardiola la define de la siguiente man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quella estipulación adicional a un contrato de  compraventa en virtud de la cual el vendedor se reserva el derecho de propiedad de  los bienes  vendidos hasta que el comprador haya satisfecho la totalidad del precio acordado, actuando como garantía a favor del primero de manera que pueda, caso de no percibir la totalidad de dicho precio, reivindicar el dominio o propiedad que se había reservado en el propio contrato de compraventa.“ </a:t>
            </a:r>
            <a:r>
              <a:rPr b="0" lang="es-ES_tradnl"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Enrique Guardiola S.  “La Compraventa Internacional”.  Bosch, Casa Editorial.  Barcelona 1994. Página 158. </a:t>
            </a:r>
            <a:endParaRPr b="0" lang="en-US" sz="1600" spc="-1" strike="noStrike">
              <a:solidFill>
                <a:srgbClr val="000000"/>
              </a:solidFill>
              <a:latin typeface="Times New Roman"/>
            </a:endParaRPr>
          </a:p>
        </p:txBody>
      </p:sp>
      <p:sp>
        <p:nvSpPr>
          <p:cNvPr id="4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hecho esencial que hace, por así decirlo, “renacer” el contrato,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uerdo de voluntades en entregar y recibir la mercadería. Ello result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ógico, puesto que ante tal acuerdo, se presume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rdaderamente han acordado celebrar el contrato y,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la ley indica un re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incluye una disposición semejante; aún cuand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actamente igu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5 dispon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haya sido válidamente celebrado pero en él ni expres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i tácitamente se haya señalado el precio o estipulado un medio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terminarlo, se considerará, salvo indicación en contrario,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n hecho referencia implícitamente al precio generalmente  cobrad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omento de  la celebración del contrato por tale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idas en circunstancias semejantes, en el tráfico mercantil de que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te”. </a:t>
            </a:r>
            <a:endParaRPr b="0" lang="en-US" sz="2000" spc="-1" strike="noStrike">
              <a:solidFill>
                <a:srgbClr val="000000"/>
              </a:solidFill>
              <a:latin typeface="Times New Roman"/>
            </a:endParaRPr>
          </a:p>
        </p:txBody>
      </p:sp>
      <p:sp>
        <p:nvSpPr>
          <p:cNvPr id="10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e caso, la Convención no exige que exista un acuerdo posterio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oluntades respecto de la entrega de la cosa vendida. Aquí, simple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otorga valor al contrato en sí mismo, y se establece que,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se entenderá que las partes han convenido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 importante relacionar el artículo 51 con el artículo 14 que señala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quisitos que debe tener la oferta.  La segunda frase del número 1)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rtículo 14 dispone 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propuesta es suficientemente precisa si indica las mercaderías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presa o tácitamente, señala la cantidad y el precio, o prevé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lectura rápida de la norma recién citada, podría inducir 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sión </a:t>
            </a:r>
            <a:r>
              <a:rPr b="0" i="1" lang="es-ES" sz="2000" spc="-1" strike="noStrike">
                <a:solidFill>
                  <a:srgbClr val="ffff00"/>
                </a:solidFill>
                <a:latin typeface="Comic Sans MS"/>
              </a:rPr>
              <a:t>prima facie</a:t>
            </a:r>
            <a:r>
              <a:rPr b="0" lang="es-ES" sz="2000" spc="-1" strike="noStrike">
                <a:solidFill>
                  <a:srgbClr val="ffff00"/>
                </a:solidFill>
                <a:latin typeface="Comic Sans MS"/>
              </a:rPr>
              <a:t> que si la oferta no indica el precio ni prevé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para determinarlo, tal oferta sería incompleta y no daría origen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contrato.  En consecuencia, si el contrato no indica el precio, sería nulo </a:t>
            </a:r>
            <a:endParaRPr b="0" lang="en-US" sz="2000" spc="-1" strike="noStrike">
              <a:solidFill>
                <a:srgbClr val="000000"/>
              </a:solidFill>
              <a:latin typeface="Times New Roman"/>
            </a:endParaRPr>
          </a:p>
        </p:txBody>
      </p:sp>
      <p:sp>
        <p:nvSpPr>
          <p:cNvPr id="105"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disposición del artículo 55 transcrita más atrás resuelve el probl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gún dicha norma del artículo 55, si existe el acuerdo de voluntad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 las partes en celebrar el contrato, que es el principio que fluye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mera parte del artículo 55 ("cuando el contrato haya s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álidamente celebrado"), aún cuando el contrato no contenga ning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dicación que permita determinar el precio, éste se entiende válido y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sume que las partes han hecho implícitamente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eneralmente cobrado por esas mercaderías, en circunstanci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mejantes, en el tráfico mercantil de que se trate.  Esto es,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conclusión anterior, hablando con franqueza, n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ncil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John Honnold sostiene que, al leer separadamente el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14, podría interpretarse que no existe un contrato si no está preced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una oferta que determine, expresa o tácitamente, el precio, o  prevé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medio para determinarlo. </a:t>
            </a:r>
            <a:endParaRPr b="0" lang="en-US" sz="2000" spc="-1" strike="noStrike">
              <a:solidFill>
                <a:srgbClr val="000000"/>
              </a:solidFill>
              <a:latin typeface="Times New Roman"/>
            </a:endParaRPr>
          </a:p>
        </p:txBody>
      </p:sp>
      <p:sp>
        <p:nvSpPr>
          <p:cNvPr id="108"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8000" y="981000"/>
            <a:ext cx="8931240" cy="679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Honnold explica que la redacción del artículo 55 fu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pecie de compromiso de todos los delegados asistentes a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sentido que puede entenderse que hay un contrato válida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aún cuando no se haya señalado el precio o estipulado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  En tal caso, concluye el profesor Honnold se entien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as partes han hecho siempre una implícita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francés Denis Tallon sostiene que la anterior interpret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l artículo 55 es una mala solución, pero al final de cuentas la única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iliar los artículos 55 y 14 de la Convención.  En el sentido que otor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fectos jurídicos el artículo 55 y no priva al artículo 14 de to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gnifica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John Honnold.  Obra citada.  Párrafo 137.</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Denis Tallon.  Obligaciones del Comprador en la Convención.  </a:t>
            </a:r>
            <a:r>
              <a:rPr b="0" lang="en-US" sz="1600" spc="-1" strike="noStrike">
                <a:solidFill>
                  <a:srgbClr val="ffff00"/>
                </a:solidFill>
                <a:latin typeface="Comic Sans MS"/>
              </a:rPr>
              <a:t>En International Sales: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ted Nations Conventions on Contracts for the International Sales of Goods.  </a:t>
            </a:r>
            <a:r>
              <a:rPr b="0" lang="es-ES" sz="1600" spc="-1" strike="noStrike">
                <a:solidFill>
                  <a:srgbClr val="ffff00"/>
                </a:solidFill>
                <a:latin typeface="Comic Sans MS"/>
              </a:rPr>
              <a:t>Columbia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University.  Mathew Bender New York.  </a:t>
            </a:r>
            <a:r>
              <a:rPr b="0" lang="es-CL" sz="1600" spc="-1" strike="noStrike">
                <a:solidFill>
                  <a:srgbClr val="ffff00"/>
                </a:solidFill>
                <a:latin typeface="Comic Sans MS"/>
              </a:rPr>
              <a:t>1984.</a:t>
            </a:r>
            <a:endParaRPr b="0" lang="en-US" sz="1600" spc="-1" strike="noStrike">
              <a:solidFill>
                <a:srgbClr val="000000"/>
              </a:solidFill>
              <a:latin typeface="Times New Roman"/>
            </a:endParaRPr>
          </a:p>
        </p:txBody>
      </p:sp>
      <p:sp>
        <p:nvSpPr>
          <p:cNvPr id="111"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8000" y="981000"/>
            <a:ext cx="8931240" cy="74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l </a:t>
            </a:r>
            <a:r>
              <a:rPr b="1" lang="es-ES" sz="2000" spc="-1" strike="noStrike">
                <a:solidFill>
                  <a:srgbClr val="ffff00"/>
                </a:solidFill>
                <a:latin typeface="Comic Sans MS"/>
              </a:rPr>
              <a:t>lugar </a:t>
            </a:r>
            <a:r>
              <a:rPr b="0" lang="es-ES" sz="2000" spc="-1" strike="noStrike">
                <a:solidFill>
                  <a:srgbClr val="ffff00"/>
                </a:solidFill>
                <a:latin typeface="Comic Sans MS"/>
              </a:rPr>
              <a:t>en que se debe pagar el precio, la Convención estable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artículo 57 que, si el comprador no está obligado a hacerlo en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ugar determinado, lo hará, en el establecimiento del vendedor, o bien, s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ago debe hacerse contra entrega de las mercaderías, en el luga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l </a:t>
            </a:r>
            <a:r>
              <a:rPr b="1" lang="es-ES" sz="2000" spc="-1" strike="noStrike">
                <a:solidFill>
                  <a:srgbClr val="ffff00"/>
                </a:solidFill>
                <a:latin typeface="Comic Sans MS"/>
              </a:rPr>
              <a:t>tiempo</a:t>
            </a:r>
            <a:r>
              <a:rPr b="0" lang="es-ES" sz="2000" spc="-1" strike="noStrike">
                <a:solidFill>
                  <a:srgbClr val="ffff00"/>
                </a:solidFill>
                <a:latin typeface="Comic Sans MS"/>
              </a:rPr>
              <a:t> del pago, el artículo 58, establece la regla genera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sentido que, a falta de estipulación expresa, el comprador deberá pa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ecio cuando el vendedor ponga su disposición las mercaderías o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s representativos de ellas.  Esto es precisamente lo que ocur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s operaciones bajo Carta de Crédito, en que el comprador utilizó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cho mecanismo para el pago. En tal caso, el vendedor recibirá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momento en que presente los documentos conformes en el banc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notificó la Carta de Crédit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a materia, la Convención de Viena contiene disposiciones similares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que establece la ley chilena, al disponer en su artículo 58 Nº1 que :</a:t>
            </a:r>
            <a:endParaRPr b="0" lang="en-US" sz="2000" spc="-1" strike="noStrike">
              <a:solidFill>
                <a:srgbClr val="000000"/>
              </a:solidFill>
              <a:latin typeface="Times New Roman"/>
            </a:endParaRPr>
          </a:p>
        </p:txBody>
      </p:sp>
      <p:sp>
        <p:nvSpPr>
          <p:cNvPr id="114"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El vendedor podrá hacer del pago una condición para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o los documentos”.  Incluso más, en el Nº2 del mismo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agrega que, si el contrato implica transporte de las mercadería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odrá despacharlas con  la instrucción de que no se entregu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contra pago d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otro lado, según establece el Nº3 de la referida disposición,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dor no estará obligado a pagar el precio, mientras no haya ten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osibilidad de examinar las mercaderías.  Ello, a menos qu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odalidades de entrega o de pago pactadas por las partes, se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ompatibles con esa posibilidad, concluye la disposición ci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o que se refiere a los </a:t>
            </a:r>
            <a:r>
              <a:rPr b="1" lang="es-ES" sz="2000" spc="-1" strike="noStrike">
                <a:solidFill>
                  <a:srgbClr val="ffff00"/>
                </a:solidFill>
                <a:latin typeface="Comic Sans MS"/>
              </a:rPr>
              <a:t>mecanismos y sistemas de pago</a:t>
            </a:r>
            <a:r>
              <a:rPr b="0" lang="es-ES" sz="2000" spc="-1" strike="noStrike">
                <a:solidFill>
                  <a:srgbClr val="ffff00"/>
                </a:solidFill>
                <a:latin typeface="Comic Sans MS"/>
              </a:rPr>
              <a:t>, e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ones de comercio internacional suele existir ciertas práctica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so común por los distintos agentes comerciales en todos los países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undo, tales como,</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117"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8000" y="981000"/>
            <a:ext cx="8931240" cy="68022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arta de Crédito</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Bancaria</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Simp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elección del mecanismo más adecuado para el pago del precio  en ca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ón de comercio internacional, dependerá de muchos factores t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o la naturaleza del contrato, las relaciones pre-existentes entr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la cláusula de venta convenida según INCOTERMS, el luga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 de la mercadería y el medio de transporte, si lo hubie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la misma manera que al vendedor le interesa asegurarse el pago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antes de entregar la mercadería, al comprador le interesa tambié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egurarse que se le entregue la mercadería, antes de pagar 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eso, y en consideración a los otros requisitos recién mencionad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elección del medio de pago, éste variará según sea mayor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nor el riesgo que cada una de las partes esté dispuesta a aceptar,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da contrato.</a:t>
            </a:r>
            <a:endParaRPr b="0" lang="en-US" sz="2000" spc="-1" strike="noStrike">
              <a:solidFill>
                <a:srgbClr val="000000"/>
              </a:solidFill>
              <a:latin typeface="Times New Roman"/>
            </a:endParaRPr>
          </a:p>
        </p:txBody>
      </p:sp>
      <p:sp>
        <p:nvSpPr>
          <p:cNvPr id="12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ecanismo de pago que se considera más seguro es a través d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rta de Crédito, en que el comprador solicita la emisión de es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 a un banco que lo notifica al vendedor.  En ese momento, qui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ume la obligación de pago es el banco, el que solamente lo hará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da en que todos y cada uno de los documentos presentados por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ara el cobro del crédito se encuentren conformes co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ones contenidas en la carta de crédito.  Este sistema de pago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udia más adelante en este libr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de los mecanismos usados para este propósito es el de la Cobran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en donde el vendedor envía toda la documentación de embar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domicilio del comprador a través de un banco comercial.   Este sist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cierto grado de mayor confianza entre las partes puest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quí, a diferencia del sistema recién comentado, no existe una oblig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de pago. </a:t>
            </a:r>
            <a:endParaRPr b="0" lang="en-US" sz="2000" spc="-1" strike="noStrike">
              <a:solidFill>
                <a:srgbClr val="000000"/>
              </a:solidFill>
              <a:latin typeface="Times New Roman"/>
            </a:endParaRPr>
          </a:p>
        </p:txBody>
      </p:sp>
      <p:sp>
        <p:nvSpPr>
          <p:cNvPr id="12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08000" y="981000"/>
            <a:ext cx="8931240" cy="771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que recibe la documentación simplemente notifica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os documentos están a su disposición, contra pago, o contra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arantía de pago.  Si el comprador no paga, o no da garantías suficien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comercial simplemente no le puede entregar los documentos y,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secuencia, el comprador no podrá disponer de la mercadería.  Est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podrá retirarla del lugar en donde se encuentra; por ejemplo del bu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puerto de destino.   En tal caso, si la compañía naviera entregaré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 a pesar de que no se presenten los documentos origin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idamente pagados por el comprador, se hará responsable de los dañ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perjuicios causados por este concepto al vendedor.  Este sistem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go es de menos costo, más fácil y expedito que el anterior, per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iene la garantía bancaria d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sistema, más simple y menos costoso, pero de mayor riesgo aún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Cobranza Simple, en que el  vendedor despacho directamente p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eo los documentos, "en cobranza", al domicilio del vendedor.  Este,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o de tales documentos debe efectuar el pago. Este procedimie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muy alto grado de confianza entre las partes.</a:t>
            </a:r>
            <a:endParaRPr b="0" lang="en-US" sz="2000" spc="-1" strike="noStrike">
              <a:solidFill>
                <a:srgbClr val="000000"/>
              </a:solidFill>
              <a:latin typeface="Times New Roman"/>
            </a:endParaRPr>
          </a:p>
        </p:txBody>
      </p:sp>
      <p:sp>
        <p:nvSpPr>
          <p:cNvPr id="12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t>
            </a:r>
            <a:r>
              <a:rPr b="0" lang="es-ES" sz="2000" spc="-1" strike="noStrike">
                <a:solidFill>
                  <a:srgbClr val="ffff00"/>
                </a:solidFill>
                <a:latin typeface="Comic Sans MS"/>
              </a:rPr>
              <a:t>	</a:t>
            </a:r>
            <a:r>
              <a:rPr b="0" lang="es-ES" sz="2000" spc="-1" strike="noStrike">
                <a:solidFill>
                  <a:srgbClr val="ffff00"/>
                </a:solidFill>
                <a:latin typeface="Comic Sans MS"/>
              </a:rPr>
              <a:t>Obligación de recibir las mercadería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 la otra obligación principal del comprador, cual  es l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r las mercaderías, éste deberá, según el artículo 60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ven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alizar todos los actos que razonablemente quepa espera de él para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vendedor pueda efectuar la 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obligación de cooperación, similar a la que recae sobre é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ant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letra b) del mismo artículo  agrega la obligación esencial, cual  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cerse cargo de las  mercaderías”.  </a:t>
            </a:r>
            <a:endParaRPr b="0" lang="en-US" sz="2000" spc="-1" strike="noStrike">
              <a:solidFill>
                <a:srgbClr val="000000"/>
              </a:solidFill>
              <a:latin typeface="Times New Roman"/>
            </a:endParaRPr>
          </a:p>
        </p:txBody>
      </p:sp>
      <p:sp>
        <p:nvSpPr>
          <p:cNvPr id="12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jurídico de reserva de dominio por parte del vendedor tiene alguna posibilidad de aplicación práctica cuando la mercadería ya ha sido entregada al comprador, o al menos despachada.  De esta manera, en virtud de esta cláusula, el vendedor puede reivindicar, como dueño, su mercadería de manos del comprador, en caso que éste no la pa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mismo autor Enrique Guardiola agrega en la obra citada que en la legislación mundial existe gran diversidad de criterios jurídicos respecto de la validez de ésta cláusu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sí, algunas legislaciones la admiten plenamente, otras dificultan considerablemente el reconocimiento de su eficacia y otras simplemente no la admi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jemplo en Bélgica no se admite, en tanto que en Francia, Italia, Holanda, Alemania, Austria sí le otorgan reconocimiento.</a:t>
            </a:r>
            <a:endParaRPr b="0" lang="en-US" sz="2000" spc="-1" strike="noStrike">
              <a:solidFill>
                <a:srgbClr val="000000"/>
              </a:solidFill>
              <a:latin typeface="Times New Roman"/>
            </a:endParaRPr>
          </a:p>
        </p:txBody>
      </p:sp>
      <p:sp>
        <p:nvSpPr>
          <p:cNvPr id="51"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000" y="981000"/>
            <a:ext cx="8931240" cy="356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o es, recibirlas y tomar la carga y responsabilidad de los riesgos sob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ismas.  Cabe recordar que los riesgos de la cosa vendida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fieren al comprador en el momento de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lo mismo, si, por un hecho o culpa suya, el comprador no recib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en el tiempo y forma que corresponden, deberá responde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daños y perjuicios causados al vended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35  "Transferencia de los Riesgos".</a:t>
            </a:r>
            <a:endParaRPr b="0" lang="en-US" sz="1600" spc="-1" strike="noStrike">
              <a:solidFill>
                <a:srgbClr val="000000"/>
              </a:solidFill>
              <a:latin typeface="Times New Roman"/>
            </a:endParaRPr>
          </a:p>
        </p:txBody>
      </p:sp>
      <p:sp>
        <p:nvSpPr>
          <p:cNvPr id="13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un modelo de contrato de compraventa internacional de mercaderías, elaborado por la Cámara de Comercio Internacional, se menciona la posibilidad de que las partes convengan dicha estipulación.   El modelo de contrato que propone la CCI se refiere a un contrato de venta internacional de mercaderías manufacturadas con el propósito que ella sea revend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el artículo 7 de las Condiciones Generales del Contrato, se establece lo siguiente  "If the  parties have validly agreed on retention of title, the goods shall remain the property of the Seller until the complete payment of the price, or as otherwise agr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 anterior, significa, simplemente, que si las partes lo acuerdan, las mercaderías continuarán bajo la propiedad del vendedor hasta el pago completo del 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ál es la situación en Chile?.</a:t>
            </a:r>
            <a:endParaRPr b="0" lang="en-US" sz="2000" spc="-1" strike="noStrike">
              <a:solidFill>
                <a:srgbClr val="000000"/>
              </a:solidFill>
              <a:latin typeface="Times New Roman"/>
            </a:endParaRPr>
          </a:p>
        </p:txBody>
      </p:sp>
      <p:sp>
        <p:nvSpPr>
          <p:cNvPr id="54"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8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mos reiterar,  primeramente, que, a según se ha expresado en el párrafo  sobre "Compraventa y Transferencia del Dominio"  (*), que, en nuestro país la compraventa es un título y no un modo de adquirir el dominio.  La propiedad sobre las cosas se adquiere a través de un mecanismo denominado modo de adquirir, que en el caso de la compraventa corresponde a la llamada “tradi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retención del título" significa condicionar al pago del precio por el comprador la transferencia del dominio que se produce a éste, mediante la "tradición"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so de aplicarse dicha cláusula, podríamos imaginar un contrato de compraventa internacional en que el vendedor, domiciliado en un país determinado, efectivamente  entrega las mercaderías al comprador domiciliado en otro país,   habiendo quedado, en el ejemplo,  pendiente el pago del precio.  Si en definitiva, el comprador no paga el precio, y la cláusula se aplicare, no se habría producido con la entrega de l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 Dominio.</a:t>
            </a:r>
            <a:endParaRPr b="0" lang="en-US" sz="1600" spc="-1" strike="noStrike">
              <a:solidFill>
                <a:srgbClr val="000000"/>
              </a:solidFill>
              <a:latin typeface="Times New Roman"/>
            </a:endParaRPr>
          </a:p>
        </p:txBody>
      </p:sp>
      <p:sp>
        <p:nvSpPr>
          <p:cNvPr id="57"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7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la transferencia de propiedad al comprador. En ese caso, el vendedor podría pedir la restitución de las mercaderías entregadas, en calidad de dueño. Vale decir, su “título” o condición de reclamo en contra del comprador estaría en este caso basada en su calidad de dueño de las mercaderías y no en la condición de acreedor agravia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pitiendo la pregunta anterior, ¿Cuál es el valor de dicha estipulación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nuestro ordenamiento jurídico,  según muchos tratadistas, la cláusula carece de valid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gún otros tratadistas, la cláusula sería vál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El artículo 1874 del Código Civil disp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En esta parte se cambia sustancialmente la opinión del profesor contenida en su libro Compraventa de Mercaderías.</a:t>
            </a:r>
            <a:br>
              <a:rPr sz="1600"/>
            </a:br>
            <a:endParaRPr b="0" lang="en-US" sz="1600" spc="-1" strike="noStrike">
              <a:solidFill>
                <a:srgbClr val="000000"/>
              </a:solidFill>
              <a:latin typeface="Times New Roman"/>
            </a:endParaRPr>
          </a:p>
        </p:txBody>
      </p:sp>
      <p:sp>
        <p:nvSpPr>
          <p:cNvPr id="60"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La cláusula de no transferirse el dominio sino en virtud de la paga del precio, no producirá otro efecto que el de la demanda alternativa enunciada en el artículo preced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 su vez, el artículo 1873 del mismo Código establece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Si el comprador estuviere constituido en mora de pagar el precio en el lugar y tiempo dichos, el vendedor tendrá derecho para exigir el precio o la resolución de la venta, con resarcimiento de perju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o quiere decir que, si el comprador no paga el precio, el vendedor tiene derecho a pedir el cumplimiento forzado de la obligación, por la vía judicial, o bien la resolución del contrato.  Pero, en Chile, el vendedor, una vez producida la tradición no tiene derecho, para actuar en calidad de propietario y pedir la restitución de la cosa vendida.</a:t>
            </a:r>
            <a:endParaRPr b="0" lang="en-US" sz="2000" spc="-1" strike="noStrike">
              <a:solidFill>
                <a:srgbClr val="000000"/>
              </a:solidFill>
              <a:latin typeface="Times New Roman"/>
            </a:endParaRPr>
          </a:p>
        </p:txBody>
      </p:sp>
      <p:sp>
        <p:nvSpPr>
          <p:cNvPr id="63"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Una sentencia del año 1962 de la Corte de Santiago niega validez a una cláusula de reserva de dominio, respecto de los efectos de la misma en Chile.  En su parte pertinente la sentencia disp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unque las partes hayan pactado en el extranjero, en conformidad  a las leyes del país donde fue otorgado, un contrato de compraventa condicional, que consiste en que el dominio de la cosa vendida (una aeronave) subsista en el  patrimonio del vendedor mientras no se pague el precio y se cumplan las demás condiciones estipuladas, si agregaron a dicho contrato una cláusula según la cual se autorizó la inscripción de la aeronave en el Registro de Matrícula de Aeronavegación en Chile, a nombre del comprador (el ejecutado) esos efectos deben ajustarse a la legislación chile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ye, de acuerdo con lo anterior, la referida sentencia lo sigu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epertorio Código Civil.  Tomo VI.  Artículo 1.874 Código Civil.  Página 308. </a:t>
            </a:r>
            <a:endParaRPr b="0" lang="en-US" sz="1600" spc="-1" strike="noStrike">
              <a:solidFill>
                <a:srgbClr val="000000"/>
              </a:solidFill>
              <a:latin typeface="Times New Roman"/>
            </a:endParaRPr>
          </a:p>
        </p:txBody>
      </p:sp>
      <p:sp>
        <p:nvSpPr>
          <p:cNvPr id="66"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n consecuencia, si la nave aérea materia de la tercería se encontraba inscrita a nombre del ejecutado y tal inscripción se hallaba pendiente al tiempo del embargo, resulta evidente, con arreglo a los preceptos de los artículos 6º, 7º y 10º del decreto con fuerza de ley 221, de 30 de marzo de 1931, sobre navegación aérea, los cuales son de orden público, que la propiedad de la nave embargada es del ejecutado y no de los terceristas  (los vendedores condiciona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en Chile la cláusula de no transferirse el dominio sino en virtud de la paga del precio, de acuerdo con esa teoría, no produciría el efecto de no transferir el domin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Aún cuando el precio no esté pagado por el comprador, y aún cuando se haya pactado esta cláusula, si entre las partes se efectuó la "tradición" de la cosa vendida, el comprador pasa a ser propietario y, recíprocamente, el vendedor deja de ser dueño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Misma cita anterior.</a:t>
            </a:r>
            <a:endParaRPr b="0" lang="en-US" sz="1600" spc="-1" strike="noStrike">
              <a:solidFill>
                <a:srgbClr val="000000"/>
              </a:solidFill>
              <a:latin typeface="Times New Roman"/>
            </a:endParaRPr>
          </a:p>
        </p:txBody>
      </p:sp>
      <p:sp>
        <p:nvSpPr>
          <p:cNvPr id="69"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30T13:30:40Z</dcterms:modified>
  <cp:revision>108</cp:revision>
  <dc:subject/>
  <dc:title>PowerPoint Presentation</dc:title>
</cp:coreProperties>
</file>