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600C3-22EE-479C-9DC3-15FBF8536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441AF-90C8-4B10-9094-C29821003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14B70-B3FE-4FD2-9673-2FEE32492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40908-BD9B-4387-AE52-42D08EDC5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B2450-A1B8-4B5F-B7B6-CCDC93D31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376CA-8843-4BF9-9E86-A704B3BC4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92109-AF12-4D85-9C84-49A181491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295CF-E194-4041-8A64-A43AE7F9B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79837-4107-45B0-89AA-203826E5C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43753-4EC4-4C5A-B5CD-E23436F51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C0CEC-6B5F-4305-9D69-FCC4794D2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332FB-1567-4039-A56B-129D32DB9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D867-B75A-488A-B146-D321823AD5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24000" y="5157720"/>
            <a:ext cx="8386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NVENCIÓN DE VIENA DE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08000" y="981000"/>
            <a:ext cx="8931240" cy="52776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Habiendo concluido y precisado el concepto de entrega de la cosa vendida, efectivamente en el contrato de compraventa internacional, y en los contratos que este mismo genere, como por ejemplo el de transporte marítimo y el de seguro, se producen una serie de documentos que demuestran el cumplimiento de las obligaciones del vendedor, que sirven de prueba y que, una vez emitidos, en algunos casos sirven para la transferencia posterior de las mercaderías.</a:t>
            </a:r>
            <a:endParaRPr b="0" lang="en-US" sz="20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os principales de estos documentos dicen relación con las mercaderías </a:t>
            </a:r>
            <a:endParaRPr b="0" lang="en-US" sz="20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que son materia del contrato.  </a:t>
            </a:r>
            <a:endParaRPr b="0" lang="en-US" sz="20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Factura comercial, que es el documento emitido por el vendedor, que </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ormalmente lleva impreso su marca, y nombre, en que se indica la  </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fecha, se describen las mercaderías vendidas, la cantidad, la calidad, </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us marcas e identificación, el precio unitario y el valor total que </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debe pagar el compr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7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08000" y="981000"/>
            <a:ext cx="8931240" cy="131364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ocumento de Transporte que en el caso del transporte marítimo se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lama Conocimiento de Embarque (Bill of Lading), que cumple tres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funciones principales.</a:t>
            </a:r>
            <a:endParaRPr b="0" lang="en-US" sz="2000" spc="-1" strike="noStrike">
              <a:solidFill>
                <a:srgbClr val="000000"/>
              </a:solidFill>
              <a:latin typeface="Times New Roman"/>
            </a:endParaRPr>
          </a:p>
        </p:txBody>
      </p:sp>
      <p:sp>
        <p:nvSpPr>
          <p:cNvPr id="76" name=""/>
          <p:cNvSpPr/>
          <p:nvPr/>
        </p:nvSpPr>
        <p:spPr>
          <a:xfrm>
            <a:off x="826920" y="2349360"/>
            <a:ext cx="8029800" cy="6887160"/>
          </a:xfrm>
          <a:prstGeom prst="rect">
            <a:avLst/>
          </a:prstGeom>
          <a:noFill/>
          <a:ln w="0">
            <a:noFill/>
          </a:ln>
        </p:spPr>
        <p:style>
          <a:lnRef idx="0"/>
          <a:fillRef idx="0"/>
          <a:effectRef idx="0"/>
          <a:fontRef idx="minor"/>
        </p:style>
        <p:txBody>
          <a:bodyPr lIns="90000" rIns="90000" tIns="46800" bIns="46800" anchor="t">
            <a:spAutoFit/>
          </a:bodyPr>
          <a:p>
            <a:pPr lvl="2" marL="1628640" indent="-457200">
              <a:lnSpc>
                <a:spcPct val="100000"/>
              </a:lnSpc>
              <a:buClr>
                <a:srgbClr val="ffff00"/>
              </a:buClr>
              <a:buFont typeface="Comic Sans MS"/>
              <a:buChar char="o"/>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Contiene las obligaciones de las partes en el contrato de </a:t>
            </a:r>
            <a:endParaRPr b="0" lang="en-US" sz="2000" spc="-1" strike="noStrike">
              <a:solidFill>
                <a:srgbClr val="000000"/>
              </a:solidFill>
              <a:latin typeface="Times New Roman"/>
            </a:endParaRPr>
          </a:p>
          <a:p>
            <a:pPr lvl="2" marL="162864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transporte marítimo y acredita la fecha en que la mercadería </a:t>
            </a:r>
            <a:endParaRPr b="0" lang="en-US" sz="2000" spc="-1" strike="noStrike">
              <a:solidFill>
                <a:srgbClr val="000000"/>
              </a:solidFill>
              <a:latin typeface="Times New Roman"/>
            </a:endParaRPr>
          </a:p>
          <a:p>
            <a:pPr lvl="2" marL="162864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se subió a bordo del buque en un puerto determinado.</a:t>
            </a:r>
            <a:endParaRPr b="0" lang="en-US" sz="2000" spc="-1" strike="noStrike">
              <a:solidFill>
                <a:srgbClr val="000000"/>
              </a:solidFill>
              <a:latin typeface="Times New Roman"/>
            </a:endParaRPr>
          </a:p>
          <a:p>
            <a:pPr lvl="2" marL="1628640" indent="-457200">
              <a:lnSpc>
                <a:spcPct val="100000"/>
              </a:lnSpc>
              <a:buClr>
                <a:srgbClr val="ffff00"/>
              </a:buClr>
              <a:buFont typeface="Comic Sans MS"/>
              <a:buChar char="o"/>
              <a:tabLst>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628640" indent="-457200">
              <a:lnSpc>
                <a:spcPct val="100000"/>
              </a:lnSpc>
              <a:buClr>
                <a:srgbClr val="ffff00"/>
              </a:buClr>
              <a:buFont typeface="Comic Sans MS"/>
              <a:buChar char="o"/>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Sirve de recibo de las mercaderías que se embarquen y </a:t>
            </a:r>
            <a:endParaRPr b="0" lang="en-US" sz="2000" spc="-1" strike="noStrike">
              <a:solidFill>
                <a:srgbClr val="000000"/>
              </a:solidFill>
              <a:latin typeface="Times New Roman"/>
            </a:endParaRPr>
          </a:p>
          <a:p>
            <a:pPr lvl="2" marL="162864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termina que a partir de esa fecha las mercaderías están bajo </a:t>
            </a:r>
            <a:endParaRPr b="0" lang="en-US" sz="2000" spc="-1" strike="noStrike">
              <a:solidFill>
                <a:srgbClr val="000000"/>
              </a:solidFill>
              <a:latin typeface="Times New Roman"/>
            </a:endParaRPr>
          </a:p>
          <a:p>
            <a:pPr lvl="2" marL="162864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la custodia del transportador (Art. 983 Código de Comercio).</a:t>
            </a:r>
            <a:endParaRPr b="0" lang="en-US" sz="2000" spc="-1" strike="noStrike">
              <a:solidFill>
                <a:srgbClr val="000000"/>
              </a:solidFill>
              <a:latin typeface="Times New Roman"/>
            </a:endParaRPr>
          </a:p>
          <a:p>
            <a:pPr lvl="2" marL="1628640" indent="-457200">
              <a:lnSpc>
                <a:spcPct val="100000"/>
              </a:lnSpc>
              <a:buClr>
                <a:srgbClr val="ffff00"/>
              </a:buClr>
              <a:buFont typeface="Comic Sans MS"/>
              <a:buChar char="o"/>
              <a:tabLst>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628640" indent="-457200">
              <a:lnSpc>
                <a:spcPct val="100000"/>
              </a:lnSpc>
              <a:buClr>
                <a:srgbClr val="ffff00"/>
              </a:buClr>
              <a:buFont typeface="Comic Sans MS"/>
              <a:buChar char="o"/>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s título de dominio sobre las mercaderías y valor de crédito.  </a:t>
            </a:r>
            <a:endParaRPr b="0" lang="en-US" sz="2000" spc="-1" strike="noStrike">
              <a:solidFill>
                <a:srgbClr val="000000"/>
              </a:solidFill>
              <a:latin typeface="Times New Roman"/>
            </a:endParaRPr>
          </a:p>
          <a:p>
            <a:pPr lvl="2" marL="162864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Permite la transferencia de las mercaderías mediante su  </a:t>
            </a:r>
            <a:endParaRPr b="0" lang="en-US" sz="2000" spc="-1" strike="noStrike">
              <a:solidFill>
                <a:srgbClr val="000000"/>
              </a:solidFill>
              <a:latin typeface="Times New Roman"/>
            </a:endParaRPr>
          </a:p>
          <a:p>
            <a:pPr lvl="2" marL="162864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ndoso y quien lo presente al transportista en el puerto de </a:t>
            </a:r>
            <a:endParaRPr b="0" lang="en-US" sz="2000" spc="-1" strike="noStrike">
              <a:solidFill>
                <a:srgbClr val="000000"/>
              </a:solidFill>
              <a:latin typeface="Times New Roman"/>
            </a:endParaRPr>
          </a:p>
          <a:p>
            <a:pPr lvl="2" marL="162864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stino puede reclamar la entrega de las mercaderí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08000" y="981000"/>
            <a:ext cx="8931240" cy="549000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ertificado de Origen.</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ertificado de Calidad.</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ertificado Fitosanitario.</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ista de Empaque.</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Otros.</a:t>
            </a:r>
            <a:endParaRPr b="0" lang="en-US" sz="2000" spc="-1" strike="noStrike">
              <a:solidFill>
                <a:srgbClr val="000000"/>
              </a:solidFill>
              <a:latin typeface="Times New Roman"/>
            </a:endParaRPr>
          </a:p>
          <a:p>
            <a:pPr marL="266760" indent="-266760">
              <a:lnSpc>
                <a:spcPct val="100000"/>
              </a:lnSpc>
              <a:buClr>
                <a:srgbClr val="ffff00"/>
              </a:buClr>
              <a:buFont typeface="Comic Sans MS"/>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Respecto de la entrega de los documentos por parte del vendedor, cabe la siguiente pregunta ¿cómo y de qué manera cumple en vendedor con su obligación de entregar los documentos?.</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a respuesta, como muchas otras relacionadas con el contrato de compraventa internacional, está en los acuerdos y definiciones que las mismas partes hayan establecido en su convenio origin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81" name=""/>
          <p:cNvSpPr/>
          <p:nvPr/>
        </p:nvSpPr>
        <p:spPr>
          <a:xfrm>
            <a:off x="0" y="7650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08000" y="725400"/>
            <a:ext cx="8931240" cy="675108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Las consideraciones más importantes respecto a la forma en que el vendedor cumple con su obligación de entregar los documentos, dependerán, principalmente de dos aspectos.  </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En primer lugar, la cláusula de venta, según INCOTERMS, que las partes hayan acordado.  Existen trece cláusulas, que se van desarrollando desde la denominación EXW (Ex Works) hasta la denominación DDP (Delivered Duty Paid).  En la primera, la entrega de la mercadería se efectúa en el establecimiento del vendedor, recayendo en el comprador las responsabilidades para obtener licencia de exportación en el país de origen, contratar el seguro y el transporte marítimo.  En la última, en cambio, la entrega se efectúa por el  vendedor al comprador en el lugar de destino en un medio de transporte, sin descargar, debiendo contratar el transporte internacional  y obteniendo las licencias de importación y exportación en el país de destino.  De esta manera, el término EXW representa la mínima obligación para el vendedor, en tanto que DDP representa la máxima obligación.  En el primer caso, los documentos que requiera entregar el vendedor serán muy pocos y en el otro caso son muchos.  Conviene, en cualquier evento, describir con precisión en el contrato de compraventa internacional qué documentos se exigen al vendedor, y la manera en que debe entregarlo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8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08000" y="981000"/>
            <a:ext cx="8931240" cy="558252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otro criterio que determina la forma de los documentos y la manera en que éstos se entregan, dependerá de los términos acordados para el pago del precio de la mercadería.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i se exige una carta de crédito, cabe recordar que éste es un instrumento de pago formal y sin causa, esto es, separado del contrato de compraventa que le da origen.  Las mismas normas de la Cámara de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omercio Internacional contienen disposiciones expresas que separan al crédito documentario del contrato.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este caso, el vendedor debe cumplir al pie de la letra con las estipulaciones de la carta de crédito entregando los documentos que allí se solicitan.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ste punto se analiza con más detalle más adelante en el Capítulo sobre Cartas de Crédi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8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08000" y="981000"/>
            <a:ext cx="8931240" cy="13136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uando el mecanismo escogido para el pago del precio sea más simple, por ejemplo una operación en cobranza, bastará el despacho y la entrega de los documentos de acuerdo con los términos de la misma cobr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
          <p:cNvSpPr/>
          <p:nvPr/>
        </p:nvSpPr>
        <p:spPr>
          <a:xfrm>
            <a:off x="179280" y="189000"/>
            <a:ext cx="878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CONFORMIDAD DE LAS MERCADERÍAS Y  PRETENSIONES DE TERCEROS.</a:t>
            </a:r>
            <a:endParaRPr b="0" lang="en-US" sz="2000" spc="-1" strike="noStrike">
              <a:solidFill>
                <a:srgbClr val="000000"/>
              </a:solidFill>
              <a:latin typeface="Times New Roman"/>
            </a:endParaRPr>
          </a:p>
        </p:txBody>
      </p:sp>
      <p:sp>
        <p:nvSpPr>
          <p:cNvPr id="9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08000" y="981000"/>
            <a:ext cx="8931240" cy="619236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tema está tratado  en la Sección II de la Convención, que lleva el mismo título de este Capítulo y que comprende los artículos 35 a 44.</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primer lugar, el concepto principal lo define el artículo 35 en su número 1, que dispone: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vendedor deberá entregar mercaderías cuya cantidad, calidad y tipo correspondan a los estipulados en el contrato y que estén envasadas o embaladas en la forma fijada en el contrato".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seguida, el mismo artículo en el número 2 agrega otro principio general, señalando que el criterio esencial para definir la conformidad de las mercaderías con el contrato es que ellas:</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ean aptas para los usos que ordinariamente se destinen mercaderías del mismo tipo".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Naturalmente, si las partes han pactado otra cosa y han acordado definiciones precisas sobre la materia, deberá estarse a e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
          <p:cNvSpPr/>
          <p:nvPr/>
        </p:nvSpPr>
        <p:spPr>
          <a:xfrm>
            <a:off x="179280" y="189000"/>
            <a:ext cx="878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CONFORMIDAD DE LAS MERCADERÍAS Y  PRETENSIONES DE TERCEROS.</a:t>
            </a:r>
            <a:endParaRPr b="0" lang="en-US" sz="2000" spc="-1" strike="noStrike">
              <a:solidFill>
                <a:srgbClr val="000000"/>
              </a:solidFill>
              <a:latin typeface="Times New Roman"/>
            </a:endParaRPr>
          </a:p>
        </p:txBody>
      </p:sp>
      <p:sp>
        <p:nvSpPr>
          <p:cNvPr id="9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8000" y="981000"/>
            <a:ext cx="8931240" cy="649728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egún el artículo 37, en caso de entrega anticipada, el vendedor podrá antes de la fecha que se hubiere fijado en el contrato subsanar cualquier falta de conformidad de las mercaderías entregadas, siempre que no ocasione inconvenientes al comprador, quien en todo caso, conservará el derecho a exigir la indemnización de daños y perjuicios.</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oincidiendo con principios generales respecto a la entrega de mercadería y transmisión de los riesgos, la conformidad de las mercaderías se determina en el momento de la transmisión de riesgo al comprador.</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in embargo, la parte final del artículo 36 número 1 agrega un concepto muy novedoso, disponiendo que el vendedor será responsable de toda falta de conformidad de las mercaderías:</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ún cuando esa falta sólo sea manifiesta después de ese momento"</a:t>
            </a:r>
            <a:r>
              <a:rPr b="0" i="1" lang="es-ES_tradnl" sz="2000" spc="-1" strike="noStrike">
                <a:solidFill>
                  <a:srgbClr val="ffff00"/>
                </a:solidFill>
                <a:latin typeface="Comic Sans MS"/>
              </a:rPr>
              <a:t>  </a:t>
            </a:r>
            <a:r>
              <a:rPr b="0" lang="es-ES_tradnl" sz="2000" spc="-1" strike="noStrike">
                <a:solidFill>
                  <a:srgbClr val="ffff00"/>
                </a:solidFill>
                <a:latin typeface="Comic Sans MS"/>
              </a:rPr>
              <a:t>(de la transmisión de los riesgos).</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or su parte, según dispone el artículo 38 el comprador tiene a este respecto una obligación, al disponer 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 name=""/>
          <p:cNvSpPr/>
          <p:nvPr/>
        </p:nvSpPr>
        <p:spPr>
          <a:xfrm>
            <a:off x="179280" y="189000"/>
            <a:ext cx="878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CONFORMIDAD DE LAS MERCADERÍAS Y  PRETENSIONES DE TERCEROS.</a:t>
            </a:r>
            <a:endParaRPr b="0" lang="en-US" sz="2000" spc="-1" strike="noStrike">
              <a:solidFill>
                <a:srgbClr val="000000"/>
              </a:solidFill>
              <a:latin typeface="Times New Roman"/>
            </a:endParaRPr>
          </a:p>
        </p:txBody>
      </p:sp>
      <p:sp>
        <p:nvSpPr>
          <p:cNvPr id="9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08000" y="981000"/>
            <a:ext cx="8931240" cy="601092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comprador deberá examinar o hacer examinar las mercaderías en el más breve plazo posible atendida las circunstancias".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artículo 39 agrega que el comprador perderá este derecho si no lo comunica al vendedor dentro de un plazo razonable "a partir del momento en que la haya o debiera haber descubierto"  (la falta de conformidad de las mercaderías)  y que en todo caso, este derecho se extingue en un plazo máximo de dos años, a menos que ese plazo sea incompatible con un período de garantía contractual.</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obre la materia,  el profesor alemán Peter Schlechtriem en su artículo sobre las Obligaciones del Vendedor en la Convención  de Naciones Unidas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Comic Sans MS"/>
                <a:hlinkClick r:id="rId1" action="ppaction://hlinksldjump"/>
              </a:rPr>
              <a:t>(*)</a:t>
            </a:r>
            <a:r>
              <a:rPr b="0" lang="es-ES" sz="1600" spc="-1" strike="noStrike">
                <a:solidFill>
                  <a:srgbClr val="ffff00"/>
                </a:solidFill>
                <a:latin typeface="Comic Sans MS"/>
              </a:rPr>
              <a:t> comenta un caso que resolvió la Corte de Apelaciones de Hamm, en Alemania, respecto de esta materia. </a:t>
            </a:r>
            <a:br>
              <a:rPr sz="1600"/>
            </a:b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Peter Schlechtriem en ”International Sales”.  Parker School of Foreign and Comparative Law.  </a:t>
            </a:r>
            <a:r>
              <a:rPr b="0" lang="es-CL" sz="1600" spc="-1" strike="noStrike">
                <a:solidFill>
                  <a:srgbClr val="ffff00"/>
                </a:solidFill>
                <a:latin typeface="Comic Sans MS"/>
              </a:rPr>
              <a:t>Columbia University.  Párrafo 6-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
          <p:cNvSpPr/>
          <p:nvPr/>
        </p:nvSpPr>
        <p:spPr>
          <a:xfrm>
            <a:off x="179280" y="189000"/>
            <a:ext cx="878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CONFORMIDAD DE LAS MERCADERÍAS Y  PRETENSIONES DE TERCEROS.</a:t>
            </a:r>
            <a:endParaRPr b="0" lang="en-US" sz="2000" spc="-1" strike="noStrike">
              <a:solidFill>
                <a:srgbClr val="000000"/>
              </a:solidFill>
              <a:latin typeface="Times New Roman"/>
            </a:endParaRPr>
          </a:p>
        </p:txBody>
      </p:sp>
      <p:sp>
        <p:nvSpPr>
          <p:cNvPr id="9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08000" y="981000"/>
            <a:ext cx="8931240" cy="588744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Un exportador italiano vendió a un comprador en Alemania telas para la manufactura de pantalones.  El vendedor estableció en el contrato que el derecho a reclamo por parte del comprador se extinguía después de haberse sometido las mercaderías a un proceso de manufactura.  El comprador examinó las telas en el momento de recibirlas y no encontró defectos.  Sin embargo, cuando los pantalones, ya terminados, se plancharon, se descubrió que la tela no era útil para el fin requerido por el comprador, cual era la confección de prendas de vestir con dicha tela.  Al reclamar el comprador alemán que las mercaderías no eran aptas para el fin del contrato, el exportador italiano se defendió indicando que, según contrato, se había extinguido el derecho del comprador.  La Corte rechazó las defensas del vendedor italiano, señalando el Tribunal que dicha cláusula violaba principios básicos de la Convención.</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a otra obligación que corresponde al vendedor, a este respecto, está reglamentada por el artículo 41 de la Convención  que dispone 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08000" y="981000"/>
            <a:ext cx="893124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ENTREGA DE LOS DOCUMEN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artículo 30 de la Convención estable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El vendedor deberá entregar las mercaderías, transmitir su propiedad y entregar cualesquiera documentos relacionados con aquéllas en las condiciones establecidas en el contrato y en la presente Conven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Más adelante, el artículo 34 de la Convención  disp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El vendedor, si estuviere obligado a entregar documentos relacionados con las mercaderías deberá entregarlos en el momento,  en el lugar y en la forma fijados por el contrato”.</a:t>
            </a:r>
            <a:r>
              <a:rPr b="0" i="1" lang="es-ES_tradnl" sz="2000" spc="-1" strike="noStrike">
                <a:solidFill>
                  <a:srgbClr val="ffff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Hacemos referencia a las normas INCOTERMS 2000.  Por </a:t>
            </a:r>
            <a:r>
              <a:rPr b="0" lang="es-CL" sz="2000" spc="-1" strike="noStrike">
                <a:solidFill>
                  <a:srgbClr val="ffff00"/>
                </a:solidFill>
                <a:latin typeface="Comic Sans MS"/>
              </a:rPr>
              <a:t>ejemplo,</a:t>
            </a:r>
            <a:r>
              <a:rPr b="0" lang="es-ES_tradnl" sz="2000" spc="-1" strike="noStrike">
                <a:solidFill>
                  <a:srgbClr val="ffff00"/>
                </a:solidFill>
                <a:latin typeface="Comic Sans MS"/>
              </a:rPr>
              <a:t> en las ventas CIF, tales normas disponen 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vendedor, a su propio costo, debe entregar al comprador sin demora el documento de transporte usual para el puerto de destino convenido. </a:t>
            </a:r>
            <a:endParaRPr b="0" lang="en-US" sz="2000" spc="-1" strike="noStrike">
              <a:solidFill>
                <a:srgbClr val="000000"/>
              </a:solidFill>
              <a:latin typeface="Times New Roman"/>
            </a:endParaRPr>
          </a:p>
        </p:txBody>
      </p:sp>
      <p:sp>
        <p:nvSpPr>
          <p:cNvPr id="48"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
          <p:cNvSpPr/>
          <p:nvPr/>
        </p:nvSpPr>
        <p:spPr>
          <a:xfrm>
            <a:off x="179280" y="189000"/>
            <a:ext cx="878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CONFORMIDAD DE LAS MERCADERÍAS Y  PRETENSIONES DE TERCEROS.</a:t>
            </a:r>
            <a:endParaRPr b="0" lang="en-US" sz="2000" spc="-1" strike="noStrike">
              <a:solidFill>
                <a:srgbClr val="000000"/>
              </a:solidFill>
              <a:latin typeface="Times New Roman"/>
            </a:endParaRPr>
          </a:p>
        </p:txBody>
      </p:sp>
      <p:sp>
        <p:nvSpPr>
          <p:cNvPr id="10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08000" y="981000"/>
            <a:ext cx="8931240" cy="649728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vendedor deberá entregar las mercaderías libres de cualesquiera derechos o pretensiones de un tercero, a menos que el comprador convenga en aceptarlas sujetas a las derechos o pretensiones".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oncluye el mismo artículo 41 que si los derechos o pretensiones se refieren a propiedad industrial o intelectual, se aplicarán las normas del artículo 42.</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l respecto, el profesor John Honnold establece lo siguiente:</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a Convención  dispone que el vendedor tiene una obligación de entregar las mercaderías libres de cualquier derecho o pretensión de un tercero, lenguaje que debiera proteger la expectación normal del comprador de que no está adquiriendo un litigio.  En las compraventas internacionales la pretensión de un tercero probablemente será regulada por la norma interna del Estado en el que el vendedor tiene su establecimiento; a menudo resultará difícil y costoso para el comprador evaluar y contestar a tal pretensión".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Más adelante, en el mismo párrafo, el autor agreg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
          <p:cNvSpPr/>
          <p:nvPr/>
        </p:nvSpPr>
        <p:spPr>
          <a:xfrm>
            <a:off x="179280" y="189000"/>
            <a:ext cx="878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CONFORMIDAD DE LAS MERCADERÍAS Y  PRETENSIONES DE TERCEROS.</a:t>
            </a:r>
            <a:endParaRPr b="0" lang="en-US" sz="2000" spc="-1" strike="noStrike">
              <a:solidFill>
                <a:srgbClr val="000000"/>
              </a:solidFill>
              <a:latin typeface="Times New Roman"/>
            </a:endParaRPr>
          </a:p>
        </p:txBody>
      </p:sp>
      <p:sp>
        <p:nvSpPr>
          <p:cNvPr id="10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08000" y="981000"/>
            <a:ext cx="8931240" cy="620568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vendedor estaría obligado a rembolsar al comprador por cualquier gasto o pérdida causada por la pretensión.  Pero si el vendedor resuelve el problema rápidamente y con eficacia, el incumplimiento del vendedor podrá no resultar esencial y el comprador no podrá resolver el contrato.  Pero la pretensión de un tercero  puede causar un detrimento tal al comprador que se autorizará la resolución y el tratamiento de  esta forma de subsanar tan drástica podrá estimular al vendedor para que lleve a cabo una acción efectiva". </a:t>
            </a:r>
            <a:r>
              <a:rPr b="0" lang="es-ES_tradnl"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lo que se refiere  a las posibles pretensiones de terceros, basadas en propiedad industrial o intelectual, el artículo 42 dispone que el vendedor deberá entregar las mercaderías libres de tales derechos o pretensiones, siempre que conociera o no hubiera podido ignorar tales derechos en el momento de la celebración del contrato.  Agrega la norma una condición adicional que tales derechos o pretensiones deben estar reconocidos en ciertas legislaciones que el mismo artículo define con precisión.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br>
              <a:rPr sz="2000"/>
            </a:br>
            <a:r>
              <a:rPr b="0" lang="es-CL" sz="1600" spc="-1" strike="noStrike" u="sng">
                <a:solidFill>
                  <a:srgbClr val="ccccff"/>
                </a:solidFill>
                <a:uFillTx/>
                <a:latin typeface="Comic Sans MS"/>
                <a:hlinkClick r:id="rId2" action="ppaction://hlinksldjump"/>
              </a:rPr>
              <a:t>(*)</a:t>
            </a:r>
            <a:r>
              <a:rPr b="0" lang="es-CL" sz="1600" spc="-1" strike="noStrike">
                <a:solidFill>
                  <a:srgbClr val="ffff00"/>
                </a:solidFill>
                <a:latin typeface="Comic Sans MS"/>
              </a:rPr>
              <a:t> John Honnold.  Obra citada Nº 26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
          <p:cNvSpPr/>
          <p:nvPr/>
        </p:nvSpPr>
        <p:spPr>
          <a:xfrm>
            <a:off x="358920" y="260280"/>
            <a:ext cx="60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RANSFERENCIA DE LOS RIESGOS</a:t>
            </a:r>
            <a:endParaRPr b="0" lang="en-US" sz="2400" spc="-1" strike="noStrike">
              <a:solidFill>
                <a:srgbClr val="000000"/>
              </a:solidFill>
              <a:latin typeface="Times New Roman"/>
            </a:endParaRPr>
          </a:p>
        </p:txBody>
      </p:sp>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08000" y="981000"/>
            <a:ext cx="8931240" cy="592992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obre la materia el profesor Bernad Audit expresa lo siguiente: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 el establecimiento del vendedor  y el del comprador, la mercadería corre diversos riesgos:  pérdida total o parcial, averías.  Naturalmente estos riesgos son tanto más graves cuanto más largo es el transporte y cuanto más modalidades diferentes incluye, como transferencias de transportes; es decir que estos riesgos son normalmente mayores en las ventas internacionales que en las ventas internas.  Al riesgo material se suman en las primeras ciertos riesgos políticos que impedirán a la mercadería llegar al comprador, tales como el embargo o la requisición.  </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derecho, plantear la cuestión de los riesgos de la cosa, objeto del contrato, consiste en preguntarse  quién deberá soportar la consecuencia de su pérdida:  ¿Es el vendedor quién deberá, por ejemplo, expedir nuevas mercaderías si las primeras se pierden o indemnizar al comprador si está impedido de hacerlas llegar? ¿o es el comprador quién deberá pagar el precio de las mercaderías aun que no le hayan llegado?.  </a:t>
            </a:r>
            <a:r>
              <a:rPr b="0" lang="es-E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
          <p:cNvSpPr/>
          <p:nvPr/>
        </p:nvSpPr>
        <p:spPr>
          <a:xfrm>
            <a:off x="0" y="7650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08000" y="765000"/>
            <a:ext cx="8931240" cy="644796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La Convención  consagra el principio universal de que los riesgos pasan del comprador al vendedor conjuntamente con la entrega de las mercaderías que en este caso, según se explicó, generalmente coincide con la transferencia de propiedad.</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El artículo 67, ya citado varias veces en esta obra, dispone:</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a:t>
            </a:r>
            <a:r>
              <a:rPr b="0" lang="es-ES" sz="1900" spc="-1" strike="noStrike">
                <a:solidFill>
                  <a:srgbClr val="ffff00"/>
                </a:solidFill>
                <a:latin typeface="Comic Sans MS"/>
              </a:rPr>
              <a:t>Cuando el contrato de compraventa implique el transporte de las mercaderías y el vendedor no esté obligado a entregarlas en un lugar determinado, el riesgo se transmitirá al comprador en el momento en que las mercaderías se pongan en poder del primer porteador para que las traslade al comprador conforme al contrato de compraventa”.</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Consecuente con dicho criterio, y siguiendo la misma lógica el artículo 66 agrega  que:</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La pérdida o el deterioro de las mercaderías sobrevenidos después de la transmisión  del riesgo al comprador no liberarán a éste de su obligación de pagar el precio. </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ccccff"/>
                </a:solidFill>
                <a:uFillTx/>
                <a:latin typeface="Comic Sans MS"/>
                <a:hlinkClick r:id="rId1" action="ppaction://hlinksldjump"/>
              </a:rPr>
              <a:t>(*)</a:t>
            </a:r>
            <a:r>
              <a:rPr b="0" lang="es-CL" sz="1600" spc="-1" strike="noStrike">
                <a:solidFill>
                  <a:srgbClr val="ffff00"/>
                </a:solidFill>
                <a:latin typeface="Comic Sans MS"/>
              </a:rPr>
              <a:t> Bernard Audit.  Obra citada.  Página 101.</a:t>
            </a:r>
            <a:endParaRPr b="0" lang="en-US" sz="1600" spc="-1" strike="noStrike">
              <a:solidFill>
                <a:srgbClr val="000000"/>
              </a:solidFill>
              <a:latin typeface="Times New Roman"/>
            </a:endParaRPr>
          </a:p>
        </p:txBody>
      </p:sp>
      <p:sp>
        <p:nvSpPr>
          <p:cNvPr id="112" name=""/>
          <p:cNvSpPr/>
          <p:nvPr/>
        </p:nvSpPr>
        <p:spPr>
          <a:xfrm>
            <a:off x="358920" y="260280"/>
            <a:ext cx="60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RANSFERENCIA DE LOS RIESG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08000" y="981000"/>
            <a:ext cx="8931240" cy="620568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supuesto, el comprador podrá defenderse sosteniendo que dicha pérdida o deterioro se  deba a un acto u omisión del vendedor.</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obre este criterio de transferencia de los riesgos, conjuntamente con la entrega y la transmisión de la propiedad el profesor John Honnold agrega que:</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En los sistemas legales basados en el Acta de Venta de Mercaderías del Reino Unido (U.K. Sale of Goods Act), la premisa básica es que el riesgo sobre las mercaderías pasa cuando la propiedad sobre las mismas es transferida al comprador". </a:t>
            </a:r>
            <a:r>
              <a:rPr b="0" lang="es-E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o se ha visto más atrás, en general, la entrega de las mercaderías produce  también la transferencia del dominio, salvo el caso de Francia, en que el dominio se adquiere por parte del comprador desde el momento mismo de celebrar el contrato de  compraventa.</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br>
              <a:rPr sz="2000"/>
            </a:br>
            <a:r>
              <a:rPr b="0" lang="es-CL" sz="1600" spc="-1" strike="noStrike" u="sng">
                <a:solidFill>
                  <a:srgbClr val="ccccff"/>
                </a:solidFill>
                <a:uFillTx/>
                <a:latin typeface="Comic Sans MS"/>
                <a:hlinkClick r:id="rId2" action="ppaction://hlinksldjump"/>
              </a:rPr>
              <a:t>(*)</a:t>
            </a:r>
            <a:r>
              <a:rPr b="0" lang="es-CL" sz="1600" spc="-1" strike="noStrike">
                <a:solidFill>
                  <a:srgbClr val="ffff00"/>
                </a:solidFill>
                <a:latin typeface="Comic Sans MS"/>
              </a:rPr>
              <a:t> John Honnold.  Obra citada.  Página 372.</a:t>
            </a:r>
            <a:endParaRPr b="0" lang="en-US" sz="1600" spc="-1" strike="noStrike">
              <a:solidFill>
                <a:srgbClr val="000000"/>
              </a:solidFill>
              <a:latin typeface="Times New Roman"/>
            </a:endParaRPr>
          </a:p>
        </p:txBody>
      </p:sp>
      <p:sp>
        <p:nvSpPr>
          <p:cNvPr id="115" name=""/>
          <p:cNvSpPr/>
          <p:nvPr/>
        </p:nvSpPr>
        <p:spPr>
          <a:xfrm>
            <a:off x="358920" y="260280"/>
            <a:ext cx="60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RANSFERENCIA DE LOS RIESG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08000" y="981000"/>
            <a:ext cx="8931240" cy="617220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De acuerdo con las normas de la Convención, los riesgos sobre la cosa vendida se  transfieren al comprador al momento de la entrega de las mercaderías.</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Este mismo criterio existe también en las normas INCOTERMS 2000, en todas sus distintas acepciones. Incluso, en el caso de la venta C.l.F., como se ha expresado. Dicha norma establece que el comprador debe:</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Asumir todos los riesgos que pueda correr la mercancía a partir del momento en que haya efectivamente pasado la borda del buque  en el puerto de embarque"</a:t>
            </a:r>
            <a:r>
              <a:rPr b="0" i="1" lang="es-ES" sz="1900" spc="-1" strike="noStrike">
                <a:solidFill>
                  <a:srgbClr val="ffff00"/>
                </a:solidFill>
                <a:latin typeface="Comic Sans MS"/>
              </a:rPr>
              <a:t>.</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Conviene hacer tres observaciones sobre la materia.</a:t>
            </a: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En primer lugar, muchos comerciantes suelen creer que en las compras que ellos efectúen bajo la modalidad C.I.F. les corresponderá asumir el riesgo sólo en el momento  que reciban la mercadería en el puerto de destino. Como se ha visto, ese no es el principio  de aplicación universal que resulta de las normas transcritas, tanto de INCOTERMS como  de la Convención. </a:t>
            </a:r>
            <a:endParaRPr b="0" lang="en-US" sz="1900" spc="-1" strike="noStrike">
              <a:solidFill>
                <a:srgbClr val="000000"/>
              </a:solidFill>
              <a:latin typeface="Times New Roman"/>
            </a:endParaRPr>
          </a:p>
        </p:txBody>
      </p:sp>
      <p:sp>
        <p:nvSpPr>
          <p:cNvPr id="118" name=""/>
          <p:cNvSpPr/>
          <p:nvPr/>
        </p:nvSpPr>
        <p:spPr>
          <a:xfrm>
            <a:off x="358920" y="260280"/>
            <a:ext cx="60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RANSFERENCIA DE LOS RIESG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08000" y="981000"/>
            <a:ext cx="8931240" cy="405792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segundo lugar,  este criterio de aplicación universal no es el mismo que contiene el Código Civil chileno, en que el comprador asume los riesgos de la cosa vendida desde  el momento en que se otorga válidamente el contrato. Cabe pensar en la significación  jurídica y económica que tendría la aplicación pura y simple de la norma chilena a un  contrato de compra de un bien determinado en el exterior. El importador chileno asumiría  todos los riesgos desde el momento de la compraventa.</a:t>
            </a: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tabLst>
                <a:tab algn="l" pos="0"/>
                <a:tab algn="l" pos="2667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tercer lugar, de acuerdo con el principio de autonomía de la voluntad, las partes  pueden modificar los principios antedichos y convenir entre ellas el tiempo, lugar y manera en que se transferirán los riesgos del vendedor al comprador. </a:t>
            </a:r>
            <a:endParaRPr b="0" lang="en-US" sz="2000" spc="-1" strike="noStrike">
              <a:solidFill>
                <a:srgbClr val="000000"/>
              </a:solidFill>
              <a:latin typeface="Times New Roman"/>
            </a:endParaRPr>
          </a:p>
        </p:txBody>
      </p:sp>
      <p:sp>
        <p:nvSpPr>
          <p:cNvPr id="121" name=""/>
          <p:cNvSpPr/>
          <p:nvPr/>
        </p:nvSpPr>
        <p:spPr>
          <a:xfrm>
            <a:off x="358920" y="260280"/>
            <a:ext cx="60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RANSFERENCIA DE LOS RIESG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08000" y="981000"/>
            <a:ext cx="8931240" cy="5900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ste documento (por ejemplo, un conocimiento de embarque negociable)</a:t>
            </a: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be:</a:t>
            </a: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ubrir las mercaderías del contrato.</a:t>
            </a:r>
            <a:endParaRPr b="0" lang="en-US" sz="20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er fechado dentro del período convenido para el embarque.</a:t>
            </a:r>
            <a:endParaRPr b="0" lang="en-US" sz="20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ermitir al comprador requerir la entrega de las mercaderías del transportista en el puerto de destino.</a:t>
            </a:r>
            <a:endParaRPr b="0" lang="en-US" sz="20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ermitir al comprador vender las mercaderías en tránsito, transfiriendo dicho documento a otro comprador subsiguiente.</a:t>
            </a: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l respecto, el profesor John Honnold  expresa que al preparar el texto</a:t>
            </a: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 la Convención  surgió la siguiente pregunta:</a:t>
            </a: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Cuando la norma legal se refiere a la entrega de  “mercaderías” ¿se </a:t>
            </a: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iende que la ley se refiere también a la entrega efectuada mediante </a:t>
            </a: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documentos que representan el título sobre las mercaderías?” </a:t>
            </a:r>
            <a:r>
              <a:rPr b="0" lang="es-ES" sz="2000" spc="-1" strike="noStrike" u="sng">
                <a:solidFill>
                  <a:srgbClr val="ccccff"/>
                </a:solidFill>
                <a:uFillTx/>
                <a:latin typeface="Comic Sans MS"/>
                <a:hlinkClick r:id="rId1" action="ppaction://hlinksldjump"/>
              </a:rPr>
              <a:t>(*)</a:t>
            </a:r>
            <a:r>
              <a:rPr b="0" lang="es-ES" sz="2000" spc="-1" strike="noStrike">
                <a:solidFill>
                  <a:srgbClr val="ffff00"/>
                </a:solidFill>
                <a:latin typeface="Comic Sans MS"/>
              </a:rPr>
              <a:t>. </a:t>
            </a:r>
            <a:br>
              <a:rPr sz="2000"/>
            </a:br>
            <a:endParaRPr b="0" lang="en-US" sz="20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ccccff"/>
                </a:solidFill>
                <a:uFillTx/>
                <a:latin typeface="Comic Sans MS"/>
                <a:hlinkClick r:id="rId2" action="ppaction://hlinksldjump"/>
              </a:rPr>
              <a:t>(*)</a:t>
            </a:r>
            <a:r>
              <a:rPr b="0" lang="es-CL" sz="1600" spc="-1" strike="noStrike">
                <a:solidFill>
                  <a:srgbClr val="ffff00"/>
                </a:solidFill>
                <a:latin typeface="Comic Sans MS"/>
              </a:rPr>
              <a:t> John Honnold.  Obra citada.  Párrafo 219.  Traducción del autor de este libro.</a:t>
            </a:r>
            <a:endParaRPr b="0" lang="en-US" sz="1600" spc="-1" strike="noStrike">
              <a:solidFill>
                <a:srgbClr val="000000"/>
              </a:solidFill>
              <a:latin typeface="Times New Roman"/>
            </a:endParaRPr>
          </a:p>
        </p:txBody>
      </p:sp>
      <p:sp>
        <p:nvSpPr>
          <p:cNvPr id="51"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08000" y="981000"/>
            <a:ext cx="8931240" cy="627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ice el profesor Bernard Audit sobre el mismo tem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A menudo, los documentos son representativos de la propiedad de la mercadería (resguardo de muelle o de entrepuerto, conocimientos)” </a:t>
            </a:r>
            <a:r>
              <a:rPr b="0" lang="es-ES_tradnl" sz="2000" spc="-1" strike="noStrike" u="sng">
                <a:solidFill>
                  <a:srgbClr val="ccccff"/>
                </a:solidFill>
                <a:uFillTx/>
                <a:latin typeface="Comic Sans MS"/>
                <a:hlinkClick r:id="rId1" action="ppaction://hlinksldjump"/>
              </a:rPr>
              <a:t>(*)</a:t>
            </a:r>
            <a:r>
              <a:rPr b="0" lang="es-ES_tradnl" sz="2000" spc="-1" strike="noStrike">
                <a:solidFill>
                  <a:srgbClr val="ffff00"/>
                </a:solidFill>
                <a:latin typeface="Comic Sans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os autores Alejandro Miguel Garro y Alberto Luis Zuppi agreg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a:t>
            </a:r>
            <a:r>
              <a:rPr b="0" lang="es-ES_tradnl" sz="1900" spc="-1" strike="noStrike">
                <a:solidFill>
                  <a:srgbClr val="ffff00"/>
                </a:solidFill>
                <a:latin typeface="Comic Sans MS"/>
              </a:rPr>
              <a:t>La Convención empero, no explica a qué tipo de documentos se refieren los arts. 30 y 34.  Es probable que se refieran a los títulos representativos de las mercaderías, tales como la carta de porte o el conocimiento de embarque, que se deben encontrar en poder del comprador para que éste pueda ejercer sus derechos sobre las mercaderías transportadas.  Pero también existe otro tipo de documentos que, sin ser esenciales para que el comprador ejerza sus derechos sobre las mercaderías,  le permitan disponer de la cosa en forma apropiada.  Tal es el caso, por ejemplo, de un manual de instrucciones que contiene una descripción técnica de un aparato o equipo electrónico”. </a:t>
            </a:r>
            <a:r>
              <a:rPr b="0" lang="es-ES_tradnl" sz="1900" spc="-1" strike="noStrike" u="sng">
                <a:solidFill>
                  <a:srgbClr val="ccccff"/>
                </a:solidFill>
                <a:uFillTx/>
                <a:latin typeface="Comic Sans MS"/>
                <a:hlinkClick r:id="rId2" action="ppaction://hlinksldjump"/>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CL" sz="1600" spc="-1" strike="noStrike" u="sng">
                <a:solidFill>
                  <a:srgbClr val="ccccff"/>
                </a:solidFill>
                <a:uFillTx/>
                <a:latin typeface="Comic Sans MS"/>
                <a:hlinkClick r:id="rId3" action="ppaction://hlinksldjump"/>
              </a:rPr>
              <a:t>(*)</a:t>
            </a:r>
            <a:r>
              <a:rPr b="0" lang="es-CL" sz="1600" spc="-1" strike="noStrike">
                <a:solidFill>
                  <a:srgbClr val="ffff00"/>
                </a:solidFill>
                <a:latin typeface="Comic Sans MS"/>
              </a:rPr>
              <a:t> Bernard Audit.  Obra citada. Párrafo 86.  Pág. 10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Alejandro Miguel Garro.  Alberto Luis Zuppi.  Compraventa Internacional de Mercaderías.  </a:t>
            </a:r>
            <a:r>
              <a:rPr b="0" lang="en-US" sz="1600" spc="-1" strike="noStrike">
                <a:solidFill>
                  <a:srgbClr val="ffff00"/>
                </a:solidFill>
                <a:latin typeface="Comic Sans MS"/>
              </a:rPr>
              <a:t>1990.  Página 154. </a:t>
            </a:r>
            <a:endParaRPr b="0" lang="en-US" sz="1600" spc="-1" strike="noStrike">
              <a:solidFill>
                <a:srgbClr val="000000"/>
              </a:solidFill>
              <a:latin typeface="Times New Roman"/>
            </a:endParaRPr>
          </a:p>
        </p:txBody>
      </p:sp>
      <p:sp>
        <p:nvSpPr>
          <p:cNvPr id="54"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56" name=""/>
          <p:cNvSpPr/>
          <p:nvPr/>
        </p:nvSpPr>
        <p:spPr>
          <a:xfrm>
            <a:off x="0" y="7650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04760" y="787320"/>
            <a:ext cx="8931240" cy="644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Sobre este mismo concepto, el profesor Peter Schlechtriem agrega: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00"/>
                </a:solidFill>
                <a:latin typeface="Comic Sans MS"/>
              </a:rPr>
              <a:t>“</a:t>
            </a:r>
            <a:r>
              <a:rPr b="0" lang="es-ES_tradnl" sz="1900" spc="-1" strike="noStrike">
                <a:solidFill>
                  <a:srgbClr val="ffff00"/>
                </a:solidFill>
                <a:latin typeface="Comic Sans MS"/>
              </a:rPr>
              <a:t>Los documentos juegan un rol importante en la venta de mercaderías.  Si puedo escoger una clasificación simplística, tenemos, por una parte, documentos que representan mercaderías y que, frecuentemente, son para las partes el verdadero objeto para la venta; ellas están negociando documentos y no mercaderías.  Por otro lado, hay documentos que no tienen importancia en lo que se refiere al poder de disposición de las mercaderías o a su valor, pero que son relevantes por su utilidad (certificado de origen, certificado de análisis, instrucciones de manejo y otros).” </a:t>
            </a:r>
            <a:r>
              <a:rPr b="0" lang="es-ES_tradnl" sz="1900" spc="-1" strike="noStrike" u="sng">
                <a:solidFill>
                  <a:srgbClr val="ccccff"/>
                </a:solidFill>
                <a:uFillTx/>
                <a:latin typeface="Comic Sans MS"/>
                <a:hlinkClick r:id="rId1" action="ppaction://hlinksldjump"/>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Comic Sans MS"/>
              </a:rPr>
              <a:t>Podría, por lo tanto, aparentemente concluirse que el  vendedor cumple con entregar la cosa vendida en el momento en que entrega también aquellos documentos que son representativos del título de propiedad sobre las mercaderías, como por ejemplo el conocimiento de embarque.  En consecuencia, se podría decir, que si no hay entrega de documentos representativos del título sobre las mercaderías, en ese caso no hay entrega de las mercaderías y el vendedor se encuentra en situación de incumplimiento. </a:t>
            </a:r>
            <a:br>
              <a:rPr sz="1900"/>
            </a:b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Peter Schlechtriem en International Sales.  Parker School of Foreign and Comparative Law.  Columbia University.  Párrafo 6.02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08000" y="981000"/>
            <a:ext cx="8931240" cy="49726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nuestra opinión las conclusiones anteriores son erróneas.  Hay que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recordar que estamos analizando los efectos de un contrato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relativamente sencillo y simple, que no requiere mayor solemnidad en su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formación, como es el contrato de compraventa internacional de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mercaderías.</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contrato de compraventa internacional da origen a una compleja serie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 actuaciones y de contratos, que se vinculan entre sí, pero cada uno de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los tiene también una vida propia y una reglamentación específica.  Nos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referimos en particular:</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l contrato de transporte marítimo.</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l contrato de seguro de comercio exterior.</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l contrato de crédito documentario para el pago del valor de las mercaderí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6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08000" y="981000"/>
            <a:ext cx="8931240" cy="52776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i bien es cierto los documentos del contrato de compraventa pueden referirse o vincularse con los documentos que se generan en los convenios y operaciones recién nombrados, ello no debe significar confusiones respecto de la interpretación del contrato de compraventa internacional en sí mismo y de los efectos que éste produce entre vendedor y comprador.</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Relacionando la obligación de entrega de los documentos, que compete al vendedor, con su obligación principal, cual es la entrega de las mercaderías, nos remitimos a lo expresado en que el vendedor, a menos que estuviere obligado a entregar las mercaderías en otro lugar determinado, cumple con su obligación de entrega de las mercaderías:</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Cuando el contrato de compraventa implique el transporte de las mercaderías, en ponerlas en poder del primer porteador para que las traslade al comprado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6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08000" y="981000"/>
            <a:ext cx="8931240" cy="49726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a obligación de entrega del vendedor es un acto físico, que se basta por sí mismo, y que significa que cuando, según el contrato, se requiere transporte, el vendedor pone las mercaderías en poder del primer porteador para que las traslade al comprador.  Es en ese momento, en que se produce el cumplimiento de su obligación de entregar.</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ste mismo acto de entrega, produce también otro efecto.  Como se verá más adelante al analizar el tema de la transmisión de los riesgos, la Convención, en forma coincidente con el principio anterior, dispone en su artículo 67 lo siguiente: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Cuando el contrato de compraventa implique el transporte de las mercaderías y el vendedor no esté obligado a entregarlas en un lugar determinado, el riesgo se transmitirá al comprador en el momento en que las mercaderías se pongan en poder del primer porteador para que las traslade al comprador conforme al contrato de compravent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533520" y="304920"/>
            <a:ext cx="49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ENTREGA DE LOS DOCUMENTOS</a:t>
            </a:r>
            <a:endParaRPr b="0" lang="en-US" sz="2400" spc="-1" strike="noStrike">
              <a:solidFill>
                <a:srgbClr val="000000"/>
              </a:solidFill>
              <a:latin typeface="Times New Roman"/>
            </a:endParaRPr>
          </a:p>
        </p:txBody>
      </p:sp>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08000" y="981000"/>
            <a:ext cx="8931240" cy="49726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 esta manera, tanto la obligación principal del vendedor, cual es la entrega de la mercadería, como la transmisión de los riesgos al comprador, ocurren, de acuerdo con las normas citadas en la Convención,  en el mismo instante;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En el momento en que las mercaderías se pongan en poder del primer porteador para que las traslade al comprador conforme al contrato de compraventa”.  El acto en que el vendedor pone las mercaderías a disposición del primer porteador, para que las traslade al comprador produce un efecto simultáneo.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primer lugar, significa el cumplimiento de su obligación de entrega de las mercaderías. </a:t>
            </a: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segundo lugar, transmite los riesgos sobre la cosa vendida al compr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4-29T20:46:02Z</dcterms:modified>
  <cp:revision>80</cp:revision>
  <dc:subject/>
  <dc:title>PowerPoint Presentation</dc:title>
</cp:coreProperties>
</file>