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72CFC-BB38-4984-904B-9E083275F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0B15E-C4B1-47AA-ABAE-F2035257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D0A4-199B-4FEA-B99B-97A2D9C95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5371F-CB2D-498B-AAB9-983E9B598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E810-21EB-4E67-BCB8-9F4F970B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54B50-4E73-4F0B-948F-9223A778C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1F6D-B371-4FD9-A7DC-42EDE8C0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50C2-EE5B-45DA-A046-3640AF7D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41A02-D06F-4C31-B56A-F835F3D4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3DCB-C45C-49AD-8F52-7B5E4D8C6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13324-6774-4683-94A1-FCEEEEB8C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BD61-FB22-4FD9-9456-E885A7EA8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6E6A-3E00-464E-A7F6-7C314B2A5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abiendo concluido y precisado el concepto de entrega de la cosa vendida, efectivamente en el contrato de compraventa internacional, y en los contratos que este mismo genere, como por ejemplo el de transporte marítimo y el de seguro, se producen una serie de documentos que demuestran el cumplimiento de las obligaciones del vendedor, que sirven de prueba y que, una vez emitidos, en algunos casos sirven para la transferencia posterior de las mercaderías.</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ales de estos documentos dicen relación con las mercaderías </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que son materia del contrato.  </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ctura comercial, que es el documento emitido por el vendedor, que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rmalmente lleva impreso su marca, y nombre, en que se indica la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echa, se describen las mercaderías vendidas, la cantidad, la calidad,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us marcas e identificación, el precio unitario y el valor total que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be pagar el compr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8000" y="981000"/>
            <a:ext cx="8931240" cy="131364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ocumento de Transporte que en el caso del transporte marítimo s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lama Conocimiento de Embarque (Bill of Lading), que cumple tre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unciones principales.</a:t>
            </a:r>
            <a:endParaRPr b="0" lang="en-US" sz="2000" spc="-1" strike="noStrike">
              <a:solidFill>
                <a:srgbClr val="000000"/>
              </a:solidFill>
              <a:latin typeface="Times New Roman"/>
            </a:endParaRPr>
          </a:p>
        </p:txBody>
      </p:sp>
      <p:sp>
        <p:nvSpPr>
          <p:cNvPr id="76" name=""/>
          <p:cNvSpPr/>
          <p:nvPr/>
        </p:nvSpPr>
        <p:spPr>
          <a:xfrm>
            <a:off x="826920" y="2349360"/>
            <a:ext cx="8029800" cy="6887160"/>
          </a:xfrm>
          <a:prstGeom prst="rect">
            <a:avLst/>
          </a:prstGeom>
          <a:noFill/>
          <a:ln w="0">
            <a:noFill/>
          </a:ln>
        </p:spPr>
        <p:style>
          <a:lnRef idx="0"/>
          <a:fillRef idx="0"/>
          <a:effectRef idx="0"/>
          <a:fontRef idx="minor"/>
        </p:style>
        <p:txBody>
          <a:bodyPr lIns="90000" rIns="90000" tIns="46800" bIns="46800" anchor="t">
            <a:spAutoFit/>
          </a:bodyPr>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ntiene las obligaciones de las partes en el contrato de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transporte marítimo y acredita la fecha en que la mercadería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se subió a bordo del buque en un puerto determinado.</a:t>
            </a: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Sirve de recibo de las mercaderías que se embarquen y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 que a partir de esa fecha las mercaderías están bajo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la custodia del transportador (Art. 983 Código de Comercio).</a:t>
            </a: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 título de dominio sobre las mercaderías y valor de crédito.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mite la transferencia de las mercaderías mediante su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ndoso y quien lo presente al transportista en el puerto de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tino puede reclamar la entrega de las mercaderí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54900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de Origen.</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de Calidad.</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Fitosanitario.</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ista de Empaque.</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Otros.</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specto de la entrega de los documentos por parte del vendedor, cabe la siguiente pregunta ¿cómo y de qué manera cumple en vendedor con su obligación de entregar los documento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respuesta, como muchas otras relacionadas con el contrato de compraventa internacional, está en los acuerdos y definiciones que las mismas partes hayan establecido en su convenio origin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1"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725400"/>
            <a:ext cx="8931240" cy="67510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Las consideraciones más importantes respecto a la forma en que el vendedor cumple con su obligación de entregar los documentos, dependerán, principalmente de dos aspectos.  </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En primer lugar, la cláusula de venta, según INCOTERMS, que las partes hayan acordado.  Existen trece cláusulas, que se van desarrollando desde la denominación EXW (Ex Works) hasta la denominación DDP (Delivered Duty Paid).  En la primera, la entrega de la mercadería se efectúa en el establecimiento del vendedor, recayendo en el comprador las responsabilidades para obtener licencia de exportación en el país de origen, contratar el seguro y el transporte marítimo.  En la última, en cambio, la entrega se efectúa por el  vendedor al comprador en el lugar de destino en un medio de transporte, sin descargar, debiendo contratar el transporte internacional  y obteniendo las licencias de importación y exportación en el país de destino.  De esta manera, el término EXW representa la mínima obligación para el vendedor, en tanto que DDP representa la máxima obligación.  En el primer caso, los documentos que requiera entregar el vendedor serán muy pocos y en el otro caso son muchos.  Conviene, en cualquier evento, describir con precisión en el contrato de compraventa internacional qué documentos se exigen al vendedor, y la manera en que debe entregarlo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otro criterio que determina la forma de los documentos y la manera en que éstos se entregan, dependerá de los términos acordados para el pago del precio de la mercadería.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 se exige una carta de crédito, cabe recordar que éste es un instrumento de pago formal y sin causa, esto es, separado del contrato de compraventa que le da origen.  Las mismas normas de la Cámara d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mercio Internacional contienen disposiciones expresas que separan al crédito documentario del contrat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caso, el vendedor debe cumplir al pie de la letra con las estipulaciones de la carta de crédito entregando los documentos que allí se solicita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e punto se analiza con más detalle más adelante en el Capítulo sobre Cartas de Cré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13136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el mecanismo escogido para el pago del precio sea más simple, por ejemplo una operación en cobranza, bastará el despacho y la entrega de los documentos de acuerdo con los términos de la misma cobr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619236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está tratado  en la Sección II de la Convención, que lleva el mismo título de este Capítulo y que comprende los artículos 35 a 44.</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primer lugar, el concepto principal lo define el artículo 35 en su número 1, que dispon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deberá entregar mercaderías cuya cantidad, calidad y tipo correspondan a los estipulados en el contrato y que estén envasadas o embaladas en la forma fijada en el contrat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seguida, el mismo artículo en el número 2 agrega otro principio general, señalando que el criterio esencial para definir la conformidad de las mercaderías con el contrato es que ella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an aptas para los usos que ordinariamente se destinen mercaderías del mismo tip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Naturalmente, si las partes han pactado otra cosa y han acordado definiciones precisas sobre la materia, deberá estarse a e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el artículo 37, en caso de entrega anticipada, el vendedor podrá antes de la fecha que se hubiere fijado en el contrato subsanar cualquier falta de conformidad de las mercaderías entregadas, siempre que no ocasione inconvenientes al comprador, quien en todo caso, conservará el derecho a exigir la indemnización de daños y perjuicio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incidiendo con principios generales respecto a la entrega de mercadería y transmisión de los riesgos, la conformidad de las mercaderías se determina en el momento de la transmisión de riesgo al comprador.</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la parte final del artículo 36 número 1 agrega un concepto muy novedoso, disponiendo que el vendedor será responsable de toda falta de conformidad de las mercadería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ún cuando esa falta sólo sea manifiesta después de ese momento"</a:t>
            </a:r>
            <a:r>
              <a:rPr b="0" i="1" lang="es-ES_tradnl" sz="2000" spc="-1" strike="noStrike">
                <a:solidFill>
                  <a:srgbClr val="ffff00"/>
                </a:solidFill>
                <a:latin typeface="Comic Sans MS"/>
              </a:rPr>
              <a:t>  </a:t>
            </a:r>
            <a:r>
              <a:rPr b="0" lang="es-ES_tradnl" sz="2000" spc="-1" strike="noStrike">
                <a:solidFill>
                  <a:srgbClr val="ffff00"/>
                </a:solidFill>
                <a:latin typeface="Comic Sans MS"/>
              </a:rPr>
              <a:t>(de la transmisión de los riesgo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su parte, según dispone el artículo 38 el comprador tiene a este respecto una obligación, al disponer 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6010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mprador deberá examinar o hacer examinar las mercaderías en el más breve plazo posible atendida las circunstancia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9 agrega que el comprador perderá este derecho si no lo comunica al vendedor dentro de un plazo razonable "a partir del momento en que la haya o debiera haber descubierto"  (la falta de conformidad de las mercaderías)  y que en todo caso, este derecho se extingue en un plazo máximo de dos años, a menos que ese plazo sea incompatible con un período de garantía contractual.</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la materia,  el profesor alemán Peter Schlechtriem en su artículo sobre las Obligaciones del Vendedor en la Convención  de Naciones Unida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Comic Sans MS"/>
                <a:hlinkClick r:id="rId1" action="ppaction://hlinksldjump"/>
              </a:rPr>
              <a:t>(*)</a:t>
            </a:r>
            <a:r>
              <a:rPr b="0" lang="es-ES" sz="1600" spc="-1" strike="noStrike">
                <a:solidFill>
                  <a:srgbClr val="ffff00"/>
                </a:solidFill>
                <a:latin typeface="Comic Sans MS"/>
              </a:rPr>
              <a:t> comenta un caso que resolvió la Corte de Apelaciones de Hamm, en Alemania, respecto de esta materia. </a:t>
            </a: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Peter Schlechtriem en ”International Sales”.  Parker School of Foreign and Comparative Law.  </a:t>
            </a:r>
            <a:r>
              <a:rPr b="0" lang="es-CL" sz="1600" spc="-1" strike="noStrike">
                <a:solidFill>
                  <a:srgbClr val="ffff00"/>
                </a:solidFill>
                <a:latin typeface="Comic Sans MS"/>
              </a:rPr>
              <a:t>Columbia University.  Párrafo 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 exportador italiano vendió a un comprador en Alemania telas para la manufactura de pantalones.  El vendedor estableció en el contrato que el derecho a reclamo por parte del comprador se extinguía después de haberse sometido las mercaderías a un proceso de manufactura.  El comprador examinó las telas en el momento de recibirlas y no encontró defectos.  Sin embargo, cuando los pantalones, ya terminados, se plancharon, se descubrió que la tela no era útil para el fin requerido por el comprador, cual era la confección de prendas de vestir con dicha tela.  Al reclamar el comprador alemán que las mercaderías no eran aptas para el fin del contrato, el exportador italiano se defendió indicando que, según contrato, se había extinguido el derecho del comprador.  La Corte rechazó las defensas del vendedor italiano, señalando el Tribunal que dicha cláusula violaba principios básicos de la Convención.</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otra obligación que corresponde al vendedor, a este respecto, está reglamentada por el artículo 41 de la Convención  que dispone 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ENTREGA DE LOS DOCUM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0 de la Convención estable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transmitir su propiedad y entregar cualesquiera documentos relacionados con aqué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ás adelante, el artículo 34 de la Convención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si estuviere obligado a entregar documentos relacionados con las mercaderías deberá entregarlos en el momento,  en el lugar y en la forma fijados por el contrato”.</a:t>
            </a:r>
            <a:r>
              <a:rPr b="0" i="1" lang="es-ES_tradnl" sz="2000" spc="-1" strike="noStrike">
                <a:solidFill>
                  <a:srgbClr val="ffff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acemos referencia a las normas INCOTERMS 2000.  Por </a:t>
            </a:r>
            <a:r>
              <a:rPr b="0" lang="es-CL" sz="2000" spc="-1" strike="noStrike">
                <a:solidFill>
                  <a:srgbClr val="ffff00"/>
                </a:solidFill>
                <a:latin typeface="Comic Sans MS"/>
              </a:rPr>
              <a:t>ejemplo,</a:t>
            </a:r>
            <a:r>
              <a:rPr b="0" lang="es-ES_tradnl" sz="2000" spc="-1" strike="noStrike">
                <a:solidFill>
                  <a:srgbClr val="ffff00"/>
                </a:solidFill>
                <a:latin typeface="Comic Sans MS"/>
              </a:rPr>
              <a:t> en las ventas CIF, tales normas disponen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a su propio costo, debe entregar al comprador sin demora el documento de transporte usual para el puerto de destino convenido. </a:t>
            </a:r>
            <a:endParaRPr b="0" lang="en-US" sz="2000" spc="-1" strike="noStrike">
              <a:solidFill>
                <a:srgbClr val="000000"/>
              </a:solidFill>
              <a:latin typeface="Times New Roman"/>
            </a:endParaRPr>
          </a:p>
        </p:txBody>
      </p:sp>
      <p:sp>
        <p:nvSpPr>
          <p:cNvPr id="48"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deberá entregar las mercaderías libres de cualesquiera derechos o pretensiones de un tercero, a menos que el comprador convenga en aceptarlas sujetas a las derechos o pretensione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cluye el mismo artículo 41 que si los derechos o pretensiones se refieren a propiedad industrial o intelectual, se aplicarán las normas del artículo 42.</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l respecto, el profesor John Honnold establece lo siguiente:</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onvención  dispone que el vendedor tiene una obligación de entregar las mercaderías libres de cualquier derecho o pretensión de un tercero, lenguaje que debiera proteger la expectación normal del comprador de que no está adquiriendo un litigio.  En las compraventas internacionales la pretensión de un tercero probablemente será regulada por la norma interna del Estado en el que el vendedor tiene su establecimiento; a menudo resultará difícil y costoso para el comprador evaluar y contestar a tal pretens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ás adelante, en el mismo párrafo, el autor agre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6205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estaría obligado a rembolsar al comprador por cualquier gasto o pérdida causada por la pretensión.  Pero si el vendedor resuelve el problema rápidamente y con eficacia, el incumplimiento del vendedor podrá no resultar esencial y el comprador no podrá resolver el contrato.  Pero la pretensión de un tercero  puede causar un detrimento tal al comprador que se autorizará la resolución y el tratamiento de  esta forma de subsanar tan drástica podrá estimular al vendedor para que lleve a cabo una acción efectiv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lo que se refiere  a las posibles pretensiones de terceros, basadas en propiedad industrial o intelectual, el artículo 42 dispone que el vendedor deberá entregar las mercaderías libres de tales derechos o pretensiones, siempre que conociera o no hubiera podido ignorar tales derechos en el momento de la celebración del contrato.  Agrega la norma una condición adicional que tales derechos o pretensiones deben estar reconocidos en ciertas legislaciones que el mismo artículo define con precis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Nº 2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5929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la materia el profesor Bernad Audit expresa lo siguient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el establecimiento del vendedor  y el del comprador, la mercadería corre diversos riesgos:  pérdida total o parcial, averías.  Naturalmente estos riesgos son tanto más graves cuanto más largo es el transporte y cuanto más modalidades diferentes incluye, como transferencias de transportes; es decir que estos riesgos son normalmente mayores en las ventas internacionales que en las ventas internas.  Al riesgo material se suman en las primeras ciertos riesgos políticos que impedirán a la mercadería llegar al comprador, tales como el embargo o la requisic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derecho, plantear la cuestión de los riesgos de la cosa, objeto del contrato, consiste en preguntarse  quién deberá soportar la consecuencia de su pérdida:  ¿Es el vendedor quién deberá, por ejemplo, expedir nuevas mercaderías si las primeras se pierden o indemnizar al comprador si está impedido de hacerlas llegar? ¿o es el comprador quién deberá pagar el precio de las mercaderías aun que no le hayan llegado?.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8000" y="765000"/>
            <a:ext cx="8931240" cy="644796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La Convención  consagra el principio universal de que los riesgos pasan del comprador al vendedor conjuntamente con la entrega de las mercaderías que en este caso, según se explicó, generalmente coincide con la transferencia de propiedad.</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l artículo 67, ya citado varias veces en esta obra, dispon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a:t>
            </a:r>
            <a:r>
              <a:rPr b="0" lang="es-ES" sz="1900" spc="-1" strike="noStrike">
                <a:solidFill>
                  <a:srgbClr val="ffff00"/>
                </a:solidFill>
                <a:latin typeface="Comic Sans MS"/>
              </a:rPr>
              <a:t>Cuando el contrato de compraventa implique el transporte de las mercaderías y el vendedor no esté obligado a entregarlas en un lugar determinado, el riesgo se transmitirá al comprador en el momento en que las mercaderías se pongan en poder del primer porteador para que las traslade al comprador conforme al contrato de compraventa”.</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Consecuente con dicho criterio, y siguiendo la misma lógica el artículo 66 agrega  qu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La pérdida o el deterioro de las mercaderías sobrevenidos después de la transmisión  del riesgo al comprador no liberarán a éste de su obligación de pagar el precio. </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1" action="ppaction://hlinksldjump"/>
              </a:rPr>
              <a:t>(*)</a:t>
            </a:r>
            <a:r>
              <a:rPr b="0" lang="es-CL" sz="1600" spc="-1" strike="noStrike">
                <a:solidFill>
                  <a:srgbClr val="ffff00"/>
                </a:solidFill>
                <a:latin typeface="Comic Sans MS"/>
              </a:rPr>
              <a:t> Bernard Audit.  Obra citada.  Página 101.</a:t>
            </a:r>
            <a:endParaRPr b="0" lang="en-US" sz="1600" spc="-1" strike="noStrike">
              <a:solidFill>
                <a:srgbClr val="000000"/>
              </a:solidFill>
              <a:latin typeface="Times New Roman"/>
            </a:endParaRPr>
          </a:p>
        </p:txBody>
      </p:sp>
      <p:sp>
        <p:nvSpPr>
          <p:cNvPr id="112"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8000" y="981000"/>
            <a:ext cx="8931240" cy="6205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supuesto, el comprador podrá defenderse sosteniendo que dicha pérdida o deterioro se  deba a un acto u omisión del vendedor.</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ste criterio de transferencia de los riesgos, conjuntamente con la entrega y la transmisión de la propiedad el profesor John Honnold agrega que:</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n los sistemas legales basados en el Acta de Venta de Mercaderías del Reino Unido (U.K. Sale of Goods Act), la premisa básica es que el riesgo sobre las mercaderías pasa cuando la propiedad sobre las mismas es transferida al comprador".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se ha visto más atrás, en general, la entrega de las mercaderías produce  también la transferencia del dominio, salvo el caso de Francia, en que el dominio se adquiere por parte del comprador desde el momento mismo de celebrar el contrato de  compraventa.</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Página 372.</a:t>
            </a:r>
            <a:endParaRPr b="0" lang="en-US" sz="1600" spc="-1" strike="noStrike">
              <a:solidFill>
                <a:srgbClr val="000000"/>
              </a:solidFill>
              <a:latin typeface="Times New Roman"/>
            </a:endParaRPr>
          </a:p>
        </p:txBody>
      </p:sp>
      <p:sp>
        <p:nvSpPr>
          <p:cNvPr id="115"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8000" y="981000"/>
            <a:ext cx="8931240" cy="617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De acuerdo con las normas de la Convención, los riesgos sobre la cosa vendida se  transfieren al comprador al momento de la entrega de las mercaderías.</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ste mismo criterio existe también en las normas INCOTERMS 2000, en todas sus distintas acepciones. Incluso, en el caso de la venta C.l.F., como se ha expresado. Dicha norma establece que el comprador deb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Asumir todos los riesgos que pueda correr la mercancía a partir del momento en que haya efectivamente pasado la borda del buque  en el puerto de embarque"</a:t>
            </a:r>
            <a:r>
              <a:rPr b="0" i="1" lang="es-ES" sz="1900" spc="-1" strike="noStrike">
                <a:solidFill>
                  <a:srgbClr val="ffff00"/>
                </a:solidFill>
                <a:latin typeface="Comic Sans MS"/>
              </a:rPr>
              <a:t>.</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Conviene hacer tres observaciones sobre la materia.</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n primer lugar, muchos comerciantes suelen creer que en las compras que ellos efectúen bajo la modalidad C.I.F. les corresponderá asumir el riesgo sólo en el momento  que reciban la mercadería en el puerto de destino. Como se ha visto, ese no es el principio  de aplicación universal que resulta de las normas transcritas, tanto de INCOTERMS como  de la Convención. </a:t>
            </a:r>
            <a:endParaRPr b="0" lang="en-US" sz="1900" spc="-1" strike="noStrike">
              <a:solidFill>
                <a:srgbClr val="000000"/>
              </a:solidFill>
              <a:latin typeface="Times New Roman"/>
            </a:endParaRPr>
          </a:p>
        </p:txBody>
      </p:sp>
      <p:sp>
        <p:nvSpPr>
          <p:cNvPr id="118"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8000" y="981000"/>
            <a:ext cx="8931240" cy="4057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egundo lugar,  este criterio de aplicación universal no es el mismo que contiene el Código Civil chileno, en que el comprador asume los riesgos de la cosa vendida desde  el momento en que se otorga válidamente el contrato. Cabe pensar en la significación  jurídica y económica que tendría la aplicación pura y simple de la norma chilena a un  contrato de compra de un bien determinado en el exterior. El importador chileno asumiría  todos los riesgos desde el momento de la compraventa.</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tercer lugar, de acuerdo con el principio de autonomía de la voluntad, las partes  pueden modificar los principios antedichos y convenir entre ellas el tiempo, lugar y manera en que se transferirán los riesgos del vendedor al comprador. </a:t>
            </a:r>
            <a:endParaRPr b="0" lang="en-US" sz="2000" spc="-1" strike="noStrike">
              <a:solidFill>
                <a:srgbClr val="000000"/>
              </a:solidFill>
              <a:latin typeface="Times New Roman"/>
            </a:endParaRPr>
          </a:p>
        </p:txBody>
      </p:sp>
      <p:sp>
        <p:nvSpPr>
          <p:cNvPr id="121"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900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te documento (por ejemplo, un conocimiento de embarque negociabl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b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brir las mercaderías del contrato.</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r fechado dentro del período convenido para el embarque.</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ermitir al comprador requerir la entrega de las mercaderías del transportista en el puerto de destino.</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ermitir al comprador vender las mercaderías en tránsito, transfiriendo dicho documento a otro comprador subsiguient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l respecto, el profesor John Honnold  expresa que al preparar el texto</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la Convención  surgió la siguiente pregunta:</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la norma legal se refiere a la entrega de  “mercaderías” ¿se </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iende que la ley se refiere también a la entrega efectuada mediante </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documentos que representan el título sobre las mercaderías?”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a:t>
            </a:r>
            <a:br>
              <a:rPr sz="2000"/>
            </a:b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Párrafo 219.  Traducción del autor de este libro.</a:t>
            </a:r>
            <a:endParaRPr b="0" lang="en-US" sz="1600" spc="-1" strike="noStrike">
              <a:solidFill>
                <a:srgbClr val="000000"/>
              </a:solidFill>
              <a:latin typeface="Times New Roman"/>
            </a:endParaRPr>
          </a:p>
        </p:txBody>
      </p:sp>
      <p:sp>
        <p:nvSpPr>
          <p:cNvPr id="51"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62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ice el profesor Bernard Audit sobre el mismo te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 menudo, los documentos son representativos de la propiedad de la mercadería (resguardo de muelle o de entrepuerto, conocimientos)” </a:t>
            </a:r>
            <a:r>
              <a:rPr b="0" lang="es-ES_tradnl" sz="2000" spc="-1" strike="noStrike" u="sng">
                <a:solidFill>
                  <a:srgbClr val="ccccff"/>
                </a:solidFill>
                <a:uFillTx/>
                <a:latin typeface="Comic Sans MS"/>
                <a:hlinkClick r:id="rId1" action="ppaction://hlinksldjump"/>
              </a:rPr>
              <a:t>(*)</a:t>
            </a:r>
            <a:r>
              <a:rPr b="0" lang="es-ES_tradnl"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autores Alejandro Miguel Garro y Alberto Luis Zuppi agreg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a:t>
            </a:r>
            <a:r>
              <a:rPr b="0" lang="es-ES_tradnl" sz="1900" spc="-1" strike="noStrike">
                <a:solidFill>
                  <a:srgbClr val="ffff00"/>
                </a:solidFill>
                <a:latin typeface="Comic Sans MS"/>
              </a:rPr>
              <a:t>La Convención empero, no explica a qué tipo de documentos se refieren los arts. 30 y 34.  Es probable que se refieran a los títulos representativos de las mercaderías, tales como la carta de porte o el conocimiento de embarque, que se deben encontrar en poder del comprador para que éste pueda ejercer sus derechos sobre las mercaderías transportadas.  Pero también existe otro tipo de documentos que, sin ser esenciales para que el comprador ejerza sus derechos sobre las mercaderías,  le permitan disponer de la cosa en forma apropiada.  Tal es el caso, por ejemplo, de un manual de instrucciones que contiene una descripción técnica de un aparato o equipo electrónico”. </a:t>
            </a:r>
            <a:r>
              <a:rPr b="0" lang="es-ES_tradnl" sz="1900" spc="-1" strike="noStrike" u="sng">
                <a:solidFill>
                  <a:srgbClr val="ccccff"/>
                </a:solidFill>
                <a:uFillTx/>
                <a:latin typeface="Comic Sans MS"/>
                <a:hlinkClick r:id="rId2" action="ppaction://hlinksldjump"/>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3" action="ppaction://hlinksldjump"/>
              </a:rPr>
              <a:t>(*)</a:t>
            </a:r>
            <a:r>
              <a:rPr b="0" lang="es-CL" sz="1600" spc="-1" strike="noStrike">
                <a:solidFill>
                  <a:srgbClr val="ffff00"/>
                </a:solidFill>
                <a:latin typeface="Comic Sans MS"/>
              </a:rPr>
              <a:t> Bernard Audit.  Obra citada. Párrafo 86.  Pág. 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Alejandro Miguel Garro.  Alberto Luis Zuppi.  Compraventa Internacional de Mercaderías.  </a:t>
            </a:r>
            <a:r>
              <a:rPr b="0" lang="en-US" sz="1600" spc="-1" strike="noStrike">
                <a:solidFill>
                  <a:srgbClr val="ffff00"/>
                </a:solidFill>
                <a:latin typeface="Comic Sans MS"/>
              </a:rPr>
              <a:t>1990.  Página 154. </a:t>
            </a:r>
            <a:endParaRPr b="0" lang="en-US" sz="1600" spc="-1" strike="noStrike">
              <a:solidFill>
                <a:srgbClr val="000000"/>
              </a:solidFill>
              <a:latin typeface="Times New Roman"/>
            </a:endParaRPr>
          </a:p>
        </p:txBody>
      </p:sp>
      <p:sp>
        <p:nvSpPr>
          <p:cNvPr id="54"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56"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4760" y="787320"/>
            <a:ext cx="8931240" cy="644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obre este mismo concepto, el profesor Peter Schlechtriem agreg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a:t>
            </a:r>
            <a:r>
              <a:rPr b="0" lang="es-ES_tradnl" sz="1900" spc="-1" strike="noStrike">
                <a:solidFill>
                  <a:srgbClr val="ffff00"/>
                </a:solidFill>
                <a:latin typeface="Comic Sans MS"/>
              </a:rPr>
              <a:t>Los documentos juegan un rol importante en la venta de mercaderías.  Si puedo escoger una clasificación simplística, tenemos, por una parte, documentos que representan mercaderías y que, frecuentemente, son para las partes el verdadero objeto para la venta; ellas están negociando documentos y no mercaderías.  Por otro lado, hay documentos que no tienen importancia en lo que se refiere al poder de disposición de las mercaderías o a su valor, pero que son relevantes por su utilidad (certificado de origen, certificado de análisis, instrucciones de manejo y otros).” </a:t>
            </a:r>
            <a:r>
              <a:rPr b="0" lang="es-ES_tradnl" sz="1900" spc="-1" strike="noStrike" u="sng">
                <a:solidFill>
                  <a:srgbClr val="ccccff"/>
                </a:solidFill>
                <a:uFillTx/>
                <a:latin typeface="Comic Sans MS"/>
                <a:hlinkClick r:id="rId1" action="ppaction://hlinksldjump"/>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Podría, por lo tanto, aparentemente concluirse que el  vendedor cumple con entregar la cosa vendida en el momento en que entrega también aquellos documentos que son representativos del título de propiedad sobre las mercaderías, como por ejemplo el conocimiento de embarque.  En consecuencia, se podría decir, que si no hay entrega de documentos representativos del título sobre las mercaderías, en ese caso no hay entrega de las mercaderías y el vendedor se encuentra en situación de incumplimiento. </a:t>
            </a:r>
            <a:br>
              <a:rPr sz="1900"/>
            </a:b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Peter Schlechtriem en International Sales.  Parker School of Foreign and Comparative Law.  Columbia University.  Párrafo 6.02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a opinión las conclusiones anteriores son erróneas.  Hay qu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r que estamos analizando los efectos de un contrato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lativamente sencillo y simple, que no requiere mayor solemnidad en su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ormación, como es el contrato de compraventa internacional d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ercadería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trato de compraventa internacional da origen a una compleja seri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tuaciones y de contratos, que se vinculan entre sí, pero cada uno d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s tiene también una vida propia y una reglamentación específica.  Nos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ferimos en particula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transporte marítimo.</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seguro de comercio exterio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crédito documentario para el pago del valor de las mercaderí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 bien es cierto los documentos del contrato de compraventa pueden referirse o vincularse con los documentos que se generan en los convenios y operaciones recién nombrados, ello no debe significar confusiones respecto de la interpretación del contrato de compraventa internacional en sí mismo y de los efectos que éste produce entre vendedor y comprado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lacionando la obligación de entrega de los documentos, que compete al vendedor, con su obligación principal, cual es la entrega de las mercaderías, nos remitimos a lo expresado en que el vendedor, a menos que estuviere obligado a entregar las mercaderías en otro lugar determinado, cumple con su obligación de entrega de las mercadería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de compraventa implique el transporte de las mercaderías, en ponerlas en poder del primer porteador para que las traslade al comprad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obligación de entrega del vendedor es un acto físico, que se basta por sí mismo, y que significa que cuando, según el contrato, se requiere transporte, el vendedor pone las mercaderías en poder del primer porteador para que las traslade al comprador.  Es en ese momento, en que se produce el cumplimiento de su obligación de entrega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e mismo acto de entrega, produce también otro efecto.  Como se verá más adelante al analizar el tema de la transmisión de los riesgos, la Convención, en forma coincidente con el principio anterior, dispone en su artículo 67 lo siguient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de compraventa implique el transporte de las mercaderías y el vendedor no esté obligado a entregarlas en un lugar determinado, el riesgo se transmitirá al comprador en el momento en que las mercaderías se pongan en poder del primer porteador para que las traslade al comprador conforme al contrato de compraven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esta manera, tanto la obligación principal del vendedor, cual es la entrega de la mercadería, como la transmisión de los riesgos al comprador, ocurren, de acuerdo con las normas citadas en la Convención,  en el mismo instant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el momento en que las mercaderías se pongan en poder del primer porteador para que las traslade al comprador conforme al contrato de compraventa”.  El acto en que el vendedor pone las mercaderías a disposición del primer porteador, para que las traslade al comprador produce un efecto simultáneo.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primer lugar, significa el cumplimiento de su obligación de entrega de las mercaderías.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segundo lugar, transmite los riesgos sobre la cosa vendida al compr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6:02Z</dcterms:modified>
  <cp:revision>80</cp:revision>
  <dc:subject/>
  <dc:title>PowerPoint Presentation</dc:title>
</cp:coreProperties>
</file>