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817E5-28B9-4BFB-B778-4DBA9BB69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18D9F-4708-464E-A9A8-3E3367137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BD25B-2D1E-4DC2-878F-F41790491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9A764-DCDA-42AB-A6BE-29FF5A1E6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450F1-A1D4-400A-AC83-E5C2D7CB1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1A336-790C-45AF-9F59-48E8C5B47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E911E-2854-4A0B-B335-DB97DCA7B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3695C-C877-4A65-BC9F-67B2BEA96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C9352-124C-4305-842F-02595F572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44C94-086D-407D-8ABA-95161203E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B61E1-4868-42C4-9320-5C4134CEA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6FD62-19E0-4C69-B53E-615F4B4EC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5FF7-C4FF-482A-A622-F374CB432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68280" y="4941720"/>
            <a:ext cx="83869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NACIONES UNID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SOBRE LOS CONTRATOS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MPRAVENTA INTERNACIONAL DE MERCADERI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CONVENCIÓN DE VIENA DE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2760" y="1282680"/>
            <a:ext cx="8931240" cy="453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Chile al igual que en la inmensa mayoría de los países del mundo occidental, tiene plena vigencia el principio llamado "autonomía de la voluntad".  </a:t>
            </a:r>
            <a:r>
              <a:rPr b="0" lang="es-ES" sz="2400" spc="-1" strike="noStrike" u="sng">
                <a:solidFill>
                  <a:srgbClr val="ccccff"/>
                </a:solidFill>
                <a:uFillTx/>
                <a:latin typeface="Comic Sans MS"/>
                <a:hlinkClick r:id="rId1" action="ppaction://hlinksldjump"/>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ste principio tiene algunas limitaciones derivadas de normas de orden público por lo que las partes no tienen, en este caso, una libertad absolut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l caso de la compraventa el artículo 1887 del Código Civil establece que "pueden agregarse al contrato de venta cualesquiera otros pactos accesorios lícitos; y se regirán por las reglas generales de los contra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7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12760" y="1282680"/>
            <a:ext cx="893124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Por lo tanto, como lo señala el profesor Rafael Eyzaguirre, es perfectamente lícito que las partes, siendo una de ellas chilena, pueda someter las diferencias con la otra, a un sistema de arbitraje internacional.  </a:t>
            </a:r>
            <a:r>
              <a:rPr b="0" lang="es-ES" sz="2400" spc="-1" strike="noStrike" u="sng">
                <a:solidFill>
                  <a:srgbClr val="ccccff"/>
                </a:solidFill>
                <a:uFillTx/>
                <a:latin typeface="Comic Sans MS"/>
                <a:hlinkClick r:id="rId1" action="ppaction://hlinksldjump"/>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Puede decirse que la estipulación de estas normas es facultativa para las partes, pudiendo acogerse a ellas o no.   En el caso en que se decida adoptar dicha normativa, tal estipulación es válida en la legislación chilena. Así, por ejemplo, el artículo 113 del Código de Comercio establece, en síntesis, que los actos concernientes a la ejecución de los contratos celebrados en el extranjero y que deban cumplirse en Chile se arreglarán a las leyes chilenas, salvo que los contratantes hubieran acordado otra cos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7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2760" y="1282680"/>
            <a:ext cx="89312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Por otro lado, el Decreto Ley Nº 2.349 publicado en el Diario Oficial de 28 de octubre de 1978, que establece normas sobre contratos internacionales para el sector público, reconoce una práctica generalizada en el país en el sentido que en tales contratos se pacten cláusulas especiales en cuya virtud, entre otras, se someten a una legislación extranjera, se pacte arbitraje internacional y varias de naturaleza.  El referido Decreto Ley, en sus considerandos, señala que dentro del sistema jurídico chileno tales estipulaciones son lícitas.  El propio legislador ha reconocido, pues, la validez de estas cláusul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261720" y="304920"/>
            <a:ext cx="804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3. Aplicación en Chile de las normas internacionales</a:t>
            </a:r>
            <a:endParaRPr b="0" lang="en-US" sz="2400" spc="-1" strike="noStrike">
              <a:solidFill>
                <a:srgbClr val="000000"/>
              </a:solidFill>
              <a:latin typeface="Times New Roman"/>
            </a:endParaRPr>
          </a:p>
        </p:txBody>
      </p:sp>
      <p:sp>
        <p:nvSpPr>
          <p:cNvPr id="8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12760" y="1282680"/>
            <a:ext cx="8931240" cy="50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i bien es cierto que la inclusión de estas cláusulas es legítima y es válida para los contratantes domiciliados en Chile, es recomendable, antes de hacerlo, un análisis muy cuidadoso de cada contrato en particular y de las cláusulas que se pretende aplicar. Existen ciertas "áreas críticas" en donde la legislación comercial internacional contempla soluciones distintas de aquellas vigentes en la legislación chilena.  Por lo mismo, una aplicación inadvertida de estas normas internacionales, en vez de contribuir a clarificar una situación, puede ser fuente de conflictos importantes con las contrapartes del ext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____________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infra párrafo 15 "El Principio de la Autonomía de la Volun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Rafael Eyzaguirre E.  "El Arbitraje Comercial en la Legislación Chilena y su Regulación Internacional".  Editorial Jurídica de Chile. 198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8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12760" y="1282680"/>
            <a:ext cx="89312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 I.</a:t>
            </a:r>
            <a:r>
              <a:rPr b="0" lang="es-ES" sz="2000" spc="-1" strike="noStrike">
                <a:solidFill>
                  <a:srgbClr val="ffff00"/>
                </a:solidFill>
                <a:latin typeface="Comic Sans MS"/>
              </a:rPr>
              <a:t>	</a:t>
            </a:r>
            <a:r>
              <a:rPr b="0" lang="es-ES" sz="2000" spc="-1" strike="noStrike">
                <a:solidFill>
                  <a:srgbClr val="ffff00"/>
                </a:solidFill>
                <a:latin typeface="Comic Sans MS"/>
              </a:rPr>
              <a:t>AMBITO DE APLICACIÓN Y DISPOSICIONES GENERALES.</a:t>
            </a: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I. </a:t>
            </a:r>
            <a:r>
              <a:rPr b="0" lang="es-ES" sz="2000" spc="-1" strike="noStrike">
                <a:solidFill>
                  <a:srgbClr val="ffff00"/>
                </a:solidFill>
                <a:latin typeface="Comic Sans MS"/>
              </a:rPr>
              <a:t>	</a:t>
            </a:r>
            <a:r>
              <a:rPr b="0" lang="es-ES" sz="2000" spc="-1" strike="noStrike">
                <a:solidFill>
                  <a:srgbClr val="ffff00"/>
                </a:solidFill>
                <a:latin typeface="Comic Sans MS"/>
              </a:rPr>
              <a:t>AMBITO DE APLICACIÓN.  </a:t>
            </a:r>
            <a:r>
              <a:rPr b="0" lang="en-US" sz="2000" spc="-1" strike="noStrike">
                <a:solidFill>
                  <a:srgbClr val="ffff00"/>
                </a:solidFill>
                <a:latin typeface="Comic Sans MS"/>
              </a:rPr>
              <a:t>(Art. 1 a Art. 6)</a:t>
            </a: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CAPITULO II. </a:t>
            </a:r>
            <a:r>
              <a:rPr b="0" lang="en-US" sz="2000" spc="-1" strike="noStrike">
                <a:solidFill>
                  <a:srgbClr val="ffff00"/>
                </a:solidFill>
                <a:latin typeface="Comic Sans MS"/>
              </a:rPr>
              <a:t>	</a:t>
            </a:r>
            <a:r>
              <a:rPr b="0" lang="es-ES" sz="2000" spc="-1" strike="noStrike">
                <a:solidFill>
                  <a:srgbClr val="ffff00"/>
                </a:solidFill>
                <a:latin typeface="Comic Sans MS"/>
              </a:rPr>
              <a:t>DISPOSICIONES GENERALES.  (Art. 7 a Art. 13)</a:t>
            </a: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346040"/>
                <a:tab algn="l" pos="25146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 II.</a:t>
            </a:r>
            <a:r>
              <a:rPr b="0" lang="es-ES" sz="2000" spc="-1" strike="noStrike">
                <a:solidFill>
                  <a:srgbClr val="ffff00"/>
                </a:solidFill>
                <a:latin typeface="Comic Sans MS"/>
              </a:rPr>
              <a:t>	</a:t>
            </a:r>
            <a:r>
              <a:rPr b="0" lang="es-ES" sz="2000" spc="-1" strike="noStrike">
                <a:solidFill>
                  <a:srgbClr val="ffff00"/>
                </a:solidFill>
                <a:latin typeface="Comic Sans MS"/>
              </a:rPr>
              <a:t>FORMACIÓN DEL CONTRATO.  </a:t>
            </a:r>
            <a:r>
              <a:rPr b="0" lang="en-US" sz="2000" spc="-1" strike="noStrike">
                <a:solidFill>
                  <a:srgbClr val="ffff00"/>
                </a:solidFill>
                <a:latin typeface="Comic Sans MS"/>
              </a:rPr>
              <a:t>(Art. 14 a Art. 2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2760" y="1282680"/>
            <a:ext cx="893124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ARTE III.</a:t>
            </a:r>
            <a:r>
              <a:rPr b="0" lang="en-US" sz="2000" spc="-1" strike="noStrike">
                <a:solidFill>
                  <a:srgbClr val="ffff00"/>
                </a:solidFill>
                <a:latin typeface="Comic Sans MS"/>
              </a:rPr>
              <a:t>	</a:t>
            </a:r>
            <a:r>
              <a:rPr b="0" lang="es-ES" sz="2000" spc="-1" strike="noStrike">
                <a:solidFill>
                  <a:srgbClr val="ffff00"/>
                </a:solidFill>
                <a:latin typeface="Comic Sans MS"/>
              </a:rPr>
              <a:t>COMPRAVENTA DE MERCADERIAS.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I.</a:t>
            </a:r>
            <a:r>
              <a:rPr b="0" lang="es-ES" sz="2000" spc="-1" strike="noStrike">
                <a:solidFill>
                  <a:srgbClr val="ffff00"/>
                </a:solidFill>
                <a:latin typeface="Comic Sans MS"/>
              </a:rPr>
              <a:t>	</a:t>
            </a:r>
            <a:r>
              <a:rPr b="0" lang="es-ES" sz="2000" spc="-1" strike="noStrike">
                <a:solidFill>
                  <a:srgbClr val="ffff00"/>
                </a:solidFill>
                <a:latin typeface="Comic Sans MS"/>
              </a:rPr>
              <a:t>DISPOSICIONES GENERALES.  (Art. 25 a Art. 29)</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II. </a:t>
            </a:r>
            <a:r>
              <a:rPr b="0" lang="es-ES" sz="2000" spc="-1" strike="noStrike">
                <a:solidFill>
                  <a:srgbClr val="ffff00"/>
                </a:solidFill>
                <a:latin typeface="Comic Sans MS"/>
              </a:rPr>
              <a:t>	</a:t>
            </a:r>
            <a:r>
              <a:rPr b="0" lang="es-ES" sz="2000" spc="-1" strike="noStrike">
                <a:solidFill>
                  <a:srgbClr val="ffff00"/>
                </a:solidFill>
                <a:latin typeface="Comic Sans MS"/>
              </a:rPr>
              <a:t>OBLIGACIONES DEL VENDEDOR.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a:t>
            </a:r>
            <a:r>
              <a:rPr b="0" lang="es-ES" sz="2000" spc="-1" strike="noStrike">
                <a:solidFill>
                  <a:srgbClr val="ffff00"/>
                </a:solidFill>
                <a:latin typeface="Comic Sans MS"/>
              </a:rPr>
              <a:t>	</a:t>
            </a:r>
            <a:r>
              <a:rPr b="0" lang="es-ES" sz="2000" spc="-1" strike="noStrike">
                <a:solidFill>
                  <a:srgbClr val="ffff00"/>
                </a:solidFill>
                <a:latin typeface="Comic Sans MS"/>
              </a:rPr>
              <a:t>ENTREGA DE LAS MERCADERIAS Y DE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LOS DOCUMENTOS.  </a:t>
            </a:r>
            <a:r>
              <a:rPr b="0" lang="en-US" sz="2000" spc="-1" strike="noStrike">
                <a:solidFill>
                  <a:srgbClr val="ffff00"/>
                </a:solidFill>
                <a:latin typeface="Comic Sans MS"/>
              </a:rPr>
              <a:t>(Art. 31 a Art. 34).</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II.</a:t>
            </a:r>
            <a:r>
              <a:rPr b="0" lang="en-US" sz="2000" spc="-1" strike="noStrike">
                <a:solidFill>
                  <a:srgbClr val="ffff00"/>
                </a:solidFill>
                <a:latin typeface="Comic Sans MS"/>
              </a:rPr>
              <a:t>	</a:t>
            </a:r>
            <a:r>
              <a:rPr b="0" lang="es-ES" sz="2000" spc="-1" strike="noStrike">
                <a:solidFill>
                  <a:srgbClr val="ffff00"/>
                </a:solidFill>
                <a:latin typeface="Comic Sans MS"/>
              </a:rPr>
              <a:t>CONFORMIDAD DE LAS MERCADERIAS Y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PRETENSIONES DE TERCEROS.  (Art. 35 a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Art. 44).</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II.</a:t>
            </a:r>
            <a:r>
              <a:rPr b="0" lang="es-ES" sz="2000" spc="-1" strike="noStrike">
                <a:solidFill>
                  <a:srgbClr val="ffff00"/>
                </a:solidFill>
                <a:latin typeface="Comic Sans MS"/>
              </a:rPr>
              <a:t>	</a:t>
            </a:r>
            <a:r>
              <a:rPr b="0" lang="es-ES" sz="2000" spc="-1" strike="noStrike">
                <a:solidFill>
                  <a:srgbClr val="ffff00"/>
                </a:solidFill>
                <a:latin typeface="Comic Sans MS"/>
              </a:rPr>
              <a:t>DERECHOS Y ACCIONES EN CASO DE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INCUMPLIMIENTO DEL CONTRATO POR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EL VENDEDOR.  </a:t>
            </a:r>
            <a:r>
              <a:rPr b="0" lang="en-US" sz="2000" spc="-1" strike="noStrike">
                <a:solidFill>
                  <a:srgbClr val="ffff00"/>
                </a:solidFill>
                <a:latin typeface="Comic Sans MS"/>
              </a:rPr>
              <a:t>(Art. 45 a Art. 5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8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12760" y="1282680"/>
            <a:ext cx="893124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CAPITULO III.</a:t>
            </a:r>
            <a:r>
              <a:rPr b="0" lang="en-US" sz="2000" spc="-1" strike="noStrike">
                <a:solidFill>
                  <a:srgbClr val="ffff00"/>
                </a:solidFill>
                <a:latin typeface="Comic Sans MS"/>
              </a:rPr>
              <a:t>	</a:t>
            </a:r>
            <a:r>
              <a:rPr b="0" lang="es-ES" sz="2000" spc="-1" strike="noStrike">
                <a:solidFill>
                  <a:srgbClr val="ffff00"/>
                </a:solidFill>
                <a:latin typeface="Comic Sans MS"/>
              </a:rPr>
              <a:t>OBLIGACIONES DEL COMPRADOR.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ÓN I.</a:t>
            </a:r>
            <a:r>
              <a:rPr b="0" lang="es-ES" sz="2000" spc="-1" strike="noStrike">
                <a:solidFill>
                  <a:srgbClr val="ffff00"/>
                </a:solidFill>
                <a:latin typeface="Comic Sans MS"/>
              </a:rPr>
              <a:t>	</a:t>
            </a:r>
            <a:r>
              <a:rPr b="0" lang="es-ES" sz="2000" spc="-1" strike="noStrike">
                <a:solidFill>
                  <a:srgbClr val="ffff00"/>
                </a:solidFill>
                <a:latin typeface="Comic Sans MS"/>
              </a:rPr>
              <a:t>PAGO DEL PRECIO.  </a:t>
            </a:r>
            <a:r>
              <a:rPr b="0" lang="en-US" sz="2000" spc="-1" strike="noStrike">
                <a:solidFill>
                  <a:srgbClr val="ffff00"/>
                </a:solidFill>
                <a:latin typeface="Comic Sans MS"/>
              </a:rPr>
              <a:t>(Art. 54 a Art. 59)</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ÓN II.</a:t>
            </a:r>
            <a:r>
              <a:rPr b="0" lang="en-US" sz="2000" spc="-1" strike="noStrike">
                <a:solidFill>
                  <a:srgbClr val="ffff00"/>
                </a:solidFill>
                <a:latin typeface="Comic Sans MS"/>
              </a:rPr>
              <a:t>	</a:t>
            </a:r>
            <a:r>
              <a:rPr b="0" lang="es-ES" sz="2000" spc="-1" strike="noStrike">
                <a:solidFill>
                  <a:srgbClr val="ffff00"/>
                </a:solidFill>
                <a:latin typeface="Comic Sans MS"/>
              </a:rPr>
              <a:t>RECEPCIÓN.  (Art. 60)</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II.</a:t>
            </a:r>
            <a:r>
              <a:rPr b="0" lang="es-ES" sz="2000" spc="-1" strike="noStrike">
                <a:solidFill>
                  <a:srgbClr val="ffff00"/>
                </a:solidFill>
                <a:latin typeface="Comic Sans MS"/>
              </a:rPr>
              <a:t>	</a:t>
            </a:r>
            <a:r>
              <a:rPr b="0" lang="es-ES" sz="2000" spc="-1" strike="noStrike">
                <a:solidFill>
                  <a:srgbClr val="ffff00"/>
                </a:solidFill>
                <a:latin typeface="Comic Sans MS"/>
              </a:rPr>
              <a:t>DERECHOS Y ACCIONES EN CASO DE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INCUMPLIMIENTO DEL CONTRATO POR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EL COMPRADOR.  </a:t>
            </a:r>
            <a:r>
              <a:rPr b="0" lang="en-US" sz="2000" spc="-1" strike="noStrike">
                <a:solidFill>
                  <a:srgbClr val="ffff00"/>
                </a:solidFill>
                <a:latin typeface="Comic Sans MS"/>
              </a:rPr>
              <a:t>(Art. 61 a Art. 65)</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CAPITULO IV.</a:t>
            </a:r>
            <a:r>
              <a:rPr b="0" lang="en-US" sz="2000" spc="-1" strike="noStrike">
                <a:solidFill>
                  <a:srgbClr val="ffff00"/>
                </a:solidFill>
                <a:latin typeface="Comic Sans MS"/>
              </a:rPr>
              <a:t>	</a:t>
            </a:r>
            <a:r>
              <a:rPr b="0" lang="es-ES" sz="2000" spc="-1" strike="noStrike">
                <a:solidFill>
                  <a:srgbClr val="ffff00"/>
                </a:solidFill>
                <a:latin typeface="Comic Sans MS"/>
              </a:rPr>
              <a:t>TRANSMISIÓN DEL RIEGO.  (Art. 66 a Art. 7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9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12760" y="1282680"/>
            <a:ext cx="893124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CAPITULO V.</a:t>
            </a:r>
            <a:r>
              <a:rPr b="0" lang="es-ES" sz="2000" spc="-1" strike="noStrike">
                <a:solidFill>
                  <a:srgbClr val="ffff00"/>
                </a:solidFill>
                <a:latin typeface="Comic Sans MS"/>
              </a:rPr>
              <a:t>	</a:t>
            </a:r>
            <a:r>
              <a:rPr b="0" lang="es-ES" sz="2000" spc="-1" strike="noStrike">
                <a:solidFill>
                  <a:srgbClr val="ffff00"/>
                </a:solidFill>
                <a:latin typeface="Comic Sans MS"/>
              </a:rPr>
              <a:t>DISPOSICIONES COMUNES A LAS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OBLIGACIONES DEL VENDEDOR Y DEL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COMPRADOR.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ÓN I.</a:t>
            </a:r>
            <a:r>
              <a:rPr b="0" lang="es-ES" sz="2000" spc="-1" strike="noStrike">
                <a:solidFill>
                  <a:srgbClr val="ffff00"/>
                </a:solidFill>
                <a:latin typeface="Comic Sans MS"/>
              </a:rPr>
              <a:t>	</a:t>
            </a:r>
            <a:r>
              <a:rPr b="0" lang="es-ES" sz="2000" spc="-1" strike="noStrike">
                <a:solidFill>
                  <a:srgbClr val="ffff00"/>
                </a:solidFill>
                <a:latin typeface="Comic Sans MS"/>
              </a:rPr>
              <a:t>INCUMPLIMIENTO PREVISIBLE Y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CONTRATOS CON ENTREGAS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UCESIVAS.  </a:t>
            </a:r>
            <a:r>
              <a:rPr b="0" lang="en-US" sz="2000" spc="-1" strike="noStrike">
                <a:solidFill>
                  <a:srgbClr val="ffff00"/>
                </a:solidFill>
                <a:latin typeface="Comic Sans MS"/>
              </a:rPr>
              <a:t>(Art. 71 a Art. 73)</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II.</a:t>
            </a:r>
            <a:r>
              <a:rPr b="0" lang="en-US" sz="2000" spc="-1" strike="noStrike">
                <a:solidFill>
                  <a:srgbClr val="ffff00"/>
                </a:solidFill>
                <a:latin typeface="Comic Sans MS"/>
              </a:rPr>
              <a:t>	</a:t>
            </a:r>
            <a:r>
              <a:rPr b="0" lang="es-ES" sz="2000" spc="-1" strike="noStrike">
                <a:solidFill>
                  <a:srgbClr val="ffff00"/>
                </a:solidFill>
                <a:latin typeface="Comic Sans MS"/>
              </a:rPr>
              <a:t>INDEMNIZACIÓN POR DAÑOS Y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PERJUICIOS.  </a:t>
            </a:r>
            <a:r>
              <a:rPr b="0" lang="en-US" sz="2000" spc="-1" strike="noStrike">
                <a:solidFill>
                  <a:srgbClr val="ffff00"/>
                </a:solidFill>
                <a:latin typeface="Comic Sans MS"/>
              </a:rPr>
              <a:t>(Art. 74 a Art. 77)</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III.</a:t>
            </a:r>
            <a:r>
              <a:rPr b="0" lang="en-US" sz="2000" spc="-1" strike="noStrike">
                <a:solidFill>
                  <a:srgbClr val="ffff00"/>
                </a:solidFill>
                <a:latin typeface="Comic Sans MS"/>
              </a:rPr>
              <a:t>	</a:t>
            </a:r>
            <a:r>
              <a:rPr b="0" lang="es-ES" sz="2000" spc="-1" strike="noStrike">
                <a:solidFill>
                  <a:srgbClr val="ffff00"/>
                </a:solidFill>
                <a:latin typeface="Comic Sans MS"/>
              </a:rPr>
              <a:t>INTERESES.  (Art. 7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358920" y="304920"/>
            <a:ext cx="48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4. Estructura de la Convención.</a:t>
            </a:r>
            <a:endParaRPr b="0" lang="en-US" sz="2400" spc="-1" strike="noStrike">
              <a:solidFill>
                <a:srgbClr val="000000"/>
              </a:solidFill>
              <a:latin typeface="Times New Roman"/>
            </a:endParaRPr>
          </a:p>
        </p:txBody>
      </p:sp>
      <p:sp>
        <p:nvSpPr>
          <p:cNvPr id="9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12760" y="1282680"/>
            <a:ext cx="8931240" cy="314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IV.</a:t>
            </a:r>
            <a:r>
              <a:rPr b="0" lang="es-ES" sz="2000" spc="-1" strike="noStrike">
                <a:solidFill>
                  <a:srgbClr val="ffff00"/>
                </a:solidFill>
                <a:latin typeface="Comic Sans MS"/>
              </a:rPr>
              <a:t>	</a:t>
            </a:r>
            <a:r>
              <a:rPr b="0" lang="es-ES" sz="2000" spc="-1" strike="noStrike">
                <a:solidFill>
                  <a:srgbClr val="ffff00"/>
                </a:solidFill>
                <a:latin typeface="Comic Sans MS"/>
              </a:rPr>
              <a:t>EXONERACIONES. </a:t>
            </a:r>
            <a:r>
              <a:rPr b="0" lang="en-US" sz="2000" spc="-1" strike="noStrike">
                <a:solidFill>
                  <a:srgbClr val="ffff00"/>
                </a:solidFill>
                <a:latin typeface="Comic Sans MS"/>
              </a:rPr>
              <a:t>(Art. 79 y Art. 80)</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	</a:t>
            </a:r>
            <a:r>
              <a:rPr b="0" lang="en-US" sz="2000" spc="-1" strike="noStrike">
                <a:solidFill>
                  <a:srgbClr val="ffff00"/>
                </a:solidFill>
                <a:latin typeface="Comic Sans MS"/>
              </a:rPr>
              <a:t>SECCION V.</a:t>
            </a:r>
            <a:r>
              <a:rPr b="0" lang="en-US" sz="2000" spc="-1" strike="noStrike">
                <a:solidFill>
                  <a:srgbClr val="ffff00"/>
                </a:solidFill>
                <a:latin typeface="Comic Sans MS"/>
              </a:rPr>
              <a:t>	</a:t>
            </a:r>
            <a:r>
              <a:rPr b="0" lang="es-ES" sz="2000" spc="-1" strike="noStrike">
                <a:solidFill>
                  <a:srgbClr val="ffff00"/>
                </a:solidFill>
                <a:latin typeface="Comic Sans MS"/>
              </a:rPr>
              <a:t>EFECTOS DE LA RESOLUCIÓN.  (Art. 81 a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Art.  84)</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SECCION VI.</a:t>
            </a:r>
            <a:r>
              <a:rPr b="0" lang="es-ES" sz="2000" spc="-1" strike="noStrike">
                <a:solidFill>
                  <a:srgbClr val="ffff00"/>
                </a:solidFill>
                <a:latin typeface="Comic Sans MS"/>
              </a:rPr>
              <a:t>	</a:t>
            </a:r>
            <a:r>
              <a:rPr b="0" lang="es-ES" sz="2000" spc="-1" strike="noStrike">
                <a:solidFill>
                  <a:srgbClr val="ffff00"/>
                </a:solidFill>
                <a:latin typeface="Comic Sans MS"/>
              </a:rPr>
              <a:t>CONSERVACIÓN DE LAS MERCADERIAS.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s-ES" sz="2000" spc="-1" strike="noStrike">
                <a:solidFill>
                  <a:srgbClr val="ffff00"/>
                </a:solidFill>
                <a:latin typeface="Comic Sans MS"/>
              </a:rPr>
              <a:t>	</a:t>
            </a:r>
            <a:r>
              <a:rPr b="0" lang="en-US" sz="2000" spc="-1" strike="noStrike">
                <a:solidFill>
                  <a:srgbClr val="ffff00"/>
                </a:solidFill>
                <a:latin typeface="Comic Sans MS"/>
              </a:rPr>
              <a:t>(Art. 85 a Art. 88).</a:t>
            </a: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1612800"/>
                <a:tab algn="l" pos="2514600"/>
                <a:tab algn="l" pos="340344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r>
              <a:rPr b="0" lang="en-US" sz="2000" spc="-1" strike="noStrike">
                <a:solidFill>
                  <a:srgbClr val="ffff00"/>
                </a:solidFill>
                <a:latin typeface="Comic Sans MS"/>
              </a:rPr>
              <a:t>PARTE IV. </a:t>
            </a:r>
            <a:r>
              <a:rPr b="0" lang="es-ES" sz="2000" spc="-1" strike="noStrike">
                <a:solidFill>
                  <a:srgbClr val="ffff00"/>
                </a:solidFill>
                <a:latin typeface="Comic Sans MS"/>
              </a:rPr>
              <a:t>DISPOSICIONES FINALES.  (Art. 89 a Art. 1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373320" y="304920"/>
            <a:ext cx="631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1. La necesidad de negociar y comerciar.</a:t>
            </a:r>
            <a:endParaRPr b="0" lang="en-US" sz="2400" spc="-1" strike="noStrike">
              <a:solidFill>
                <a:srgbClr val="000000"/>
              </a:solidFill>
              <a:latin typeface="Times New Roman"/>
            </a:endParaRPr>
          </a:p>
        </p:txBody>
      </p:sp>
      <p:sp>
        <p:nvSpPr>
          <p:cNvPr id="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12760" y="1282680"/>
            <a:ext cx="89312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Los comerciantes domiciliados en distintos Estados, realizan actos de comercio a pesar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stancia entre las partes</a:t>
            </a: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ferencias de culturas</a:t>
            </a: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ferencias de idiomas</a:t>
            </a:r>
            <a:endParaRPr b="0" lang="en-US" sz="2400" spc="-1" strike="noStrike">
              <a:solidFill>
                <a:srgbClr val="000000"/>
              </a:solidFill>
              <a:latin typeface="Times New Roman"/>
            </a:endParaRPr>
          </a:p>
          <a:p>
            <a:pPr>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iferencias de sistemas juríd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iguiendo las teorías de Adam Smith el hombre busca utilizar su libertad para obtener mayores beneficios y eso lo impulsa a comerciar con otras personas situadas a mucha dista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2760" y="1282680"/>
            <a:ext cx="89312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CONVENCIÓN DE NACIONES UNIDAS SOBRE LOS CONTRATOS DE COMPRAVENTA INTERNACIONAL DE MERCADERÍAS,  acordada en Viena el día 11 de abril de 1980 y conocida como Convención  de Viena 198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sta Conferencia diplomática, en que participaron sesenta y dos (62) Estados, entre los que se incluye Chile, organizada bajo el patrocinio de la Comisión de Naciones Unidas para la Legislación del Comercio Internacional (UNCITRAL) se aprobó este acuerdo, que al decir de algunos profesores de los Estados Unidos, se transformará en una moderna “Lex mercatoria" de carácter internacional, que permitirá un desarrollo más fluido y  armónico del comer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12760" y="1282680"/>
            <a:ext cx="89312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ste acuerdo viene a representar la culminación de más de 50 años de esfuerzo de diversas instituciones públicas y privadas, con el objeto de unificar la legislación internacional sobre compraventas de mercaderí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l año 1930, el Instituto Internacional para la Unificación del Decreto Privado  (conocido también como Instituto de Roma, o bien UNIDROIT), designó a un grupo de expertos para proponer el borrador de un texto sobre compraventa internacional.  Se formó un Comité integrado por representantes de los sistemas legales de mayor importancia en aquella época: el latino, el anglo-americano, el germánico y el escandina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12760" y="1282680"/>
            <a:ext cx="893124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Los borradores finales, que representaban un importante grado de avance en la  codificación común, fueron presentados en 1939. La segunda guerra mundial impidió desarrollos posteriores en esta materia.  Después de la guerra, el grupo de trabajo de UNIDROIT continuó perseverando en la idea de promover un acuerdo internacional sobre el contrato de compraventa. Es así que en el año 1964, en el mes de abril, por invitación del Gobierno de Holanda, las delegaciones de 28 países acuerdan dos convenciones: una sobre Ley  Uniforme de Compraventa Internacional de Bienes Corporales Muebles y otra sobre Formación del Contrato para la Compraventa Internacional de Bienes Mue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12760" y="1282680"/>
            <a:ext cx="893124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i bien estos acuerdos representaban un gran avance, en diversos países existían  reservas para la aplicación de las Convenciones de La Haya, sea por no haber ellos participado en la redacción de los mismos, o por no existir coincidencia con las definiciones  legales involucradas en dichos acuer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En el año 1966, la organización de Naciones Unidas designó una Comisión, conocida como UNCITRAL, a cargo de la legislación para el comercio internacional. Esta Comisión tiene 36 miembros, distribuidos de tal manera que estén representados, proporcionalmente, todos los diversos sistemas legales del mundo. Así, África tiene 9 miembros; Asia. 7:  Europa Oriental. 5; América Latina. 6; Europa y otros países occidentales. 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369000" y="3049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r>
              <a:rPr b="0" lang="es-ES" sz="2400" spc="-1" strike="noStrike">
                <a:solidFill>
                  <a:srgbClr val="ffff00"/>
                </a:solidFill>
                <a:latin typeface="Comic Sans MS"/>
              </a:rPr>
              <a:t> </a:t>
            </a:r>
            <a:endParaRPr b="0" lang="en-US" sz="2400" spc="-1" strike="noStrike">
              <a:solidFill>
                <a:srgbClr val="000000"/>
              </a:solidFill>
              <a:latin typeface="Times New Roman"/>
            </a:endParaRPr>
          </a:p>
        </p:txBody>
      </p:sp>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12760" y="1282680"/>
            <a:ext cx="89312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UNCITRAL estudió un nuevo texto  sobre contrato de compraventa  internacional y en el año 1978 recomendó a la Asamblea General de Naciones Unidas que llamara a una conferencia diplomática que se pronunciara sobre dicho texto.  En abril de 1980, se reunieron delegaciones de 62 países, en la Convención  de  Viena, aprobándose el texto en referencia. Chile concurrió a dicha Convención, votando los representantes chilenos favorablemente el texto de este Convenio Internacion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363240" y="30492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endParaRPr b="0" lang="en-US" sz="2400" spc="-1" strike="noStrike">
              <a:solidFill>
                <a:srgbClr val="000000"/>
              </a:solidFill>
              <a:latin typeface="Times New Roman"/>
            </a:endParaRPr>
          </a:p>
        </p:txBody>
      </p:sp>
      <p:sp>
        <p:nvSpPr>
          <p:cNvPr id="6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12760" y="1282680"/>
            <a:ext cx="89312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Comic Sans MS"/>
              </a:rPr>
              <a:t>La Convención fue ratificada por Chile y se transformó en ley de la República, publicándose en el Diario Oficial el día 3 de octubre de 1990, con la expresa reserva que, si cualquiera de las partes del contrato tiene su establecimiento en Chile, no se aplicarán las normas de la Convención  respecto de sus disposiciones que permitan: ”que la celebración, la modificación o la terminación por mutuo acuerdo del contrato de compraventa o cualquier oferta, aceptación u otra manifestación de intención se hagan por cualquier procedimiento que no sea por escr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363240" y="304920"/>
            <a:ext cx="39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2. Antecedentes previos.</a:t>
            </a:r>
            <a:endParaRPr b="0" lang="en-US" sz="2400" spc="-1" strike="noStrike">
              <a:solidFill>
                <a:srgbClr val="000000"/>
              </a:solidFill>
              <a:latin typeface="Times New Roman"/>
            </a:endParaRPr>
          </a:p>
        </p:txBody>
      </p:sp>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12760" y="1282680"/>
            <a:ext cx="89312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Se ha estimado conveniente incluir, como Anexo de este libro, el texto tanto en  castellano como en inglés con el objeto de facilitar su entendimiento en el país y, al mismo tiempo, permitir que en las comunicaciones en inglés con contrapartes del exterior, se utilicen los términos exactos de estas norm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29T20:50:14Z</dcterms:modified>
  <cp:revision>32</cp:revision>
  <dc:subject/>
  <dc:title>PowerPoint Presentation</dc:title>
</cp:coreProperties>
</file>