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AB66B-B89E-44E7-AAAD-C9FCB041B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78ECD-417D-4FF7-AC6A-F5022175A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54961-BF15-4CB5-9F52-5A083FE02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B1501-A4EE-45B9-87FB-680F528A1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4A878-C196-4CDB-A5B4-53C6FFAB4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5C468-A855-4762-BE55-D0E2CCD1B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A732A-C4A4-4834-BA43-D1A5EB03C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F6E00-21B1-44B5-9CA4-FAE4EDF1B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D5FA3-8634-40FF-8F9C-FC38E338D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72FE4-E4D0-4019-8306-840119DBF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DB31F-A722-428E-B403-3E49CE1E0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B82BC-0F75-4169-8372-64241CB47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23C0D-DE43-4383-B939-422B632063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fondouch" descr=""/>
          <p:cNvPicPr/>
          <p:nvPr/>
        </p:nvPicPr>
        <p:blipFill>
          <a:blip r:embed="rId1"/>
          <a:stretch/>
        </p:blipFill>
        <p:spPr>
          <a:xfrm>
            <a:off x="1219320" y="1981080"/>
            <a:ext cx="6705360" cy="316548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1127160" y="5451480"/>
            <a:ext cx="6873840" cy="109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imes New Roman"/>
              </a:rPr>
              <a:t>DERECHO COMERCIAL INTERNACIO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MARZO 200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
          <p:cNvSpPr/>
          <p:nvPr/>
        </p:nvSpPr>
        <p:spPr>
          <a:xfrm flipV="1">
            <a:off x="3619440" y="5181120"/>
            <a:ext cx="0" cy="11430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120" y="5181480"/>
            <a:ext cx="289548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62120" y="1828800"/>
            <a:ext cx="0" cy="44956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6324480"/>
            <a:ext cx="49528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51560" y="6262560"/>
            <a:ext cx="398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     2     3     4     5     6     7     8     9    10</a:t>
            </a:r>
            <a:endParaRPr b="0" lang="en-US" sz="1800" spc="-1" strike="noStrike">
              <a:solidFill>
                <a:srgbClr val="000000"/>
              </a:solidFill>
              <a:latin typeface="Times New Roman"/>
            </a:endParaRPr>
          </a:p>
        </p:txBody>
      </p:sp>
      <p:sp>
        <p:nvSpPr>
          <p:cNvPr id="114" name=""/>
          <p:cNvSpPr/>
          <p:nvPr/>
        </p:nvSpPr>
        <p:spPr>
          <a:xfrm>
            <a:off x="382680" y="2354400"/>
            <a:ext cx="409320" cy="3739680"/>
          </a:xfrm>
          <a:prstGeom prst="rect">
            <a:avLst/>
          </a:prstGeom>
          <a:noFill/>
          <a:ln w="0">
            <a:noFill/>
          </a:ln>
        </p:spPr>
        <p:style>
          <a:lnRef idx="0"/>
          <a:fillRef idx="0"/>
          <a:effectRef idx="0"/>
          <a:fontRef idx="minor"/>
        </p:style>
        <p:txBody>
          <a:bodyPr wrap="none" lIns="90000" rIns="90000" tIns="46800" bIns="46800" anchor="t">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115" name=""/>
          <p:cNvSpPr/>
          <p:nvPr/>
        </p:nvSpPr>
        <p:spPr>
          <a:xfrm>
            <a:off x="382680" y="17524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
            </a:r>
            <a:endParaRPr b="0" lang="en-US" sz="2400" spc="-1" strike="noStrike">
              <a:solidFill>
                <a:srgbClr val="000000"/>
              </a:solidFill>
              <a:latin typeface="Times New Roman"/>
            </a:endParaRPr>
          </a:p>
        </p:txBody>
      </p:sp>
      <p:sp>
        <p:nvSpPr>
          <p:cNvPr id="116" name=""/>
          <p:cNvSpPr/>
          <p:nvPr/>
        </p:nvSpPr>
        <p:spPr>
          <a:xfrm>
            <a:off x="5258880" y="62485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a:t>
            </a:r>
            <a:endParaRPr b="0" lang="en-US" sz="2400" spc="-1" strike="noStrike">
              <a:solidFill>
                <a:srgbClr val="000000"/>
              </a:solidFill>
              <a:latin typeface="Times New Roman"/>
            </a:endParaRPr>
          </a:p>
        </p:txBody>
      </p:sp>
      <p:sp>
        <p:nvSpPr>
          <p:cNvPr id="117" name=""/>
          <p:cNvSpPr/>
          <p:nvPr/>
        </p:nvSpPr>
        <p:spPr>
          <a:xfrm>
            <a:off x="2133720" y="2514600"/>
            <a:ext cx="2552760" cy="3137040"/>
          </a:xfrm>
          <a:custGeom>
            <a:avLst/>
            <a:gdLst/>
            <a:ahLst/>
            <a:rect l="l" t="t" r="r" b="b"/>
            <a:pathLst>
              <a:path w="1608" h="1976">
                <a:moveTo>
                  <a:pt x="1608" y="0"/>
                </a:moveTo>
                <a:cubicBezTo>
                  <a:pt x="1572" y="140"/>
                  <a:pt x="1536" y="280"/>
                  <a:pt x="1464" y="480"/>
                </a:cubicBezTo>
                <a:cubicBezTo>
                  <a:pt x="1392" y="680"/>
                  <a:pt x="1264" y="1000"/>
                  <a:pt x="1176" y="1200"/>
                </a:cubicBezTo>
                <a:cubicBezTo>
                  <a:pt x="1088" y="1400"/>
                  <a:pt x="1056" y="1560"/>
                  <a:pt x="936" y="1680"/>
                </a:cubicBezTo>
                <a:cubicBezTo>
                  <a:pt x="816" y="1800"/>
                  <a:pt x="600" y="1872"/>
                  <a:pt x="456" y="1920"/>
                </a:cubicBezTo>
                <a:cubicBezTo>
                  <a:pt x="312" y="1968"/>
                  <a:pt x="144" y="1960"/>
                  <a:pt x="72" y="1968"/>
                </a:cubicBezTo>
                <a:cubicBezTo>
                  <a:pt x="0" y="1976"/>
                  <a:pt x="12" y="1972"/>
                  <a:pt x="24" y="1968"/>
                </a:cubicBezTo>
              </a:path>
            </a:pathLst>
          </a:custGeom>
          <a:noFill/>
          <a:ln w="5724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037040" y="2133720"/>
            <a:ext cx="187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imes New Roman"/>
              </a:rPr>
              <a:t>Curva de O</a:t>
            </a:r>
            <a:r>
              <a:rPr b="1" i="1" lang="en-US" sz="2000" spc="-1" strike="noStrike">
                <a:solidFill>
                  <a:srgbClr val="ffffff"/>
                </a:solidFill>
                <a:latin typeface="Times New Roman"/>
              </a:rPr>
              <a:t>ferta</a:t>
            </a:r>
            <a:endParaRPr b="0" lang="en-US" sz="2000" spc="-1" strike="noStrike">
              <a:solidFill>
                <a:srgbClr val="000000"/>
              </a:solidFill>
              <a:latin typeface="Times New Roman"/>
            </a:endParaRPr>
          </a:p>
        </p:txBody>
      </p:sp>
      <p:sp>
        <p:nvSpPr>
          <p:cNvPr id="119" name=""/>
          <p:cNvSpPr/>
          <p:nvPr/>
        </p:nvSpPr>
        <p:spPr>
          <a:xfrm>
            <a:off x="1371600" y="2743200"/>
            <a:ext cx="3809880" cy="2895480"/>
          </a:xfrm>
          <a:custGeom>
            <a:avLst/>
            <a:gdLst/>
            <a:ahLst/>
            <a:rect l="l" t="t" r="r" b="b"/>
            <a:pathLst>
              <a:path w="2400" h="1824">
                <a:moveTo>
                  <a:pt x="0" y="0"/>
                </a:moveTo>
                <a:cubicBezTo>
                  <a:pt x="16" y="80"/>
                  <a:pt x="32" y="160"/>
                  <a:pt x="144" y="336"/>
                </a:cubicBezTo>
                <a:cubicBezTo>
                  <a:pt x="256" y="512"/>
                  <a:pt x="456" y="856"/>
                  <a:pt x="672" y="1056"/>
                </a:cubicBezTo>
                <a:cubicBezTo>
                  <a:pt x="888" y="1256"/>
                  <a:pt x="1192" y="1416"/>
                  <a:pt x="1440" y="1536"/>
                </a:cubicBezTo>
                <a:cubicBezTo>
                  <a:pt x="1688" y="1656"/>
                  <a:pt x="2000" y="1728"/>
                  <a:pt x="2160" y="1776"/>
                </a:cubicBezTo>
                <a:cubicBezTo>
                  <a:pt x="2320" y="1824"/>
                  <a:pt x="2360" y="1824"/>
                  <a:pt x="2400" y="1824"/>
                </a:cubicBezTo>
              </a:path>
            </a:pathLst>
          </a:custGeom>
          <a:noFill/>
          <a:ln w="5724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091160" y="2422440"/>
            <a:ext cx="222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imes New Roman"/>
              </a:rPr>
              <a:t>Curva de D</a:t>
            </a:r>
            <a:r>
              <a:rPr b="1" i="1" lang="en-US" sz="2000" spc="-1" strike="noStrike">
                <a:solidFill>
                  <a:srgbClr val="ffffff"/>
                </a:solidFill>
                <a:latin typeface="Times New Roman"/>
              </a:rPr>
              <a:t>emanda</a:t>
            </a:r>
            <a:endParaRPr b="0" lang="en-US" sz="2000" spc="-1" strike="noStrike">
              <a:solidFill>
                <a:srgbClr val="000000"/>
              </a:solidFill>
              <a:latin typeface="Times New Roman"/>
            </a:endParaRPr>
          </a:p>
        </p:txBody>
      </p:sp>
      <p:sp>
        <p:nvSpPr>
          <p:cNvPr id="121" name=""/>
          <p:cNvSpPr/>
          <p:nvPr/>
        </p:nvSpPr>
        <p:spPr>
          <a:xfrm>
            <a:off x="3395880" y="47242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a:t>
            </a:r>
            <a:endParaRPr b="0" lang="en-US" sz="2000" spc="-1" strike="noStrike">
              <a:solidFill>
                <a:srgbClr val="000000"/>
              </a:solidFill>
              <a:latin typeface="Times New Roman"/>
            </a:endParaRPr>
          </a:p>
        </p:txBody>
      </p:sp>
      <p:sp>
        <p:nvSpPr>
          <p:cNvPr id="122"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2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
          <p:cNvSpPr/>
          <p:nvPr/>
        </p:nvSpPr>
        <p:spPr>
          <a:xfrm>
            <a:off x="685800" y="1752480"/>
            <a:ext cx="7772400" cy="52578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LOS PRINCIPIOS DERIVADOS DE LA OFERTA Y DEMANDA CONDUCEN A LA DEFINICIÓN CLÁSICA DEL MERCADO DE COMPETENCIA PERFECTA.</a:t>
            </a:r>
            <a:endParaRPr b="0" lang="en-US" sz="1600" spc="-1" strike="noStrike">
              <a:solidFill>
                <a:srgbClr val="000000"/>
              </a:solidFill>
              <a:latin typeface="Times New Roman"/>
            </a:endParaRPr>
          </a:p>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UN SISTEMA DONDE EXISTEN MUCHOS VENDEDORES Y MUCHOS COMPRADORES DE UN MISMO PRODUCTO EN QUE NINGUNO DE LOS PARTÍCIPES TIENE INFLUENCIA DECISIVA EN EL PRECIO DEL PRODUCTO.</a:t>
            </a:r>
            <a:endParaRPr b="0" lang="en-US" sz="1600" spc="-1" strike="noStrike">
              <a:solidFill>
                <a:srgbClr val="000000"/>
              </a:solidFill>
              <a:latin typeface="Times New Roman"/>
            </a:endParaRPr>
          </a:p>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LOS ECONOMISTAS CLÁSICOS MENCIONAN LAS SIGUIENTES VENTAJAS DEL SISTEMA DE COMPETENCIA PERFECTA:</a:t>
            </a:r>
            <a:endParaRPr b="0" lang="en-US" sz="1600" spc="-1" strike="noStrike">
              <a:solidFill>
                <a:srgbClr val="000000"/>
              </a:solidFill>
              <a:latin typeface="Times New Roman"/>
            </a:endParaRPr>
          </a:p>
          <a:p>
            <a:pPr marL="609480" indent="-609480" algn="just">
              <a:lnSpc>
                <a:spcPct val="100000"/>
              </a:lnSpc>
              <a:spcBef>
                <a:spcPts val="400"/>
              </a:spcBef>
              <a:buClr>
                <a:srgbClr val="ffffff"/>
              </a:buClr>
              <a:buFont typeface="Arial Unicode MS"/>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	</a:t>
            </a:r>
            <a:r>
              <a:rPr b="0" lang="es-MX" sz="1600" spc="-1" strike="noStrike">
                <a:solidFill>
                  <a:srgbClr val="ffff00"/>
                </a:solidFill>
                <a:latin typeface="Arial Unicode MS"/>
              </a:rPr>
              <a:t>-</a:t>
            </a:r>
            <a:r>
              <a:rPr b="0" lang="es-MX" sz="1600" spc="-1" strike="noStrike">
                <a:solidFill>
                  <a:srgbClr val="ffff00"/>
                </a:solidFill>
                <a:latin typeface="Arial Unicode MS"/>
              </a:rPr>
              <a:t>	</a:t>
            </a:r>
            <a:r>
              <a:rPr b="0" lang="es-MX" sz="1600" spc="-1" strike="noStrike">
                <a:solidFill>
                  <a:srgbClr val="ffff00"/>
                </a:solidFill>
                <a:latin typeface="Arial Unicode MS"/>
              </a:rPr>
              <a:t>MUCHOS VENDEDORES</a:t>
            </a:r>
            <a:endParaRPr b="0" lang="en-US" sz="1600" spc="-1" strike="noStrike">
              <a:solidFill>
                <a:srgbClr val="000000"/>
              </a:solidFill>
              <a:latin typeface="Times New Roman"/>
            </a:endParaRPr>
          </a:p>
          <a:p>
            <a:pPr marL="609480" indent="-60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	</a:t>
            </a:r>
            <a:r>
              <a:rPr b="0" lang="es-MX" sz="1600" spc="-1" strike="noStrike">
                <a:solidFill>
                  <a:srgbClr val="ffff00"/>
                </a:solidFill>
                <a:latin typeface="Arial Unicode MS"/>
              </a:rPr>
              <a:t>-</a:t>
            </a:r>
            <a:r>
              <a:rPr b="0" lang="es-MX" sz="1600" spc="-1" strike="noStrike">
                <a:solidFill>
                  <a:srgbClr val="ffff00"/>
                </a:solidFill>
                <a:latin typeface="Arial Unicode MS"/>
              </a:rPr>
              <a:t>	</a:t>
            </a:r>
            <a:r>
              <a:rPr b="0" lang="es-MX" sz="1600" spc="-1" strike="noStrike">
                <a:solidFill>
                  <a:srgbClr val="ffff00"/>
                </a:solidFill>
                <a:latin typeface="Arial Unicode MS"/>
              </a:rPr>
              <a:t>MUCHOS COMPRADORES</a:t>
            </a:r>
            <a:endParaRPr b="0" lang="en-US" sz="1600" spc="-1" strike="noStrike">
              <a:solidFill>
                <a:srgbClr val="000000"/>
              </a:solidFill>
              <a:latin typeface="Times New Roman"/>
            </a:endParaRPr>
          </a:p>
          <a:p>
            <a:pPr marL="609480" indent="-60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	</a:t>
            </a:r>
            <a:r>
              <a:rPr b="0" lang="es-MX" sz="1600" spc="-1" strike="noStrike">
                <a:solidFill>
                  <a:srgbClr val="ffff00"/>
                </a:solidFill>
                <a:latin typeface="Arial Unicode MS"/>
              </a:rPr>
              <a:t>-</a:t>
            </a:r>
            <a:r>
              <a:rPr b="0" lang="es-MX" sz="1600" spc="-1" strike="noStrike">
                <a:solidFill>
                  <a:srgbClr val="ffff00"/>
                </a:solidFill>
                <a:latin typeface="Arial Unicode MS"/>
              </a:rPr>
              <a:t>	</a:t>
            </a:r>
            <a:r>
              <a:rPr b="0" lang="es-MX" sz="1600" spc="-1" strike="noStrike">
                <a:solidFill>
                  <a:srgbClr val="ffff00"/>
                </a:solidFill>
                <a:latin typeface="Arial Unicode MS"/>
              </a:rPr>
              <a:t>EL PRECIO SE AJUSTA A NIVELES MÁS BAJOS QUE EN </a:t>
            </a:r>
            <a:r>
              <a:rPr b="0" lang="es-MX" sz="1600" spc="-1" strike="noStrike">
                <a:solidFill>
                  <a:srgbClr val="ffff00"/>
                </a:solidFill>
                <a:latin typeface="Arial Unicode MS"/>
              </a:rPr>
              <a:t>	</a:t>
            </a:r>
            <a:r>
              <a:rPr b="0" lang="es-MX" sz="1600" spc="-1" strike="noStrike">
                <a:solidFill>
                  <a:srgbClr val="ffff00"/>
                </a:solidFill>
                <a:latin typeface="Arial Unicode MS"/>
              </a:rPr>
              <a:t>SISTEMAS </a:t>
            </a:r>
            <a:r>
              <a:rPr b="0" lang="es-MX" sz="1600" spc="-1" strike="noStrike">
                <a:solidFill>
                  <a:srgbClr val="ffff00"/>
                </a:solidFill>
                <a:latin typeface="Arial Unicode MS"/>
              </a:rPr>
              <a:t>	</a:t>
            </a:r>
            <a:r>
              <a:rPr b="0" lang="es-MX" sz="1600" spc="-1" strike="noStrike">
                <a:solidFill>
                  <a:srgbClr val="ffff00"/>
                </a:solidFill>
                <a:latin typeface="Arial Unicode MS"/>
              </a:rPr>
              <a:t>DE COMPETENCIA IMPERFECTA. </a:t>
            </a:r>
            <a:r>
              <a:rPr b="0" lang="es-MX" sz="1600" spc="-1" strike="noStrike">
                <a:solidFill>
                  <a:srgbClr val="ffff00"/>
                </a:solidFill>
                <a:latin typeface="Arial Unicode MS"/>
              </a:rPr>
              <a:t>	</a:t>
            </a:r>
            <a:endParaRPr b="0" lang="en-US" sz="1600" spc="-1" strike="noStrike">
              <a:solidFill>
                <a:srgbClr val="000000"/>
              </a:solidFill>
              <a:latin typeface="Times New Roman"/>
            </a:endParaRPr>
          </a:p>
          <a:p>
            <a:pPr marL="609480" indent="-60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	</a:t>
            </a:r>
            <a:r>
              <a:rPr b="0" lang="es-MX" sz="1600" spc="-1" strike="noStrike">
                <a:solidFill>
                  <a:srgbClr val="ffff00"/>
                </a:solidFill>
                <a:latin typeface="Arial Unicode MS"/>
              </a:rPr>
              <a:t>-</a:t>
            </a:r>
            <a:r>
              <a:rPr b="0" lang="es-MX" sz="1600" spc="-1" strike="noStrike">
                <a:solidFill>
                  <a:srgbClr val="ffff00"/>
                </a:solidFill>
                <a:latin typeface="Arial Unicode MS"/>
              </a:rPr>
              <a:t>	</a:t>
            </a:r>
            <a:r>
              <a:rPr b="0" lang="es-MX" sz="1600" spc="-1" strike="noStrike">
                <a:solidFill>
                  <a:srgbClr val="ffff00"/>
                </a:solidFill>
                <a:latin typeface="Arial Unicode MS"/>
              </a:rPr>
              <a:t>EXISTE TRANSPARENCIA EN EL MERCADO:  TODOS LOS </a:t>
            </a:r>
            <a:r>
              <a:rPr b="0" lang="es-MX" sz="1600" spc="-1" strike="noStrike">
                <a:solidFill>
                  <a:srgbClr val="ffff00"/>
                </a:solidFill>
                <a:latin typeface="Arial Unicode MS"/>
              </a:rPr>
              <a:t>	</a:t>
            </a:r>
            <a:r>
              <a:rPr b="0" lang="es-MX" sz="1600" spc="-1" strike="noStrike">
                <a:solidFill>
                  <a:srgbClr val="ffff00"/>
                </a:solidFill>
                <a:latin typeface="Arial Unicode MS"/>
              </a:rPr>
              <a:t>PARTÍCIPES TIENEN DERECHO A TENER PLENA INFORMACION.</a:t>
            </a:r>
            <a:endParaRPr b="0" lang="en-US" sz="1600" spc="-1" strike="noStrike">
              <a:solidFill>
                <a:srgbClr val="000000"/>
              </a:solidFill>
              <a:latin typeface="Times New Roman"/>
            </a:endParaRPr>
          </a:p>
        </p:txBody>
      </p:sp>
      <p:sp>
        <p:nvSpPr>
          <p:cNvPr id="125"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2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2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3520" y="1219320"/>
            <a:ext cx="7772400" cy="53337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EFICIENCIA:  PARA SATISFACER LAS NECESIDAD DE LOS CONSUMIDORES, LOS PRODUCTORES DEBEN ORGANIZARSE DE MANERA QUE PUEDAN PRODUCIR LA MAYOR CANTIDAD DE BIENES AL MENOR COSTO POSIBLE.</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ESPECIALIZACION: ES UNA CONSECUENCIA DE LOS REQUISITOS DE EFICIENCIA.  ES IMPOSIBLE QUE TODOS LOS EMPRESARIOS PRODUZCAN TODOS LOS BIENES IMAGINABLES.  LOS PRODUCTORES ORGANIZAN SUS EMPRESAS DE ACUERDO A SUS PROPIAS CAPACIDADES Y COMPETENCIA, PARA PRODUCIR  BIENES DE ALTA CALIDAD A COSTOS REDUCIDOS.  </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LIBRE ACCESO.  CUALQUIER PERSONA TIENE DERECHO A PARTICIPAR EN EL MERCADO SEA COMO VENDEDOR O COMO CONSUMIDOR.  NO EXISTEN BARRERAS A LA ENTRADA DE NUEVOS PARTÍCIPES.</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3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33520" y="114300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Unicode MS"/>
              </a:rPr>
              <a:t>17.</a:t>
            </a:r>
            <a:r>
              <a:rPr b="0" lang="es-MX" sz="1800" spc="-1" strike="noStrike">
                <a:solidFill>
                  <a:srgbClr val="ffff00"/>
                </a:solidFill>
                <a:latin typeface="Arial Unicode MS"/>
              </a:rPr>
              <a:t>	</a:t>
            </a:r>
            <a:r>
              <a:rPr b="0" lang="es-MX" sz="1800" spc="-1" strike="noStrike">
                <a:solidFill>
                  <a:srgbClr val="ffff00"/>
                </a:solidFill>
                <a:latin typeface="Arial Unicode MS"/>
              </a:rPr>
              <a:t>LA TEORÍA DEL “LAISSEZ FAIRE”, SI BIEN RECONOCE CIERTAS REALIDADES EN LA CONDUCTA ECONÓMICA DEL </a:t>
            </a:r>
            <a:r>
              <a:rPr b="0" lang="es-MX" sz="1800" spc="-1" strike="noStrike">
                <a:solidFill>
                  <a:srgbClr val="ffff00"/>
                </a:solidFill>
                <a:latin typeface="Arial Unicode MS"/>
              </a:rPr>
              <a:t>	</a:t>
            </a:r>
            <a:r>
              <a:rPr b="0" lang="es-MX" sz="1800" spc="-1" strike="noStrike">
                <a:solidFill>
                  <a:srgbClr val="ffff00"/>
                </a:solidFill>
                <a:latin typeface="Arial Unicode MS"/>
              </a:rPr>
              <a:t>HOMBRE, NO LOGRÓ EXPLICAR CIERTOS FENÓMENOS ECONÓMICOS, COMO POR EJEMPLO EL DESEMPLEO MASIVO EN UNA ECONOMÍA EN EQUILIBRIO.</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SEGÚN LOS ECONOMISTAS WONNACOT “ANTES DE LA GRAN DEPRESIÓN DE LOS AÑOS 1929-1930 MUCHOS ECONOMISTAS CONSIDERABAN QUE EL DESEMPLEO  ERA UN PROBLEMA PASAJERO Y RELATIVAMENTE MENOR.  LA GRAN DEPRESIÓN DE LOS AÑOS 30 QUEBRÓ SU CONFIANZA Y PROPORCIONÓ LOS FUNDAMENTOS PARA UNA NUEVA TEORÍA DEL DESEMPLEO QUE FUE PRESENTADA POR EL ECONOMISTA BRITÁNICO JOHN MAYNARD KEYNES (1883-1946).”</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SEGÚN KEYNES, PARA REMEDIAR EL DESEMPLEO SE DEBIERA AUMENTAR LA DEMANDA AGREGADA, MEDIANTE UN AUMENTO EN EL GASTO FISCAL.</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3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33520" y="114300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SEGÚN WONNACOT, KEYNES “DESECHÓ LA VISIÓN CLÁSICA QUE LAS FUERZAS DEL MERCADO RESOLVERÍAN EL PROBLEMA DEL DESEMPLEO Y QUE EL ESTADO DEBERÍA LIMITAR ESTRICTAMENTE SUS INTERVENCIONES EN LA ECONOMÍA.”</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AGREGA WONNACOT QUE “KEYNES FUE ESPECIALMENTE INTOLERANTE CON LOS ECONOMISTAS CLÁSICOS, LOS QUE ARGUMENTABAN QUE EN EL </a:t>
            </a:r>
            <a:r>
              <a:rPr b="0" i="1" lang="es-MX" sz="1600" spc="-1" strike="noStrike">
                <a:solidFill>
                  <a:srgbClr val="ffff00"/>
                </a:solidFill>
                <a:latin typeface="Arial Unicode MS"/>
              </a:rPr>
              <a:t>LARGO PLAZO</a:t>
            </a:r>
            <a:r>
              <a:rPr b="0" lang="es-MX" sz="1600" spc="-1" strike="noStrike">
                <a:solidFill>
                  <a:srgbClr val="ffff00"/>
                </a:solidFill>
                <a:latin typeface="Arial Unicode MS"/>
              </a:rPr>
              <a:t>  LAS FUERZAS DEL MERCADO REESTABLECERÍAN EL PLENO EMPLEO.  KEYNES REPLICÓ QUE “</a:t>
            </a:r>
            <a:r>
              <a:rPr b="0" i="1" lang="es-MX" sz="1600" spc="-1" strike="noStrike">
                <a:solidFill>
                  <a:srgbClr val="ffff00"/>
                </a:solidFill>
                <a:latin typeface="Arial Unicode MS"/>
              </a:rPr>
              <a:t>A LARGO PLAZO ESTAREMOS TODOS MUERTOS”.</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ACTUALMENTE, EXISTE UN RECONOCIMIENTO GENERALIZADO EN TODO EL MUNDO A LAS CONTRIBUCIONES REALIZADAS POR LOS ECONOMISTAS ADAM SMITH Y JOHN MAYNARD KEYNES.</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POR UN LADO, EXISTE UN AMPLIO RECONOCIMIENTO UNIVERSAL AL PRINCIPIO DE LA LIBERTAD DEL SER HUMANO, QUE DA ORIGEN A LA LIBERTAD POLÍTICA, LIBERTAD EMPRESARIAL, AUTONOMÍA DE LA VOLUNTAD, LIBRE ELECCIÓN PROFESIONAL Y COMERCIAL, LIBERTAD DE ACCESO A LOS MERCADOS Y, EN GENERAL, LIBERTAD ECONÓMICA.</a:t>
            </a:r>
            <a:endParaRPr b="0" lang="en-US" sz="1600" spc="-1" strike="noStrike">
              <a:solidFill>
                <a:srgbClr val="000000"/>
              </a:solidFill>
              <a:latin typeface="Times New Roman"/>
            </a:endParaRPr>
          </a:p>
          <a:p>
            <a:pPr marL="609480" indent="-60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3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80" y="137160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buClr>
                <a:srgbClr val="ffff00"/>
              </a:buClr>
              <a:buFont typeface="Arial Unicode MS"/>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SA LIBERTAD, QUE DA ORIGEN A LOS CRECIMIENTO ECONÓMICOS Y AUMENTOS DE PATRIMONIO, PRODUCE TAMBIÉN ESPECIALIZACIÓN, EFICIENCIA Y ES CAUSA DE PLENO ABASTECIMIENTO EN LOS MERCADOS.</a:t>
            </a: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POR OTRO LADO, EXISTE TAMBIÉN RECONOCIMIENTO UNIVERSAL A VARIOS DE LOS PRINCIPIOS ELABORADOS POR KEYNES RESPECTO DE LA ACTUACIÓN DEL ESTADO EN MATERIA ECONÓMICA CON EL OBJETO DE EVITAR DESEQUILIBRIOS, ATENTADOS A LA LIBRE COMPETENCIA Y PROTEGER A LOS MÁS DÉBILES.</a:t>
            </a: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LO ANTERIOR,  A  DADO ORIGEN A SISTEMAS ECONÓMICOS Y PÓLÍTICOS QUE SE CONOCEN CON EL NOMBRE DE “ECONOMÍA SOCIAL DE MERCADO” Y QUE, EN MAYOR O MENOR MEDIDA TIENDEN A SER RECONOCIDO EN TODO EL MUN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85800" y="1600200"/>
            <a:ext cx="7772400" cy="44956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51"/>
              </a:spcBef>
              <a:buClr>
                <a:srgbClr val="ffff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LOS PRINCIPIOS ANTERIORES TAMBIÉN HAN TENIDO UN RECONOCIMIENTO INTERNACIONAL, EN CUANTO EN LA ACTUALIDAD SE RECONOCE COMO UN ELEMENTO FUNDAMENTAL LA LIBERTAD PARA REALIZAR OPERACIONES DE COMERCIO INTERNACIONAL.</a:t>
            </a: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TEORÍAS MERCANTILISTAS.  ESTAS TEORÍAS PREVALECIERON EN LOS SIGLOS XVIII Y XIX EN QUE SE CONSOLIDA, PRINCIPALMENTE POR POTENCIAS EUROPEAS, UN PROCESO DE EXPANSIÓN DEL COMERCIO INTERNACIONAL.</a:t>
            </a: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LOS MERCANTILÍSTAS FOMENTABAN LA ACUMULACIÓN DE RIQUEZAS REPRESENTADAS POR ORO Y PLATA, QUE ERAN LOS PRINCIPALES MEDIOS DE PAGO DEL COMERCIO MUNDIAL EN AQUELLA ÉPOC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
          <p:cNvSpPr/>
          <p:nvPr/>
        </p:nvSpPr>
        <p:spPr>
          <a:xfrm>
            <a:off x="685800" y="121932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EN CONSECUENCIA LOS MERCANTILÍSTAS BASABAN SU TEORÍA EN EL PROTECCIONISMO:  FOMENTO DE LAS EXPORTACIONES A TRAVÉS DE </a:t>
            </a:r>
            <a:r>
              <a:rPr b="0" lang="es-MX" sz="1800" spc="-1" strike="noStrike">
                <a:solidFill>
                  <a:srgbClr val="ffff00"/>
                </a:solidFill>
                <a:latin typeface="Arial Unicode MS"/>
              </a:rPr>
              <a:t>	</a:t>
            </a:r>
            <a:r>
              <a:rPr b="0" lang="es-MX" sz="1800" spc="-1" strike="noStrike">
                <a:solidFill>
                  <a:srgbClr val="ffff00"/>
                </a:solidFill>
                <a:latin typeface="Arial Unicode MS"/>
              </a:rPr>
              <a:t>SUBSIDIOS Y </a:t>
            </a:r>
            <a:r>
              <a:rPr b="0" lang="es-MX" sz="1800" spc="-1" strike="noStrike">
                <a:solidFill>
                  <a:srgbClr val="ffff00"/>
                </a:solidFill>
                <a:latin typeface="Arial Unicode MS"/>
              </a:rPr>
              <a:t>	</a:t>
            </a:r>
            <a:r>
              <a:rPr b="0" lang="es-MX" sz="1800" spc="-1" strike="noStrike">
                <a:solidFill>
                  <a:srgbClr val="ffff00"/>
                </a:solidFill>
                <a:latin typeface="Arial Unicode MS"/>
              </a:rPr>
              <a:t>BAJA DE LAS IMPORTACIONES A TRAVÉS</a:t>
            </a:r>
            <a:r>
              <a:rPr b="0" lang="es-MX" sz="1800" spc="-1" strike="noStrike">
                <a:solidFill>
                  <a:srgbClr val="ffff00"/>
                </a:solidFill>
                <a:latin typeface="Arial Unicode MS"/>
              </a:rPr>
              <a:t>	</a:t>
            </a:r>
            <a:r>
              <a:rPr b="0" lang="es-MX" sz="1800" spc="-1" strike="noStrike">
                <a:solidFill>
                  <a:srgbClr val="ffff00"/>
                </a:solidFill>
                <a:latin typeface="Arial Unicode MS"/>
              </a:rPr>
              <a:t>DE SUBSIDIOS.</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LA TEORÍA CLÁSICA DEL COMERCIO INTERNACIONAL.  ESTA TEORÍA FUE ELABORADA PRINCIPALMENTE POR LOS ECONOMISTAS ADAM SMITH, DAVID RICARDO, ROBERT TORRENS Y JOHN STUART MILL.  </a:t>
            </a: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LAS PREGUNTAS BÁSICAS QUE PROCURA RESPONDER ESTA TEORÍA SON:  </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CUÁLES SON LAS GANANCIAS DEL COMERCIO INTERNACIONAL?.</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DE DÓNDE PROVIENEN O CÓMO SE GENERAN?.</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85800" y="1219320"/>
            <a:ext cx="7772400" cy="54100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 ¿CÓMO SE DIVIDEN ESTAS GANANCIAS ENTRE LOS </a:t>
            </a:r>
            <a:r>
              <a:rPr b="0" lang="es-MX" sz="1800" spc="-1" strike="noStrike">
                <a:solidFill>
                  <a:srgbClr val="ffff00"/>
                </a:solidFill>
                <a:latin typeface="Arial Unicode MS"/>
              </a:rPr>
              <a:t>	</a:t>
            </a:r>
            <a:r>
              <a:rPr b="0" lang="es-MX" sz="1800" spc="-1" strike="noStrike">
                <a:solidFill>
                  <a:srgbClr val="ffff00"/>
                </a:solidFill>
                <a:latin typeface="Arial Unicode MS"/>
              </a:rPr>
              <a:t>DISTINTOS PAÍSES?.</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CUÁLES SON LOS BIENES QUE CADA PAÍS EXPORTA E </a:t>
            </a:r>
            <a:r>
              <a:rPr b="0" lang="es-MX" sz="1800" spc="-1" strike="noStrike">
                <a:solidFill>
                  <a:srgbClr val="ffff00"/>
                </a:solidFill>
                <a:latin typeface="Arial Unicode MS"/>
              </a:rPr>
              <a:t>	</a:t>
            </a:r>
            <a:r>
              <a:rPr b="0" lang="es-MX" sz="1800" spc="-1" strike="noStrike">
                <a:solidFill>
                  <a:srgbClr val="ffff00"/>
                </a:solidFill>
                <a:latin typeface="Arial Unicode MS"/>
              </a:rPr>
              <a:t>IMPORTA Y PORQUÉ?.</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	</a:t>
            </a:r>
            <a:r>
              <a:rPr b="0" lang="es-MX" sz="1800" spc="-1" strike="noStrike">
                <a:solidFill>
                  <a:srgbClr val="ffff00"/>
                </a:solidFill>
                <a:latin typeface="Arial Unicode MS"/>
              </a:rPr>
              <a:t>¿CUÁLES SON LOS </a:t>
            </a:r>
            <a:r>
              <a:rPr b="0" i="1" lang="es-MX" sz="1800" spc="-1" strike="noStrike">
                <a:solidFill>
                  <a:srgbClr val="ffff00"/>
                </a:solidFill>
                <a:latin typeface="Arial Unicode MS"/>
              </a:rPr>
              <a:t>TERMINOS DE INTERCAMBIO</a:t>
            </a:r>
            <a:r>
              <a:rPr b="0" lang="es-MX" sz="1800" spc="-1" strike="noStrike">
                <a:solidFill>
                  <a:srgbClr val="ffff00"/>
                </a:solidFill>
                <a:latin typeface="Arial Unicode MS"/>
              </a:rPr>
              <a:t>?. ESTO </a:t>
            </a:r>
            <a:r>
              <a:rPr b="0" lang="es-MX" sz="1800" spc="-1" strike="noStrike">
                <a:solidFill>
                  <a:srgbClr val="ffff00"/>
                </a:solidFill>
                <a:latin typeface="Arial Unicode MS"/>
              </a:rPr>
              <a:t>	</a:t>
            </a:r>
            <a:r>
              <a:rPr b="0" lang="es-MX" sz="1800" spc="-1" strike="noStrike">
                <a:solidFill>
                  <a:srgbClr val="ffff00"/>
                </a:solidFill>
                <a:latin typeface="Arial Unicode MS"/>
              </a:rPr>
              <a:t>ES ¿CUÁL ES LA RELACIÓN DE PRECIOS ENTRE LOS </a:t>
            </a:r>
            <a:r>
              <a:rPr b="0" lang="es-MX" sz="1800" spc="-1" strike="noStrike">
                <a:solidFill>
                  <a:srgbClr val="ffff00"/>
                </a:solidFill>
                <a:latin typeface="Arial Unicode MS"/>
              </a:rPr>
              <a:t>	</a:t>
            </a:r>
            <a:r>
              <a:rPr b="0" lang="es-MX" sz="1800" spc="-1" strike="noStrike">
                <a:solidFill>
                  <a:srgbClr val="ffff00"/>
                </a:solidFill>
                <a:latin typeface="Arial Unicode MS"/>
              </a:rPr>
              <a:t>BIENES </a:t>
            </a:r>
            <a:r>
              <a:rPr b="0" lang="es-MX" sz="1800" spc="-1" strike="noStrike">
                <a:solidFill>
                  <a:srgbClr val="ffff00"/>
                </a:solidFill>
                <a:latin typeface="Arial Unicode MS"/>
              </a:rPr>
              <a:t>	</a:t>
            </a:r>
            <a:r>
              <a:rPr b="0" lang="es-MX" sz="1800" spc="-1" strike="noStrike">
                <a:solidFill>
                  <a:srgbClr val="ffff00"/>
                </a:solidFill>
                <a:latin typeface="Arial Unicode MS"/>
              </a:rPr>
              <a:t>EXPORTADOS Y LOS BIENES IMPORTADOS?</a:t>
            </a: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TEORÍA DE LAS VENTAJAS ABSOLUTAS.  ADAM SMITH ELABORÓ ESTA TEORÍA A PARTIR DEL SIGUIENTE CONCEPTO:  “ES LA MÁXIMA DE TODO JEFE DE FAMILIA PRUDENTE NUNCA INTENTAR DE PRODUCIR EN CASA LO QUE LE COSTARÍA MÁS PRODUCIR QUE COMPRAR” (PRINCIPIO DE LA ESPECIALIZACIÓN).</a:t>
            </a: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8580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51"/>
              </a:spcBef>
              <a:buClr>
                <a:srgbClr val="ffff00"/>
              </a:buClr>
              <a:buFont typeface="Arial Unicode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 PARTIR DE LO ANTERIOR, ADAM SMITH ELABORÓ EL PRINCIPIO DE LA “VENTAJA ABSOLUTA” SEÑALANDO QUE:</a:t>
            </a: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LO QUE ES PRUDENCIA EN LA CONDUCTA DE UNA FAMILIA PRIVADA, DIFÍCILMENTE PUEDE SER LOCURA EN UN GRAN REINO.  SI UN PAÍS EXTRANJERO PUEDE SUMINISTRARNOS UN BIEN MÁS BARATO DE LO QUE NOSOTROS MISMOS PODEMOS HACERLO, RESULTA MEJOR COMPRARLO CON ALGUNA PARTE DEL PRODUCTO DE NUESTRA PROPIA INDUSTRIA, EMPLEADA EN ALGUNA FORMA EN LA CUAL TENGAMOS VENTAJA ....”</a:t>
            </a: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UTILIZANDO VIDRIOS, ABONOS Y PAREDES CON CALEFACCIÓN PODRÍAN CULTIVARSE MUY BUENAS UVAS EN ESCOCIA, Y TAMBIÉN PODRÍA HACERSE DE ELLAS MUY BUEN VINO A MÁS O MENOS 30 VECES EL COSTO POR EL CUAL PODRÍA COMPRARSE UN VINO DE IGUAL CALIDAD A PAÍSES EXTRANJEROS.”</a:t>
            </a: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4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12760" y="1282680"/>
            <a:ext cx="8931240" cy="116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51"/>
              </a:spcBef>
              <a:buClr>
                <a:srgbClr val="ffffff"/>
              </a:buClr>
              <a:buSzPct val="11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Comic Sans MS"/>
              </a:rPr>
              <a:t>LAS NORMAS DEL DERECHO COMERCIAL INTERNACIONAL REGULAN </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Comic Sans MS"/>
              </a:rPr>
              <a:t>       </a:t>
            </a:r>
            <a:r>
              <a:rPr b="0" lang="es-MX" sz="1800" spc="-1" strike="noStrike">
                <a:solidFill>
                  <a:srgbClr val="ffff00"/>
                </a:solidFill>
                <a:latin typeface="Comic Sans MS"/>
              </a:rPr>
              <a:t>LOS DISTINTOS TIPOS DE CONTRATOS QUE SE REALIZAN EN LOS NEGOCIOS INTERNACIONALE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
          <p:cNvSpPr/>
          <p:nvPr/>
        </p:nvSpPr>
        <p:spPr>
          <a:xfrm>
            <a:off x="1112400" y="2347920"/>
            <a:ext cx="4033080" cy="3690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IMPORTACIONES</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XPORTACIONES</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TRANSPORTE</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SEGUROS</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LMACENAJE</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FINANCIAMIENTO</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REPRESENTACION</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GENCIA</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DISTRIBUCION</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SOCIACIONES (JOINT VENTURES)</a:t>
            </a:r>
            <a:endParaRPr b="0" lang="en-US" sz="1800" spc="-1" strike="noStrike">
              <a:solidFill>
                <a:srgbClr val="000000"/>
              </a:solidFill>
              <a:latin typeface="Times New Roman"/>
            </a:endParaRPr>
          </a:p>
          <a:p>
            <a:pPr>
              <a:lnSpc>
                <a:spcPct val="90000"/>
              </a:lnSpc>
              <a:spcBef>
                <a:spcPts val="451"/>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INVERSION EXTRANJERA</a:t>
            </a:r>
            <a:endParaRPr b="0" lang="en-US" sz="1800" spc="-1" strike="noStrike">
              <a:solidFill>
                <a:srgbClr val="000000"/>
              </a:solidFill>
              <a:latin typeface="Times New Roman"/>
            </a:endParaRPr>
          </a:p>
          <a:p>
            <a:pPr>
              <a:lnSpc>
                <a:spcPct val="100000"/>
              </a:lnSpc>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33520" y="1219320"/>
            <a:ext cx="7772400" cy="51814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SERÍA, ENTONCES, UNA LEY RAZONABLE PROHIBIR LA IMPORTACIÓN DE TODOS LOS VINOS EXTRANJEROS, SIMPLEMENTE PARA FOMENTAR LA PRODUCCIÓN DEL CLARETE Y EL BORGOÑA EN ESCOCIA?.”</a:t>
            </a: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r>
              <a:rPr b="0" lang="es-MX" sz="1800" spc="-1" strike="noStrike">
                <a:solidFill>
                  <a:srgbClr val="ffff00"/>
                </a:solidFill>
                <a:latin typeface="Arial Unicode MS"/>
              </a:rPr>
              <a:t>“</a:t>
            </a:r>
            <a:r>
              <a:rPr b="0" lang="es-MX" sz="1800" spc="-1" strike="noStrike">
                <a:solidFill>
                  <a:srgbClr val="ffff00"/>
                </a:solidFill>
                <a:latin typeface="Arial Unicode MS"/>
              </a:rPr>
              <a:t>EN LA MEDIDA EN QUE UN PAÍS TENGA TODAS ESAS VENTAJAS Y OTRO PAÍS DESEE TENERLAS, SIEMPRE SERÁ MÁS VENTAJOSO PARA ÉSTE ÚLTIMO COMPRARLE AL PRIMERO QUE FABRICAR EL MISMO.”</a:t>
            </a: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L RESPECTO COMENTA EL ECONOMISTA MILTIADES CHACHOLIADES.  “EN ESTO RADICA LA ESENCIA DE LAS GANANCIAS DEL COMERCIO:  LA ESPECIALIZACIÓN E INTERCAMBIO INTERNACIONAL.  CON UNA MAYOR PRODUCCIÓN LOS DOS PAÍSES QUE INTERCAMBIEN BIENES PUEDEN DISFRUTAR DE MEJORES NIVELES DE VIDA.</a:t>
            </a:r>
            <a:endParaRPr b="0" lang="en-US" sz="1800" spc="-1" strike="noStrike">
              <a:solidFill>
                <a:srgbClr val="000000"/>
              </a:solidFill>
              <a:latin typeface="Times New Roman"/>
            </a:endParaRPr>
          </a:p>
          <a:p>
            <a:pPr marL="609480" indent="-609480" algn="just">
              <a:lnSpc>
                <a:spcPct val="90000"/>
              </a:lnSpc>
              <a:spcBef>
                <a:spcPts val="451"/>
              </a:spcBef>
              <a:buClr>
                <a:srgbClr val="ffff00"/>
              </a:buClr>
              <a:buFont typeface="Arial Unicode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
          <p:cNvSpPr/>
          <p:nvPr/>
        </p:nvSpPr>
        <p:spPr>
          <a:xfrm>
            <a:off x="494640" y="228600"/>
            <a:ext cx="453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ECONOMIA INTER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0" y="83808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09480" y="1143000"/>
            <a:ext cx="7772400" cy="533412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a:t>
            </a:r>
            <a:r>
              <a:rPr b="0" lang="es-MX" sz="1600" spc="-1" strike="noStrike">
                <a:solidFill>
                  <a:srgbClr val="ffff00"/>
                </a:solidFill>
                <a:latin typeface="Arial Unicode MS"/>
              </a:rPr>
              <a:t>MIENTRAS LOS MERCANTILÍSTAS CREÍAN QUE UNA NACIÓN PODRÍA BENEFICIARSE SOLAMENTE A EXPENSAS DE OTRA Y PROMULGABAN UNA POLÍTICA NACIONAL DE PROTECCIONISMO, ADAM SMITH ARGUMENTABA CORRECTAMENTE QUE TODOS LOS PAÍSES PODRÍAN BENEFICIARSE DEL LIBRE COMERCIO”.</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a:t>
            </a:r>
            <a:r>
              <a:rPr b="0" lang="es-MX" sz="1600" spc="-1" strike="noStrike">
                <a:solidFill>
                  <a:srgbClr val="ffff00"/>
                </a:solidFill>
                <a:latin typeface="Arial Unicode MS"/>
              </a:rPr>
              <a:t>CON EL LIBRE COMERCIO, LOS RECURSO DEL MUNDO PODRIAN ASIGNARSE EFICIENTEMENTE, GENERANDO GANACIAS PARA TODOS Y CADA UNO DE LOS PAÍSES COMERCIANTES”.</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a:t>
            </a:r>
            <a:r>
              <a:rPr b="0" lang="es-MX" sz="1600" spc="-1" strike="noStrike">
                <a:solidFill>
                  <a:srgbClr val="ffff00"/>
                </a:solidFill>
                <a:latin typeface="Arial Unicode MS"/>
              </a:rPr>
              <a:t>CUALQUIER INTERFERENCIA CON EL LIBRE FLUJO DE COMERCIO IMPEDIRÍA LA ASIGNACIÓN EFICIENTE DE LOS RECURSOS EN TODO EL MUNDO Y LE NEGARÍA A LA COMUNIDAD MUNDIAL LA OPORTUNIDAD DE DISFRUTAR DE LAS POTENCIALES GANANCIAS DEL COMERCIO”.</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ECONOMÍA INTERNACIONAL.  MILTIADES CHACHOLIADES.  MC GRAW HILL MEXICO. 1992).</a:t>
            </a:r>
            <a:endParaRPr b="0" lang="en-US" sz="1600" spc="-1" strike="noStrike">
              <a:solidFill>
                <a:srgbClr val="000000"/>
              </a:solidFill>
              <a:latin typeface="Times New Roman"/>
            </a:endParaRPr>
          </a:p>
          <a:p>
            <a:pPr marL="609480" indent="-609480" algn="just">
              <a:lnSpc>
                <a:spcPct val="90000"/>
              </a:lnSpc>
              <a:spcBef>
                <a:spcPts val="400"/>
              </a:spcBef>
              <a:buClr>
                <a:srgbClr val="ffff00"/>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00"/>
                </a:solidFill>
                <a:latin typeface="Arial Unicode MS"/>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5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533520" y="1143000"/>
            <a:ext cx="7772400" cy="54864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N CADA UNO DE ESTOS CONTRATOS, LAS PARTES ACTUAN DE ACUERDO CON UN PRINCIPIO ECONÓMICO FUNDAMENTAL: EL INTERÉS PROPIO Y  LA EFICIENCIA.</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STO ES, OBTENER LA MAYOR CANTIDAD DE BENEFICIOS AL MENOR COSTO POSIBLE.</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N CONSECUENCIA, EN TODOS ESTOS CONTRATOS, QUE CONTIENEN TANTO NORMAS NACIONALES COMO INTERNACIONALES DE CIERTA COMPLEJIDAD, EXISTE UN SUSTRATO DE CARÁCTER ECONOMICO, QUE ES SU FUNDAMENTO Y LE OTORGA RACIONALIDAD A DICHAS NORMAS.</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STE SUSTRATO, LLAMADO “PRINCIPIO DE LUCRO” POR EL ECONOMISTA ADAM SMITH , SE ENCUENTRA EN LOS EMPRESARIOS DE TODO EL MUNDO, SIN DISTINCIONES DE NINGUNA ESPECI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5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533520" y="1295280"/>
            <a:ext cx="7772400" cy="533412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51"/>
              </a:spcBef>
              <a:buClr>
                <a:srgbClr val="ffffff"/>
              </a:buClr>
              <a:buFont typeface="Arial Unicode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DAM SMITH EN 1776 EN SU OBRA “LA RIQUEZA DE LAS NACIONES” PROPUSO EL LLAMADO “PRINCIPIO DEL LUCRO” O DE LA “MANO INVISIBLE”.</a:t>
            </a:r>
            <a:endParaRPr b="0" lang="en-US" sz="1800" spc="-1" strike="noStrike">
              <a:solidFill>
                <a:srgbClr val="000000"/>
              </a:solidFill>
              <a:latin typeface="Times New Roman"/>
            </a:endParaRPr>
          </a:p>
          <a:p>
            <a:pPr marL="609480" indent="-609480" algn="just">
              <a:lnSpc>
                <a:spcPct val="90000"/>
              </a:lnSpc>
              <a:spcBef>
                <a:spcPts val="451"/>
              </a:spcBef>
              <a:buClr>
                <a:srgbClr val="ffffff"/>
              </a:buClr>
              <a:buFont typeface="Arial Unicode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90000"/>
              </a:lnSpc>
              <a:spcBef>
                <a:spcPts val="451"/>
              </a:spcBef>
              <a:buClr>
                <a:srgbClr val="ffffff"/>
              </a:buClr>
              <a:buFont typeface="Arial Unicode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N SU OBRA “ECONOMÍA” LOS AUTORES WONNACOT Y WONNACOT  EXPRESAN:   “EL MENSAJE DE SMITH ERA CLARO.  LOS MERCADOS DEBERÍAN LIBERARSE DE LA TIRANÍA DEL CONTROL GUBERNAMENTAL.  EN LA BUSQUEDA DE SUS INTERESES PRIVADOS LOS PRODUCTORES INDIVIDUALES OBTENDRÍAN LOS BIENES QUE DESEABAN LOS CONSUMIDORES.  NO ES, DIJO SMITH, DE LA BENEVOLENCIA DEL CARNICERO, DEL CERVECERO O DEL PANADERO DE DONDE DEBEREMOS ESPERAR NUESTRA COMIDA, SINO DE LA CONSIDERACIÓN DE SUS PROPIOS INTERESES.  HAY UNA “MANO INVISIBLE”, QUE LLEVA AL PRODUCTOR A PROMOVER LOS INTERESES DE LA SOCIEDAD.  DE HECHO ES LA BUSQUEDA DE SU PROPIO INTERÉS QUE LLEVA AL PRODUCTOR A PROMOVER EL INTERES DE LA SOCIEDAD DE FORMA MÁS EFECTIVA”. (WONNACOT. ECONOMÍA. MC GRAW HILL. 199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5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33520" y="1219320"/>
            <a:ext cx="7772400" cy="533376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buClr>
                <a:srgbClr val="ffffff"/>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N LA VIDA COMERCIAL Y ECONÓMICA, EL SER HUMANO ACTÚA, SEGÚN LOS CASOS Y CIRCUNSTANCIAS, A VECES COMO VENDEDOR DE BIENES Y SERVICIOS Y A VECES COMO COMPRADOR DE BIENES Y SERVICIOS.</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ASÍ COMO EL PANADERO, EL CARNICERO Y EL CERVECERO VENDEN SUS PRODUCTOS A OTROS QUE SE LOS COMPRAN COMO,POR EJEMPLO, DUEÑAS DE CASAS, ABOGADOS, MÉDICOS, TAMBIÉN EL PANADERO, EL CARNICERO Y CERVECERO COMPRAN BIENES Y SERVICIOS.</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Font typeface="Arial Unicode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DE LA TEORIA DE LA” MANO INVISIBLE” SE CONCLUYE QUE CUANDO ACTUAMOS COMO VENDEDORES, ASPIRAMOS A VENDER LA MAYOR CANTIDAD DE BIENES Y SERVICIOS AL PRECIO MÁS ALTO POSIBLE Y CUANDO ACTUAMOS COMO COMPRADORES, QUEREMOS COMPRAR LA MAYOR CANTIDAD DE BIENES Y SERVICIOS AL PRECIO MÁS BARATO POSI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6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09480" y="1600200"/>
            <a:ext cx="7772400" cy="22096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buClr>
                <a:srgbClr val="ffffff"/>
              </a:buClr>
              <a:buSzPct val="110000"/>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LO ANTERIOR DA ORIGEN A LA TEORÍA DE LA OFERTA Y DEMANDA.</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SEGÚN LOS ECONOMISTAS CLÁSICOS, LA DEMANDA DE ALGÚN PRODUCTO TIENDE A AUMENTAR A MEDIDA QUE EL PRECIO DISMINUYE Y VICEVERSA.</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SzPct val="110000"/>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6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752480" y="1523880"/>
            <a:ext cx="0" cy="44960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752480" y="6019920"/>
            <a:ext cx="49532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042280" y="5958000"/>
            <a:ext cx="398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2     3     4     5     6     7     8     9    10</a:t>
            </a:r>
            <a:endParaRPr b="0" lang="en-US" sz="1800" spc="-1" strike="noStrike">
              <a:solidFill>
                <a:srgbClr val="000000"/>
              </a:solidFill>
              <a:latin typeface="Times New Roman"/>
            </a:endParaRPr>
          </a:p>
        </p:txBody>
      </p:sp>
      <p:sp>
        <p:nvSpPr>
          <p:cNvPr id="67" name=""/>
          <p:cNvSpPr/>
          <p:nvPr/>
        </p:nvSpPr>
        <p:spPr>
          <a:xfrm>
            <a:off x="1373400" y="2049480"/>
            <a:ext cx="409320" cy="3739680"/>
          </a:xfrm>
          <a:prstGeom prst="rect">
            <a:avLst/>
          </a:prstGeom>
          <a:noFill/>
          <a:ln w="0">
            <a:noFill/>
          </a:ln>
        </p:spPr>
        <p:style>
          <a:lnRef idx="0"/>
          <a:fillRef idx="0"/>
          <a:effectRef idx="0"/>
          <a:fontRef idx="minor"/>
        </p:style>
        <p:txBody>
          <a:bodyPr wrap="none" lIns="90000" rIns="90000" tIns="46800" bIns="46800" anchor="t">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68" name=""/>
          <p:cNvSpPr/>
          <p:nvPr/>
        </p:nvSpPr>
        <p:spPr>
          <a:xfrm>
            <a:off x="1752480" y="2971800"/>
            <a:ext cx="8384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2590920" y="2971440"/>
            <a:ext cx="0" cy="3048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752480" y="4114800"/>
            <a:ext cx="16765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3429000" y="4114800"/>
            <a:ext cx="0" cy="1905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752480" y="4876920"/>
            <a:ext cx="28958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4597560" y="4876560"/>
            <a:ext cx="0" cy="11430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752480" y="5257800"/>
            <a:ext cx="40388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5791320" y="5257440"/>
            <a:ext cx="0" cy="762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362320" y="2438280"/>
            <a:ext cx="3809880" cy="2895840"/>
          </a:xfrm>
          <a:custGeom>
            <a:avLst/>
            <a:gdLst/>
            <a:ahLst/>
            <a:rect l="l" t="t" r="r" b="b"/>
            <a:pathLst>
              <a:path w="2400" h="1824">
                <a:moveTo>
                  <a:pt x="0" y="0"/>
                </a:moveTo>
                <a:cubicBezTo>
                  <a:pt x="16" y="80"/>
                  <a:pt x="32" y="160"/>
                  <a:pt x="144" y="336"/>
                </a:cubicBezTo>
                <a:cubicBezTo>
                  <a:pt x="256" y="512"/>
                  <a:pt x="456" y="856"/>
                  <a:pt x="672" y="1056"/>
                </a:cubicBezTo>
                <a:cubicBezTo>
                  <a:pt x="888" y="1256"/>
                  <a:pt x="1192" y="1416"/>
                  <a:pt x="1440" y="1536"/>
                </a:cubicBezTo>
                <a:cubicBezTo>
                  <a:pt x="1688" y="1656"/>
                  <a:pt x="2000" y="1728"/>
                  <a:pt x="2160" y="1776"/>
                </a:cubicBezTo>
                <a:cubicBezTo>
                  <a:pt x="2320" y="1824"/>
                  <a:pt x="2360" y="1824"/>
                  <a:pt x="2400" y="1824"/>
                </a:cubicBezTo>
              </a:path>
            </a:pathLst>
          </a:custGeom>
          <a:noFill/>
          <a:ln w="5724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37340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
            </a:r>
            <a:endParaRPr b="0" lang="en-US" sz="2400" spc="-1" strike="noStrike">
              <a:solidFill>
                <a:srgbClr val="000000"/>
              </a:solidFill>
              <a:latin typeface="Times New Roman"/>
            </a:endParaRPr>
          </a:p>
        </p:txBody>
      </p:sp>
      <p:sp>
        <p:nvSpPr>
          <p:cNvPr id="78" name=""/>
          <p:cNvSpPr/>
          <p:nvPr/>
        </p:nvSpPr>
        <p:spPr>
          <a:xfrm>
            <a:off x="6250680" y="5943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a:t>
            </a:r>
            <a:endParaRPr b="0" lang="en-US" sz="2400" spc="-1" strike="noStrike">
              <a:solidFill>
                <a:srgbClr val="000000"/>
              </a:solidFill>
              <a:latin typeface="Times New Roman"/>
            </a:endParaRPr>
          </a:p>
        </p:txBody>
      </p:sp>
      <p:sp>
        <p:nvSpPr>
          <p:cNvPr id="79" name=""/>
          <p:cNvSpPr/>
          <p:nvPr/>
        </p:nvSpPr>
        <p:spPr>
          <a:xfrm>
            <a:off x="2592360" y="272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t>
            </a:r>
            <a:endParaRPr b="0" lang="en-US" sz="2000" spc="-1" strike="noStrike">
              <a:solidFill>
                <a:srgbClr val="000000"/>
              </a:solidFill>
              <a:latin typeface="Times New Roman"/>
            </a:endParaRPr>
          </a:p>
        </p:txBody>
      </p:sp>
      <p:sp>
        <p:nvSpPr>
          <p:cNvPr id="80" name=""/>
          <p:cNvSpPr/>
          <p:nvPr/>
        </p:nvSpPr>
        <p:spPr>
          <a:xfrm>
            <a:off x="3354120" y="37940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t>
            </a:r>
            <a:endParaRPr b="0" lang="en-US" sz="2000" spc="-1" strike="noStrike">
              <a:solidFill>
                <a:srgbClr val="000000"/>
              </a:solidFill>
              <a:latin typeface="Times New Roman"/>
            </a:endParaRPr>
          </a:p>
        </p:txBody>
      </p:sp>
      <p:sp>
        <p:nvSpPr>
          <p:cNvPr id="81" name=""/>
          <p:cNvSpPr/>
          <p:nvPr/>
        </p:nvSpPr>
        <p:spPr>
          <a:xfrm>
            <a:off x="4586040" y="45561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t>
            </a:r>
            <a:endParaRPr b="0" lang="en-US" sz="2000" spc="-1" strike="noStrike">
              <a:solidFill>
                <a:srgbClr val="000000"/>
              </a:solidFill>
              <a:latin typeface="Times New Roman"/>
            </a:endParaRPr>
          </a:p>
        </p:txBody>
      </p:sp>
      <p:sp>
        <p:nvSpPr>
          <p:cNvPr id="82" name=""/>
          <p:cNvSpPr/>
          <p:nvPr/>
        </p:nvSpPr>
        <p:spPr>
          <a:xfrm>
            <a:off x="5752440" y="493704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a:t>
            </a:r>
            <a:endParaRPr b="0" lang="en-US" sz="2000" spc="-1" strike="noStrike">
              <a:solidFill>
                <a:srgbClr val="000000"/>
              </a:solidFill>
              <a:latin typeface="Times New Roman"/>
            </a:endParaRPr>
          </a:p>
        </p:txBody>
      </p:sp>
      <p:sp>
        <p:nvSpPr>
          <p:cNvPr id="83" name=""/>
          <p:cNvSpPr/>
          <p:nvPr/>
        </p:nvSpPr>
        <p:spPr>
          <a:xfrm>
            <a:off x="2081520" y="2117880"/>
            <a:ext cx="2124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Times New Roman"/>
              </a:rPr>
              <a:t>Curva de deman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8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57200" y="1447920"/>
            <a:ext cx="7772400" cy="16002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buClr>
                <a:srgbClr val="ffffff"/>
              </a:buClr>
              <a:buFont typeface="Arial Unicode MS"/>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Unicode MS"/>
              </a:rPr>
              <a:t>EN CUANTO A LA OFERTA DE UN PRODUCTO, SEGÚN LA TEORÍA CLÁSICA, LOS VENDEDORES ESTARÁN DISPUESTOS A OFRECER MAYORES CANTIDADES DEL MISMO A MEDIDA QUE EL PRECIO SUBE, EN TANTO QUE SI EL PRECIO BAJA LA OFERTA TIENDE A DISMINUIR.</a:t>
            </a:r>
            <a:endParaRPr b="0" lang="en-US" sz="1800" spc="-1" strike="noStrike">
              <a:solidFill>
                <a:srgbClr val="000000"/>
              </a:solidFill>
              <a:latin typeface="Times New Roman"/>
            </a:endParaRPr>
          </a:p>
          <a:p>
            <a:pPr marL="609480" indent="-609480" algn="just">
              <a:lnSpc>
                <a:spcPct val="100000"/>
              </a:lnSpc>
              <a:spcBef>
                <a:spcPts val="451"/>
              </a:spcBef>
              <a:buClr>
                <a:srgbClr val="ffffff"/>
              </a:buClr>
              <a:buFont typeface="Arial Unicode MS"/>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gn="just">
              <a:lnSpc>
                <a:spcPct val="100000"/>
              </a:lnSpc>
              <a:spcBef>
                <a:spcPts val="45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
          <p:cNvSpPr/>
          <p:nvPr/>
        </p:nvSpPr>
        <p:spPr>
          <a:xfrm>
            <a:off x="2286000" y="1752480"/>
            <a:ext cx="0" cy="44960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286000" y="6248520"/>
            <a:ext cx="49528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575800" y="6186600"/>
            <a:ext cx="398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     2     3     4     5     6     7     8     9    10</a:t>
            </a:r>
            <a:endParaRPr b="0" lang="en-US" sz="1800" spc="-1" strike="noStrike">
              <a:solidFill>
                <a:srgbClr val="000000"/>
              </a:solidFill>
              <a:latin typeface="Times New Roman"/>
            </a:endParaRPr>
          </a:p>
        </p:txBody>
      </p:sp>
      <p:sp>
        <p:nvSpPr>
          <p:cNvPr id="90" name=""/>
          <p:cNvSpPr/>
          <p:nvPr/>
        </p:nvSpPr>
        <p:spPr>
          <a:xfrm>
            <a:off x="1906560" y="2278080"/>
            <a:ext cx="409320" cy="3739680"/>
          </a:xfrm>
          <a:prstGeom prst="rect">
            <a:avLst/>
          </a:prstGeom>
          <a:noFill/>
          <a:ln w="0">
            <a:noFill/>
          </a:ln>
        </p:spPr>
        <p:style>
          <a:lnRef idx="0"/>
          <a:fillRef idx="0"/>
          <a:effectRef idx="0"/>
          <a:fontRef idx="minor"/>
        </p:style>
        <p:txBody>
          <a:bodyPr wrap="none" lIns="90000" rIns="90000" tIns="46800" bIns="46800" anchor="t">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000000"/>
              </a:solidFill>
              <a:latin typeface="Times New Roman"/>
            </a:endParaRPr>
          </a:p>
        </p:txBody>
      </p:sp>
      <p:sp>
        <p:nvSpPr>
          <p:cNvPr id="91" name=""/>
          <p:cNvSpPr/>
          <p:nvPr/>
        </p:nvSpPr>
        <p:spPr>
          <a:xfrm>
            <a:off x="1906560" y="16765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
            </a:r>
            <a:endParaRPr b="0" lang="en-US" sz="2400" spc="-1" strike="noStrike">
              <a:solidFill>
                <a:srgbClr val="000000"/>
              </a:solidFill>
              <a:latin typeface="Times New Roman"/>
            </a:endParaRPr>
          </a:p>
        </p:txBody>
      </p:sp>
      <p:sp>
        <p:nvSpPr>
          <p:cNvPr id="92" name=""/>
          <p:cNvSpPr/>
          <p:nvPr/>
        </p:nvSpPr>
        <p:spPr>
          <a:xfrm>
            <a:off x="6782760" y="61722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a:t>
            </a:r>
            <a:endParaRPr b="0" lang="en-US" sz="2400" spc="-1" strike="noStrike">
              <a:solidFill>
                <a:srgbClr val="000000"/>
              </a:solidFill>
              <a:latin typeface="Times New Roman"/>
            </a:endParaRPr>
          </a:p>
        </p:txBody>
      </p:sp>
      <p:sp>
        <p:nvSpPr>
          <p:cNvPr id="93" name=""/>
          <p:cNvSpPr/>
          <p:nvPr/>
        </p:nvSpPr>
        <p:spPr>
          <a:xfrm>
            <a:off x="2286000" y="3200400"/>
            <a:ext cx="36576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5943600" y="3200040"/>
            <a:ext cx="0" cy="3048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944680" y="3200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J</a:t>
            </a:r>
            <a:endParaRPr b="0" lang="en-US" sz="2000" spc="-1" strike="noStrike">
              <a:solidFill>
                <a:srgbClr val="000000"/>
              </a:solidFill>
              <a:latin typeface="Times New Roman"/>
            </a:endParaRPr>
          </a:p>
        </p:txBody>
      </p:sp>
      <p:sp>
        <p:nvSpPr>
          <p:cNvPr id="96" name=""/>
          <p:cNvSpPr/>
          <p:nvPr/>
        </p:nvSpPr>
        <p:spPr>
          <a:xfrm>
            <a:off x="2286000" y="4343400"/>
            <a:ext cx="32767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5562720" y="4343400"/>
            <a:ext cx="0" cy="1905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563800" y="434340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a:t>
            </a:r>
            <a:endParaRPr b="0" lang="en-US" sz="2000" spc="-1" strike="noStrike">
              <a:solidFill>
                <a:srgbClr val="000000"/>
              </a:solidFill>
              <a:latin typeface="Times New Roman"/>
            </a:endParaRPr>
          </a:p>
        </p:txBody>
      </p:sp>
      <p:sp>
        <p:nvSpPr>
          <p:cNvPr id="99" name=""/>
          <p:cNvSpPr/>
          <p:nvPr/>
        </p:nvSpPr>
        <p:spPr>
          <a:xfrm>
            <a:off x="2286000" y="5486400"/>
            <a:ext cx="20574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4343400" y="5486040"/>
            <a:ext cx="0" cy="7621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344480" y="5486400"/>
            <a:ext cx="4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t>
            </a:r>
            <a:endParaRPr b="0" lang="en-US" sz="2000" spc="-1" strike="noStrike">
              <a:solidFill>
                <a:srgbClr val="000000"/>
              </a:solidFill>
              <a:latin typeface="Times New Roman"/>
            </a:endParaRPr>
          </a:p>
        </p:txBody>
      </p:sp>
      <p:sp>
        <p:nvSpPr>
          <p:cNvPr id="102" name=""/>
          <p:cNvSpPr/>
          <p:nvPr/>
        </p:nvSpPr>
        <p:spPr>
          <a:xfrm>
            <a:off x="3630600" y="2438280"/>
            <a:ext cx="2552760" cy="3137040"/>
          </a:xfrm>
          <a:custGeom>
            <a:avLst/>
            <a:gdLst/>
            <a:ahLst/>
            <a:rect l="l" t="t" r="r" b="b"/>
            <a:pathLst>
              <a:path w="1608" h="1976">
                <a:moveTo>
                  <a:pt x="1608" y="0"/>
                </a:moveTo>
                <a:cubicBezTo>
                  <a:pt x="1572" y="140"/>
                  <a:pt x="1536" y="280"/>
                  <a:pt x="1464" y="480"/>
                </a:cubicBezTo>
                <a:cubicBezTo>
                  <a:pt x="1392" y="680"/>
                  <a:pt x="1264" y="1000"/>
                  <a:pt x="1176" y="1200"/>
                </a:cubicBezTo>
                <a:cubicBezTo>
                  <a:pt x="1088" y="1400"/>
                  <a:pt x="1056" y="1560"/>
                  <a:pt x="936" y="1680"/>
                </a:cubicBezTo>
                <a:cubicBezTo>
                  <a:pt x="816" y="1800"/>
                  <a:pt x="600" y="1872"/>
                  <a:pt x="456" y="1920"/>
                </a:cubicBezTo>
                <a:cubicBezTo>
                  <a:pt x="312" y="1968"/>
                  <a:pt x="144" y="1960"/>
                  <a:pt x="72" y="1968"/>
                </a:cubicBezTo>
                <a:cubicBezTo>
                  <a:pt x="0" y="1976"/>
                  <a:pt x="12" y="1972"/>
                  <a:pt x="24" y="1968"/>
                </a:cubicBezTo>
              </a:path>
            </a:pathLst>
          </a:custGeom>
          <a:noFill/>
          <a:ln w="5724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35720" y="2057400"/>
            <a:ext cx="254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imes New Roman"/>
              </a:rPr>
              <a:t>Curva de O</a:t>
            </a:r>
            <a:r>
              <a:rPr b="1" i="1" lang="en-US" sz="2000" spc="-1" strike="noStrike">
                <a:solidFill>
                  <a:srgbClr val="ffffff"/>
                </a:solidFill>
                <a:latin typeface="Times New Roman"/>
              </a:rPr>
              <a:t>ferta</a:t>
            </a:r>
            <a:endParaRPr b="0" lang="en-US" sz="2000" spc="-1" strike="noStrike">
              <a:solidFill>
                <a:srgbClr val="000000"/>
              </a:solidFill>
              <a:latin typeface="Times New Roman"/>
            </a:endParaRPr>
          </a:p>
        </p:txBody>
      </p:sp>
      <p:sp>
        <p:nvSpPr>
          <p:cNvPr id="104" name=""/>
          <p:cNvSpPr/>
          <p:nvPr/>
        </p:nvSpPr>
        <p:spPr>
          <a:xfrm>
            <a:off x="2286000" y="5105520"/>
            <a:ext cx="28195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130720" y="5105160"/>
            <a:ext cx="0" cy="11430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107320" y="51055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t>
            </a:r>
            <a:endParaRPr b="0" lang="en-US" sz="2000" spc="-1" strike="noStrike">
              <a:solidFill>
                <a:srgbClr val="000000"/>
              </a:solidFill>
              <a:latin typeface="Times New Roman"/>
            </a:endParaRPr>
          </a:p>
        </p:txBody>
      </p:sp>
      <p:sp>
        <p:nvSpPr>
          <p:cNvPr id="107" name=""/>
          <p:cNvSpPr/>
          <p:nvPr/>
        </p:nvSpPr>
        <p:spPr>
          <a:xfrm>
            <a:off x="530280" y="304920"/>
            <a:ext cx="51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INTRODUCCION A LA ECONOMIA</a:t>
            </a:r>
            <a:endParaRPr b="0" lang="en-US" sz="2400" spc="-1" strike="noStrike">
              <a:solidFill>
                <a:srgbClr val="000000"/>
              </a:solidFill>
              <a:latin typeface="Times New Roman"/>
            </a:endParaRPr>
          </a:p>
        </p:txBody>
      </p:sp>
      <p:sp>
        <p:nvSpPr>
          <p:cNvPr id="10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LLLB</cp:lastModifiedBy>
  <dcterms:modified xsi:type="dcterms:W3CDTF">2004-03-16T14:21:49Z</dcterms:modified>
  <cp:revision>2</cp:revision>
  <dc:subject/>
  <dc:title>PowerPoint Presentation</dc:title>
</cp:coreProperties>
</file>