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801600" cy="9601200"/>
  <p:notesSz cx="91074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7CEF-3923-47D2-BC4B-E3EC3363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DE8-AC39-4357-9EA0-D5D5C832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A63-3A71-446A-BA91-D031DF4E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DF7-610B-4619-BDA3-81AE68BB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E69-A42D-4905-B3FD-688C0731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42E-9515-432D-8124-63F05E52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BEC-177C-4340-A914-2522D3A3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74A-BBDE-4151-9475-92DDFE03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B60-85B6-4B42-9B25-D41F85BA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141-1E0B-4E09-847D-8BDF2021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7C7-8391-43D7-8CCE-85AE43CD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CC4-ACB2-4736-B418-9C31D5C1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marL="266760" indent="-266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22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177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44520" indent="-177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indent="0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s-E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s-E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indent="0" algn="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s-E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fld id="{979848A8-30B6-445D-974B-2DB0F43197CF}" type="slidenum">
              <a:rPr b="0" lang="es-E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12760"/>
            <a:ext cx="12450600" cy="82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10800" spc="-1" strike="noStrike">
                <a:solidFill>
                  <a:srgbClr val="333399"/>
                </a:solidFill>
                <a:latin typeface="Arial"/>
              </a:rPr>
              <a:t>INCOTERMS 2000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DISTRIBUCIÓN DE COSTOS, RIESGOS 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TRANSPORTE DE MERCADE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63988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73120" y="8794800"/>
            <a:ext cx="391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JOSÉ LUIS LÓPEZ BLA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SANTIAGO,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352440" y="2784600"/>
            <a:ext cx="131698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BAJO LOS  TERMINOS 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EL VENDEDOR CONTRATA Y PAGA EL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PRINCIPAL PERO SIN ASUMIR EL RIESGO DEL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GRUPO  C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3720" y="5664240"/>
            <a:ext cx="51134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F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st an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r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69160" y="5675400"/>
            <a:ext cx="6264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I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st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nsurance an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e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P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rriage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i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2208240"/>
            <a:ext cx="128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EL TRANSPORTE PRINCIPAL  ES DE CARGO DEL VEND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969160" y="7680240"/>
            <a:ext cx="6264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rriage, Insurance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id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CFR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st and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R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e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404120" y="3708360"/>
            <a:ext cx="54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LLEGAN A PUER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STINO, ASUMIENDO EL COMPRAD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OS CORRESPONDIENTES SEGÚ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TRATO DE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41200" y="5999040"/>
            <a:ext cx="55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CRUZAN LA BORD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BUQUE    EN    EL    PUERTO   DE  EMBAR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480800" y="8194680"/>
            <a:ext cx="541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122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CIF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st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nsurance and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e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404120" y="3852720"/>
            <a:ext cx="54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LLEGAN A PUER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STINO, ASUMIENDO EL COMPRAD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OS CORRESPONDIENTES SEGÚ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TRATO DE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441200" y="5999040"/>
            <a:ext cx="55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CRUZAN LA BORD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BUQUE    EN    EL    PUERTO   DE  EMBAR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479360" y="8194680"/>
            <a:ext cx="541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L    TRANSPORTE  Y  SEGURO   DEBE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0877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CPT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arriage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aid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404120" y="3852720"/>
            <a:ext cx="54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LLEGAN A PUER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STINO, ASUMIENDO EL COMPRAD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OS CORRESPONDIENTES SEGÚ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TRATO DE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439040" y="5999040"/>
            <a:ext cx="539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 SE ENTREGRAN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PRIMER TRANSPORTISTA PARA QU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TRASLADE A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0877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CIP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arriage,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 I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nsurance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aid 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404120" y="3852720"/>
            <a:ext cx="54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LLEGAN A PUER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STINO, ASUMIENDO EL COMPRAD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OS CORRESPONDIENTES SEGÚ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TRATO DE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439040" y="5999040"/>
            <a:ext cx="539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 SE ENTREGRAN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PRIMER TRANSPORTISTA PARA QU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TRASLADE A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37644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1865160" y="1500120"/>
            <a:ext cx="7920360" cy="128448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1081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44800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790720" y="3238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1320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47328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8163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1544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49748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8387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932120" y="323856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18148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47056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813280" y="3238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1545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496200" y="32385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83892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1769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5024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84368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81867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5248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1146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454120" y="3557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9720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1384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47976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8228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1608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503600" y="3557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8448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938240" y="355752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18796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47704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81976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1610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50232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84540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1834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5088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85016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1932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85312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1146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454120" y="3917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79720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1384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7976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8228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1608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503600" y="3917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8448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938240" y="391788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18796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47704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81976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1610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50232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84540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1834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5088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85016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81932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5312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11464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454120" y="602460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97200" y="60246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384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47976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82284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1608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503600" y="602460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8448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938240" y="602460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18796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77040" y="60246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819760" y="60246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16104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50232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4540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18344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5088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85016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19324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5312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12076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60600" y="634356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803680" y="634356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14496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48624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82896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167360" y="634356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510080" y="634356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85136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944720" y="634356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9444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483160" y="634356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826240" y="634356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16752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0880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85152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189920" y="634356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515360" y="634356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85664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819936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53740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12076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460600" y="67039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803680" y="6703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14496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8624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82896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167360" y="671364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510080" y="6703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136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944720" y="670392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9444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483160" y="67039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826240" y="6703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16752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50880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85152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189920" y="6703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515360" y="6703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85664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9936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53740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11464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454120" y="74739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797200" y="7473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1384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47976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82284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1608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503600" y="74739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8448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938240" y="747396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18796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477040" y="7473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819760" y="7473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0232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84540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18344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5088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85016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19324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85312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12076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460600" y="77929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803680" y="7792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496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48624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82896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167360" y="7792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510080" y="7792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85136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944720" y="779292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19444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483160" y="77929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826240" y="7792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16752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50880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5152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89920" y="7792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515360" y="7792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85664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819936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853740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12076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460600" y="81532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803680" y="81532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14496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48624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2896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67360" y="815328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510080" y="81532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85136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44720" y="815328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19444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483160" y="81532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826240" y="81532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16752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50880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85152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89920" y="815328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515360" y="815328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85664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819936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53740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3360" y="73080"/>
            <a:ext cx="5040360" cy="646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ff00"/>
                </a:solidFill>
                <a:latin typeface="Arial"/>
              </a:rPr>
              <a:t>GRUPO 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9137520" y="338472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F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9137520" y="472932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I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11284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452680" y="45846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795760" y="45846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137040" y="458460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832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82104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15908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502160" y="45846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84344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936800" y="458460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8652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475240" y="45846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818320" y="45846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15960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50088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4360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182000" y="458460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507440" y="458460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84872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19144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52948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11932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459160" y="4903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801880" y="49039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4316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48444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82752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6556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508640" y="4903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84992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943280" y="490392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19264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481720" y="4903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824440" y="49039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16572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50700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85008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18812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51356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85484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19792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853596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11932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459160" y="5264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801880" y="52642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14316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48444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82752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16556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508640" y="5264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84992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943280" y="52642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19264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481720" y="5264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824440" y="52642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16572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50700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85008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718812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51356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785484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19792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53596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9209160" y="612144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P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192800" y="1055520"/>
            <a:ext cx="0" cy="7488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529160" y="984240"/>
            <a:ext cx="0" cy="5832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9209160" y="762948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816440" y="1055520"/>
            <a:ext cx="0" cy="712800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352440" y="2063880"/>
            <a:ext cx="13169880" cy="16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BAJO  LOS   TERMINOS  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EL  COSTO Y  RIESGO DEL VENDEDOR SE MAXIMIZA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PUESTO QUE TIENE QUE HACER DISPONIBLES LAS MERCANCIAS AL COMPRAD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A SU LLEGADA EN EL LUGAR DE DESTIN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GRUPO  D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23720" y="5664240"/>
            <a:ext cx="51134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969160" y="4079880"/>
            <a:ext cx="6264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D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ty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969160" y="5675400"/>
            <a:ext cx="6264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D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ty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n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23720" y="4092480"/>
            <a:ext cx="51134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A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ont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AF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ont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339320" y="4114800"/>
            <a:ext cx="55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VENDEDOR     AL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AS     MERCADERIAS HAN SIDO ENTREG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N EL LUGAR CONVENIDOEN LA FRON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339320" y="6058080"/>
            <a:ext cx="55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S     MERCADERIAS HAN SIDO ENTREG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N EL LUGAR CONVENIDO EN LA FRONT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016080" y="2855880"/>
            <a:ext cx="252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087720" y="2784600"/>
            <a:ext cx="2521080" cy="936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2"/>
          <a:stretch/>
        </p:blipFill>
        <p:spPr>
          <a:xfrm>
            <a:off x="3736800" y="2496960"/>
            <a:ext cx="1366920" cy="91152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4672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ES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224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481880" y="4114800"/>
            <a:ext cx="547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AL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MERCADERIAS SE PONEN A DISP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CIÓN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L COMPRADOR A BORDO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BUQUE EN EL PUERTO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434720" y="5999040"/>
            <a:ext cx="555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RIESGO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SE PONEN A DISP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IÓN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L COMPRADOR A BORDO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BUQUE EN EL PUERTO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39280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EQ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297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7481880" y="4114800"/>
            <a:ext cx="554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AL 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L   COMPRADOR   EN  EL   MUELLE  EN  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PUERTO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268760" y="5999040"/>
            <a:ext cx="56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RIESGOS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L  COMPRADOR   EN   EL   MUELLE   EN   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PUERTO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LEYENDA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3720" y="3216240"/>
            <a:ext cx="7201080" cy="166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0240" y="7026120"/>
            <a:ext cx="16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RO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AÍ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7080" y="70326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ADU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47880" y="7026120"/>
            <a:ext cx="181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TRANSPO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LOCAL P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25480" y="7032600"/>
            <a:ext cx="17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UERTO P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06960" y="703908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UERTO 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407988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0800" y="429588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3" idx="4"/>
            <a:endCxn id="48" idx="0"/>
          </p:cNvCxnSpPr>
          <p:nvPr/>
        </p:nvCxnSpPr>
        <p:spPr>
          <a:xfrm flipH="1" rot="16200000">
            <a:off x="2792520" y="3727080"/>
            <a:ext cx="2449800" cy="4161600"/>
          </a:xfrm>
          <a:prstGeom prst="bentConnector3">
            <a:avLst>
              <a:gd name="adj1" fmla="val 49970"/>
            </a:avLst>
          </a:prstGeom>
          <a:ln w="3492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1144440" y="429732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84440" y="429732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422424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5282280" y="4478040"/>
            <a:ext cx="2527920" cy="2451960"/>
          </a:xfrm>
          <a:prstGeom prst="bentConnector3">
            <a:avLst>
              <a:gd name="adj1" fmla="val 72610"/>
            </a:avLst>
          </a:prstGeom>
          <a:ln w="3492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8850240" y="7053120"/>
            <a:ext cx="181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TRANSPO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LOCAL P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3880" y="4081320"/>
            <a:ext cx="431640" cy="28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0" idx="4"/>
            <a:endCxn id="59" idx="0"/>
          </p:cNvCxnSpPr>
          <p:nvPr/>
        </p:nvCxnSpPr>
        <p:spPr>
          <a:xfrm flipH="1" rot="16200000">
            <a:off x="6882840" y="4175640"/>
            <a:ext cx="2684880" cy="3070800"/>
          </a:xfrm>
          <a:prstGeom prst="bentConnector3">
            <a:avLst>
              <a:gd name="adj1" fmla="val 49966"/>
            </a:avLst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39720" y="4513320"/>
            <a:ext cx="0" cy="2374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4"/>
            <a:endCxn id="49" idx="0"/>
          </p:cNvCxnSpPr>
          <p:nvPr/>
        </p:nvCxnSpPr>
        <p:spPr>
          <a:xfrm flipH="1" rot="16200000">
            <a:off x="837360" y="5106600"/>
            <a:ext cx="2442240" cy="1397880"/>
          </a:xfrm>
          <a:prstGeom prst="bentConnector3">
            <a:avLst>
              <a:gd name="adj1" fmla="val 67536"/>
            </a:avLst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10724400" y="7032600"/>
            <a:ext cx="170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AÍ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64440" y="407988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6"/>
            <a:endCxn id="64" idx="0"/>
          </p:cNvCxnSpPr>
          <p:nvPr/>
        </p:nvCxnSpPr>
        <p:spPr>
          <a:xfrm>
            <a:off x="7696080" y="4223880"/>
            <a:ext cx="3880800" cy="2809080"/>
          </a:xfrm>
          <a:prstGeom prst="bentConnector2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flipV="1">
            <a:off x="6113520" y="4368600"/>
            <a:ext cx="0" cy="1439640"/>
          </a:xfrm>
          <a:prstGeom prst="line">
            <a:avLst/>
          </a:prstGeom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3160" y="4008600"/>
            <a:ext cx="57600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8" idx="4"/>
            <a:endCxn id="50" idx="0"/>
          </p:cNvCxnSpPr>
          <p:nvPr/>
        </p:nvCxnSpPr>
        <p:spPr>
          <a:xfrm flipH="1" rot="16200000">
            <a:off x="2316240" y="4925160"/>
            <a:ext cx="2592720" cy="1621440"/>
          </a:xfrm>
          <a:prstGeom prst="bentConnector3">
            <a:avLst>
              <a:gd name="adj1" fmla="val 34536"/>
            </a:avLst>
          </a:prstGeom>
          <a:ln w="34920">
            <a:solidFill>
              <a:srgbClr val="ff99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DU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ty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n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370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7306560" y="411480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 COSTOS      SE 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AL       COMPRADOR 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MERCADERIAS SE  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L COMPRADOR   EN   EL MEDI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TRANSPORTE  ANTES DE PAGA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RECHOS DE ADU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7404120" y="5999040"/>
            <a:ext cx="555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RIESGOS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L COMPRADOR  EN  EL MEDIOI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TRANSPORTE EN  LUGAR DE 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 CONVENIDO    DESPU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  PAGADOS LOS  DERECHOS DE ADU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DP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livered Duty 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2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443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404120" y="3792600"/>
            <a:ext cx="554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AL 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L COMPRADOR  EN  EL MEDI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TRANSPORTE EN EL LUGAR DE 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VENIDO  DESPUES   DE    PAGADOS  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RECHOS DE ADU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7332480" y="5981760"/>
            <a:ext cx="561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RIESGOS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L COMPRADOR  EN  EL MEDIOI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TRANSPORTELUGAR DE 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    DESPUES    DE  PAGADOS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RECHOS DE ADU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733752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676116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" descr=""/>
          <p:cNvPicPr/>
          <p:nvPr/>
        </p:nvPicPr>
        <p:blipFill>
          <a:blip r:embed="rId1"/>
          <a:stretch/>
        </p:blipFill>
        <p:spPr>
          <a:xfrm>
            <a:off x="1865160" y="1500120"/>
            <a:ext cx="7920360" cy="128448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/>
          <p:nvPr/>
        </p:nvSpPr>
        <p:spPr>
          <a:xfrm>
            <a:off x="210816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448000" y="2855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790720" y="28558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13200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47328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81636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415440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497480" y="2855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83876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32120" y="28558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18148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470560" y="2855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813280" y="28558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615456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496200" y="28558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83892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17696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0240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368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818676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852480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11464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454120" y="31748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797200" y="3174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31384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47976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82284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1608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503600" y="31748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8448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938240" y="317484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518796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5477040" y="3174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5819760" y="3174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16104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50232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84540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18344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75088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785016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819324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85312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11464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454120" y="35352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797200" y="3535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1384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47976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382284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1608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4503600" y="35352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48448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1938240" y="353520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18796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5477040" y="3535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5819760" y="3535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16104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650232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84540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18344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5088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785016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819324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85312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11464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2454120" y="53769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797200" y="5376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1384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347976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82284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41608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503600" y="53769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8448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938240" y="537696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518796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5477040" y="5376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819760" y="5376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616104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650232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84540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718344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5088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785016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819324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85312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12076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2460600" y="56959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803680" y="5695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314496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48624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82896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4167360" y="569592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4510080" y="5695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485136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1944720" y="569592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519444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5483160" y="56959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5826240" y="5695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616752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650880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85152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7189920" y="569592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515360" y="569592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785664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819936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853740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12076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2460600" y="60562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2803680" y="6056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14496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348624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82896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4167360" y="606600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510080" y="6056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85136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1944720" y="60562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19444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483160" y="60562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5826240" y="6056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616752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650880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685152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7189920" y="60562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7515360" y="60562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785664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819936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853740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211464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2454120" y="667224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2797200" y="66722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1384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347976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82284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1608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503600" y="667224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8448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938240" y="667224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18796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477040" y="66722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819760" y="66722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16104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50232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84540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718344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75088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785016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819324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85312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212076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460600" y="706284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803680" y="70628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14496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48624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82896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167360" y="706284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4510080" y="70628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85136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944720" y="706284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19444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5483160" y="706284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826240" y="70628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616752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50880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685152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189920" y="706284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515360" y="706284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85664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819936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853740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12076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2460600" y="742320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2803680" y="74232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14496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48624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382896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167360" y="742320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510080" y="74232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485136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944720" y="742320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19444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5483160" y="742320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826240" y="74232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16752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50880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85152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189920" y="742320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515360" y="742320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85664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19936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53740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3360" y="73080"/>
            <a:ext cx="5040360" cy="646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ff00"/>
                </a:solidFill>
                <a:latin typeface="Arial"/>
              </a:rPr>
              <a:t>GRUPO 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9137520" y="300204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A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9137520" y="422424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11284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2452680" y="4079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2795760" y="4079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137040" y="40798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47832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82104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15908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502160" y="4079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484344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936800" y="40798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18652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475240" y="40798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818320" y="4079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615960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50088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684360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182000" y="40798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7507440" y="40798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784872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19144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52948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11932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459160" y="4398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801880" y="43988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314316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48444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82752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08640" y="4398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484992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943280" y="439884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19264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5481720" y="4398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5824440" y="43988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16572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50700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685008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718812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751356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785484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819792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853596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11932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459160" y="4759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2801880" y="47592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14316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48444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382752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416556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4508640" y="4759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484992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943280" y="475920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519264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481720" y="4759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824440" y="47592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616572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50700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685008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718812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51356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785484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819792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853596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9137520" y="5473800"/>
            <a:ext cx="136872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192800" y="1055520"/>
            <a:ext cx="0" cy="669780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905520" y="1055520"/>
            <a:ext cx="0" cy="4032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9137520" y="6816600"/>
            <a:ext cx="129564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D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11284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452680" y="80517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2795760" y="80517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137040" y="80517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347832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382104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415908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4502160" y="80517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484344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936800" y="805176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518652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475240" y="80517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818320" y="80517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615960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50088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684360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7182000" y="80517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7507440" y="80517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784872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819144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852948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211932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2459160" y="84423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2801880" y="84423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14316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48444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82752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416556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508640" y="84423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84992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1943280" y="844236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519264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481720" y="84423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824440" y="84423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16572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650700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685008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718812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751356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785484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819792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853596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211932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459160" y="88027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2801880" y="88027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14316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48444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2752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16556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4508640" y="88027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84992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943280" y="880272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519264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481720" y="88027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5824440" y="88027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616572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50700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685008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18812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751356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785484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819792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853596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9137520" y="819612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D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8201160" y="1271520"/>
            <a:ext cx="71280" cy="777708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"/>
          <p:cNvSpPr/>
          <p:nvPr/>
        </p:nvSpPr>
        <p:spPr>
          <a:xfrm>
            <a:off x="0" y="1112760"/>
            <a:ext cx="12450600" cy="82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10800" spc="-1" strike="noStrike">
                <a:solidFill>
                  <a:srgbClr val="333399"/>
                </a:solidFill>
                <a:latin typeface="Arial"/>
              </a:rPr>
              <a:t>INCOTERMS 2000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DISTRIBUCIÓN DE COSTOS, RIESGOS 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TRANSPORTE DE MERCADE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0" y="263988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8673120" y="8794800"/>
            <a:ext cx="391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JOSÉ LUIS LÓPEZ BLA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SANTIAGO,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0" y="9144000"/>
            <a:ext cx="914400" cy="91440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5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68440" y="2855880"/>
            <a:ext cx="131698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BAJO EL TERMINO</a:t>
            </a:r>
            <a:r>
              <a:rPr b="1" lang="es-CL" sz="2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EXW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EL VENDEDOR MINIMIZA SU RIESGO AL HAC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DISPONIBLES LAS MERCADERIAS EN SU PROPIO ESTABLECIMIENT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GRUPO  E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4656240"/>
            <a:ext cx="51116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X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X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34880" y="192240"/>
            <a:ext cx="52801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EXW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EX W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04840" y="4056120"/>
            <a:ext cx="553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AS       MERCADERIAS       SE        PONEN      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ISPOSICIÓN   DEL    COMPRADOR    EN     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STABLECIMIENTO DEL VENDE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35800" y="5999040"/>
            <a:ext cx="523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OS    RIESGOS    SE     TRANSFIEREN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NDEDOR  AL  COMPRADOR  CUANDO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ERCADERIAS  SE  PONEN  A 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L COMPRADOR EN EL ESTABL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L VENDE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80800" y="8278920"/>
            <a:ext cx="541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R   EL COMPRADOR.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52440" y="2174760"/>
            <a:ext cx="7200720" cy="1660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0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52440" y="3287880"/>
            <a:ext cx="131698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BAJO LOS  TERMINOS 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EL VENDEDOR CONTRATA LOS TRANSPORTES INTERN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HASTA LUGAR DE EMBARQUE EN EL PAIS DE EXPORT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GRUPO  F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6800" y="5664240"/>
            <a:ext cx="504036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ee 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A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r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21520" y="5675400"/>
            <a:ext cx="51116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ee 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longside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O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ee 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n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ar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08240"/>
            <a:ext cx="128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EL TRANSPORTE PRINCIPAL NO ES DE CARGO DEL VEND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34880" y="192240"/>
            <a:ext cx="64231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FCA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ee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 CA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ri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4008600"/>
            <a:ext cx="559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MERCADERIAS HAN SIDO ENTR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AL   TRANSPORTISTA   EN    EL    LUGAR  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EMBARQUE CONV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15200" y="5999040"/>
            <a:ext cx="562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HAN SIDO ENTR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AL   TRANSPORTISTA   EN    EL    LUGAR  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EMBARQUE CONV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8113680"/>
            <a:ext cx="5556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OR    EL  COMPRADOR,  O  POR CUENT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OMPR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7644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FAS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PUERTO DE EMBARQUE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ee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 A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longside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hi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09880" y="4008600"/>
            <a:ext cx="547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HAN SIDO PUESTA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ADO   DEL   BUQUE   EN EL PUERTO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EMBARQUE CONV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40120" y="5999040"/>
            <a:ext cx="541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HAN SIDO PUESTA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STADO  DEL   BUQUE   EN EL PUERTO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EMBARQUE CONV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480800" y="8194680"/>
            <a:ext cx="541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R    EL  COMPRA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55720" y="2057400"/>
            <a:ext cx="0" cy="6840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FOB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PUERTO DE EMBARQUE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ee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 O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n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ar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10600" y="4008600"/>
            <a:ext cx="560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CRUZAN LA BORD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BUQUE    EN    EL    PUERTO   DE  EMBAR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VE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41200" y="5999040"/>
            <a:ext cx="55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CRUZAN LA BORD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BUQUE    EN    EL    PUERTO   DE  EMBAR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480800" y="8194680"/>
            <a:ext cx="541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R    EL  COMPRA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0516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079720" y="1500120"/>
            <a:ext cx="7920000" cy="12844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3223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62200" y="3238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0528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465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8784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305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368960" y="32385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1168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529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46320" y="323856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04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84760" y="3238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2784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6912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104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5312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169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5824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4009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739360" y="32385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288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6868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11400" y="3557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9396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0370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750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1816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594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52800" y="355752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40216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9124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33960" y="3557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752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16880" y="35575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5960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3976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7230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6436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4074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7454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3288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6868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11400" y="3917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9396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370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3750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1816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0594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52800" y="391788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0216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9124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33960" y="3917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752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16880" y="391788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05960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976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230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6436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4074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7454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2884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68680" y="55324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011400" y="55324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35268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9396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3704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7508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8160" y="55324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05944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52800" y="55324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0216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691240" y="55324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033960" y="55324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7524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716880" y="55324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05960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9764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72308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06436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40744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74548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3532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674800" y="58514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17880" y="58514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3591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70044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04352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815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24280" y="58514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655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158920" y="585144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40864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97360" y="58514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0440" y="58514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38172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72300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6608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0412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7295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07084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1392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519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3532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74800" y="62118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17880" y="62118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3591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70044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4352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3815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24280" y="62118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0655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158920" y="621180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40864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697360" y="62118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40440" y="62118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38172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72300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6608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40412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7295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07084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1392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7519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2884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668680" y="7837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11400" y="7837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69396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3704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7508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18160" y="7837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5944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52800" y="783756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40216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691240" y="7837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33960" y="7837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7524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16880" y="78375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5960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9764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72308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6436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40744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74548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3532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674800" y="8156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017880" y="8156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591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0044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04352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3815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24280" y="8156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0655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58920" y="815652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0864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697360" y="8156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40440" y="8156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8172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2300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6608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40412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7295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07084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1392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7519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3532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674800" y="8516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17880" y="8516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591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70044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04352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3815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516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0655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58920" y="851688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40864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697360" y="8516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40440" y="8516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38172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2300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6608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0412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7295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07084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41392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7519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9353520" y="3360600"/>
            <a:ext cx="136692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353520" y="5664240"/>
            <a:ext cx="136692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9425160" y="7969320"/>
            <a:ext cx="143964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O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384800" y="1428840"/>
            <a:ext cx="0" cy="5040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32080" y="1447920"/>
            <a:ext cx="0" cy="280800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5033520" y="1500120"/>
            <a:ext cx="71640" cy="734544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36440" y="144360"/>
            <a:ext cx="5040360" cy="646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ff00"/>
                </a:solidFill>
                <a:latin typeface="Arial"/>
              </a:rPr>
              <a:t>GRUPO 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23:08:09Z</dcterms:created>
  <dc:creator>LOPEZ REITZE</dc:creator>
  <dc:description/>
  <dc:language>en-US</dc:language>
  <cp:lastModifiedBy>jllb</cp:lastModifiedBy>
  <dcterms:modified xsi:type="dcterms:W3CDTF">2003-08-25T20:24:58Z</dcterms:modified>
  <cp:revision>25</cp:revision>
  <dc:subject/>
  <dc:title>Diapositiva 1</dc:title>
</cp:coreProperties>
</file>