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801600" cy="9601200"/>
  <p:notesSz cx="910748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AC12-53B5-41DF-8B25-A6AFF9FB5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9849-7D85-4481-ACB6-E3DACECC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DAAB-6088-4031-8E34-B238A865A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90B9-8A5A-439D-9B7E-F3E1FA47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A111-2C9A-4E86-ADFB-D91D9D1A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B2E9-9577-45D3-AB62-83E97DC1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35D6-32B2-4B25-9FF8-177A8966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E469-AA92-4F9F-97A7-866DCE31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3172-9EA7-401E-8C34-D7F6F59E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8C7B-2354-48DB-9B69-A65FB90D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2679-3B46-4763-BB2A-2579144B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1663-1971-4951-A3A4-77144067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marL="266760" indent="-266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221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1774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244520" indent="-177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17784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17784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17784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Autofit/>
          </a:bodyPr>
          <a:lstStyle>
            <a:lvl1pPr indent="0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  <a:defRPr b="0" lang="es-E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40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Autofit/>
          </a:bodyPr>
          <a:lstStyle>
            <a:lvl1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  <a:defRPr b="0" lang="es-E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Autofit/>
          </a:bodyPr>
          <a:lstStyle>
            <a:lvl1pPr indent="0" algn="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  <a:defRPr b="0" lang="es-E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fld id="{085A6DEB-E0D6-40DB-B3E4-A4781B4B2313}" type="slidenum">
              <a:rPr b="0" lang="es-E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112760"/>
            <a:ext cx="12450600" cy="82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10800" spc="-1" strike="noStrike">
                <a:solidFill>
                  <a:srgbClr val="333399"/>
                </a:solidFill>
                <a:latin typeface="Arial"/>
              </a:rPr>
              <a:t>INCOTERMS 2000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DISTRIBUCIÓN DE COSTOS, RIESGOS Y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TRANSPORTE DE MERCADERI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63988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673120" y="8794800"/>
            <a:ext cx="3914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JOSÉ LUIS LÓPEZ BLAN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SANTIAGO, 20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352440" y="2784600"/>
            <a:ext cx="1316988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br>
              <a:rPr sz="1400"/>
            </a:b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BAJO LOS  TERMINOS  </a:t>
            </a:r>
            <a:r>
              <a:rPr b="1" lang="es-CL" sz="40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 EL VENDEDOR CONTRATA Y PAGA EL TRANSPOR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PRINCIPAL PERO SIN ASUMIR EL RIESGO DEL TRANSPOR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0" y="1992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95360" y="696960"/>
            <a:ext cx="11522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ctr">
            <a:no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7200" spc="-1" strike="noStrike">
                <a:solidFill>
                  <a:srgbClr val="333399"/>
                </a:solidFill>
                <a:latin typeface="Arial"/>
              </a:rPr>
              <a:t>GRUPO  C</a:t>
            </a:r>
            <a:r>
              <a:rPr b="1" lang="es-CL" sz="7200" spc="-1" strike="noStrike">
                <a:solidFill>
                  <a:srgbClr val="333399"/>
                </a:solidFill>
                <a:latin typeface="Arial"/>
              </a:rPr>
              <a:t>	</a:t>
            </a:r>
            <a:br>
              <a:rPr sz="34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23720" y="5664240"/>
            <a:ext cx="511344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CF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ost and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Fr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eigh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969160" y="5675400"/>
            <a:ext cx="626400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CI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ost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nsurance and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reigh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23720" y="7691400"/>
            <a:ext cx="511200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CP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arriage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aid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0" y="2208240"/>
            <a:ext cx="1280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2800" spc="-1" strike="noStrike">
                <a:solidFill>
                  <a:srgbClr val="800000"/>
                </a:solidFill>
                <a:latin typeface="Arial"/>
              </a:rPr>
              <a:t>EL TRANSPORTE PRINCIPAL  ES DE CARGO DEL VENDE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969160" y="7680240"/>
            <a:ext cx="626400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CI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arriage, Insurance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aid 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434880" y="192240"/>
            <a:ext cx="79819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CFR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(... INDICANDO PUERTO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ost and </a:t>
            </a: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FR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eigh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352440" y="2428920"/>
            <a:ext cx="7920000" cy="128412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404120" y="3708360"/>
            <a:ext cx="547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OS     COSTOS      SE      TRANSFIEREN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VENDEDOR      AL     COMPRADOR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AS      MERCADERIAS LLEGAN A PUERT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DESTINO, ASUMIENDO EL COMPRADOR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COSTOS CORRESPONDIENTES SEGÚN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CONTRATO DE COMPRAVEN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441200" y="5999040"/>
            <a:ext cx="553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OS    RIESGOS    SE     TRANSFIEREN     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VENDEDOR     AL    COMPRADOR 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S     MERCADERIAS CRUZAN LA BORDA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BUQUE    EN    EL    PUERTO   DE  EMBARQU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CONVEN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480800" y="8194680"/>
            <a:ext cx="5415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L   TRANSPORTE   DEBE  SER  CONTRA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OR    EL  VENDEDOR,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68008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160800" y="1992240"/>
            <a:ext cx="0" cy="482436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122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434880" y="192240"/>
            <a:ext cx="79819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CIF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(... INDICANDO PUERTO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ost </a:t>
            </a: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nsurance and </a:t>
            </a: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reigh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52440" y="2428920"/>
            <a:ext cx="7920000" cy="128412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404120" y="3852720"/>
            <a:ext cx="547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OS     COSTOS      SE      TRANSFIEREN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VENDEDOR      AL     COMPRADOR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AS      MERCADERIAS LLEGAN A PUERT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DESTINO, ASUMIENDO EL COMPRADOR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COSTOS CORRESPONDIENTES SEGÚN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CONTRATO DE COMPRAVEN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441200" y="5999040"/>
            <a:ext cx="553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OS    RIESGOS    SE     TRANSFIEREN     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VENDEDOR     AL    COMPRADOR 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S     MERCADERIAS CRUZAN LA BORDA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BUQUE    EN    EL    PUERTO   DE  EMBARQU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CONVEN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479360" y="8194680"/>
            <a:ext cx="5418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L    TRANSPORTE  Y  SEGURO   DEBE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  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ONTRATADO POR    EL  VENDEDOR,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68008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160800" y="1992240"/>
            <a:ext cx="0" cy="482436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0877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434880" y="192240"/>
            <a:ext cx="79819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CPT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(... INDICANDO LUGAR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arriage </a:t>
            </a: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aid </a:t>
            </a: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1"/>
          <a:stretch/>
        </p:blipFill>
        <p:spPr>
          <a:xfrm>
            <a:off x="352440" y="2428920"/>
            <a:ext cx="7920000" cy="128412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404120" y="3852720"/>
            <a:ext cx="547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OS     COSTOS      SE      TRANSFIEREN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VENDEDOR      AL     COMPRADOR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AS      MERCADERIAS LLEGAN A PUERT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DESTINO, ASUMIENDO EL COMPRADOR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COSTOS CORRESPONDIENTES SEGÚN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CONTRATO DE COMPRAVEN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7439040" y="5999040"/>
            <a:ext cx="5391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OS    RIESGOS    SE     TRANSFIEREN     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VENDEDOR     AL    COMPRADOR 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S     MERCADERIAS  SE ENTREGRAN 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PRIMER TRANSPORTISTA PARA QUE 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TRASLADE A DEST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480440" y="8194680"/>
            <a:ext cx="5321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L TRANSPORTE DEBE SER CONTRATADO POR    EL  VENDEDOR,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68008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160800" y="1992240"/>
            <a:ext cx="0" cy="482436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0877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434880" y="192240"/>
            <a:ext cx="79819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CIP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(... INDICANDO LUGAR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arriage,</a:t>
            </a: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 I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nsurance </a:t>
            </a: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aid 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1"/>
          <a:stretch/>
        </p:blipFill>
        <p:spPr>
          <a:xfrm>
            <a:off x="352440" y="2428920"/>
            <a:ext cx="7920000" cy="128412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7404120" y="3852720"/>
            <a:ext cx="547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OS     COSTOS      SE      TRANSFIEREN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VENDEDOR      AL     COMPRADOR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AS      MERCADERIAS LLEGAN A PUERT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DESTINO, ASUMIENDO EL COMPRADOR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COSTOS CORRESPONDIENTES SEGÚN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CONTRATO DE COMPRAVEN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7439040" y="5999040"/>
            <a:ext cx="5391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OS    RIESGOS    SE     TRANSFIEREN     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VENDEDOR     AL    COMPRADOR 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S     MERCADERIAS  SE ENTREGRAN 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PRIMER TRANSPORTISTA PARA QUE 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TRASLADE A DEST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480440" y="8194680"/>
            <a:ext cx="5321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L TRANSPORTE DEBE SER CONTRATADO POR    EL  VENDEDOR,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68008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376440" y="1992240"/>
            <a:ext cx="0" cy="482436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" descr=""/>
          <p:cNvPicPr/>
          <p:nvPr/>
        </p:nvPicPr>
        <p:blipFill>
          <a:blip r:embed="rId1"/>
          <a:stretch/>
        </p:blipFill>
        <p:spPr>
          <a:xfrm>
            <a:off x="1865160" y="1500120"/>
            <a:ext cx="7920360" cy="128448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2108160" y="3238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448000" y="32385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790720" y="32385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13200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47328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3816360" y="3238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415440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4497480" y="32385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83876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1932120" y="323856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5181480" y="3238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470560" y="32385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5813280" y="32385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615456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496200" y="323856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838920" y="3238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17696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50240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84368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8186760" y="3238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852480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114640" y="3557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454120" y="355752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97200" y="35575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13848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47976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822840" y="3557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16088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503600" y="355752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84488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938240" y="3557520"/>
            <a:ext cx="254160" cy="319320"/>
          </a:xfrm>
          <a:custGeom>
            <a:avLst/>
            <a:gdLst>
              <a:gd name="textAreaLeft" fmla="*/ 0 w 254160"/>
              <a:gd name="textAreaRight" fmla="*/ 254520 w 254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187960" y="3557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477040" y="35575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5819760" y="35575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16104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650232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845400" y="3557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718344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750888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785016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8193240" y="3557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853128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114640" y="3917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454120" y="391788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797200" y="391788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313848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47976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822840" y="3917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416088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503600" y="391788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84488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938240" y="3917880"/>
            <a:ext cx="254160" cy="319320"/>
          </a:xfrm>
          <a:custGeom>
            <a:avLst/>
            <a:gdLst>
              <a:gd name="textAreaLeft" fmla="*/ 0 w 254160"/>
              <a:gd name="textAreaRight" fmla="*/ 254520 w 254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5187960" y="3917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477040" y="391788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819760" y="391788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616104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50232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845400" y="3917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718344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750888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785016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8193240" y="3917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853128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2114640" y="602460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454120" y="602460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797200" y="602460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138480" y="60246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479760" y="60246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3822840" y="602460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160880" y="60246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503600" y="602460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844880" y="60246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1938240" y="6024600"/>
            <a:ext cx="254160" cy="318960"/>
          </a:xfrm>
          <a:custGeom>
            <a:avLst/>
            <a:gdLst>
              <a:gd name="textAreaLeft" fmla="*/ 0 w 254160"/>
              <a:gd name="textAreaRight" fmla="*/ 254520 w 254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187960" y="602460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477040" y="602460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819760" y="602460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6161040" y="60246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502320" y="60246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845400" y="602460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7183440" y="60246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7508880" y="60246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7850160" y="60246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193240" y="602460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8531280" y="60246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2120760" y="634356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460600" y="634356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2803680" y="634356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144960" y="634356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486240" y="634356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828960" y="634356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167360" y="634356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510080" y="634356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4851360" y="634356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944720" y="6343560"/>
            <a:ext cx="253800" cy="319320"/>
          </a:xfrm>
          <a:custGeom>
            <a:avLst/>
            <a:gdLst>
              <a:gd name="textAreaLeft" fmla="*/ 0 w 253800"/>
              <a:gd name="textAreaRight" fmla="*/ 254160 w 25380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194440" y="634356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483160" y="634356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826240" y="634356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6167520" y="634356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508800" y="634356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851520" y="634356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189920" y="634356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7515360" y="634356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7856640" y="634356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8199360" y="634356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8537400" y="634356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2120760" y="67039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460600" y="670392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803680" y="67039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144960" y="6703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486240" y="6703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828960" y="67039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167360" y="671364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510080" y="67039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851360" y="6703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944720" y="6703920"/>
            <a:ext cx="253800" cy="319320"/>
          </a:xfrm>
          <a:custGeom>
            <a:avLst/>
            <a:gdLst>
              <a:gd name="textAreaLeft" fmla="*/ 0 w 253800"/>
              <a:gd name="textAreaRight" fmla="*/ 254160 w 25380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194440" y="67039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483160" y="670392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5826240" y="67039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167520" y="6703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508800" y="6703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851520" y="67039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189920" y="670392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7515360" y="670392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856640" y="6703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8199360" y="67039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8537400" y="6703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114640" y="74739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454120" y="74739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2797200" y="74739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138480" y="7473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479760" y="7473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3822840" y="74739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4160880" y="7473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503600" y="74739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4844880" y="7473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938240" y="7473960"/>
            <a:ext cx="254160" cy="318960"/>
          </a:xfrm>
          <a:custGeom>
            <a:avLst/>
            <a:gdLst>
              <a:gd name="textAreaLeft" fmla="*/ 0 w 254160"/>
              <a:gd name="textAreaRight" fmla="*/ 254520 w 254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5187960" y="74739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477040" y="74739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819760" y="74739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6161040" y="7473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502320" y="7473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845400" y="74739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7183440" y="7473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7508880" y="7473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7850160" y="7473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8193240" y="74739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8531280" y="7473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2120760" y="77929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460600" y="779292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803680" y="77929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144960" y="7792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486240" y="7792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3828960" y="77929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4167360" y="779292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510080" y="77929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4851360" y="7792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944720" y="7792920"/>
            <a:ext cx="253800" cy="319320"/>
          </a:xfrm>
          <a:custGeom>
            <a:avLst/>
            <a:gdLst>
              <a:gd name="textAreaLeft" fmla="*/ 0 w 253800"/>
              <a:gd name="textAreaRight" fmla="*/ 254160 w 25380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194440" y="77929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5483160" y="779292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826240" y="77929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167520" y="7792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6508800" y="7792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851520" y="77929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189920" y="779292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7515360" y="779292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7856640" y="7792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8199360" y="77929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8537400" y="7792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120760" y="81532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460600" y="815328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803680" y="815328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3144960" y="81532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486240" y="81532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828960" y="81532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167360" y="815328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510080" y="815328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4851360" y="81532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944720" y="8153280"/>
            <a:ext cx="253800" cy="319320"/>
          </a:xfrm>
          <a:custGeom>
            <a:avLst/>
            <a:gdLst>
              <a:gd name="textAreaLeft" fmla="*/ 0 w 253800"/>
              <a:gd name="textAreaRight" fmla="*/ 254160 w 25380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5194440" y="81532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483160" y="815328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826240" y="815328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167520" y="81532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508800" y="81532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851520" y="81532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189920" y="815328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7515360" y="815328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856640" y="81532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8199360" y="81532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8537400" y="81532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3360" y="73080"/>
            <a:ext cx="5040360" cy="646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333399">
                  <a:alpha val="81176"/>
                </a:srgbClr>
              </a:gs>
              <a:gs pos="100000">
                <a:srgbClr val="000000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ff00"/>
                </a:solidFill>
                <a:latin typeface="Arial"/>
              </a:rPr>
              <a:t>GRUPO 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9137520" y="3384720"/>
            <a:ext cx="1224000" cy="64620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CF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9137520" y="4729320"/>
            <a:ext cx="1224000" cy="64620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CI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2112840" y="45846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2452680" y="458460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2795760" y="458460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137040" y="458460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478320" y="45846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821040" y="45846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159080" y="45846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502160" y="458460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4843440" y="45846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936800" y="4584600"/>
            <a:ext cx="253800" cy="319320"/>
          </a:xfrm>
          <a:custGeom>
            <a:avLst/>
            <a:gdLst>
              <a:gd name="textAreaLeft" fmla="*/ 0 w 253800"/>
              <a:gd name="textAreaRight" fmla="*/ 254160 w 25380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186520" y="45846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475240" y="458460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5818320" y="458460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6159600" y="45846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500880" y="45846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843600" y="45846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7182000" y="458460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7507440" y="458460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7848720" y="45846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8191440" y="45846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8529480" y="45846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119320" y="49039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2459160" y="490392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801880" y="490392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143160" y="4903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3484440" y="4903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3827520" y="49039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165560" y="4903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4508640" y="490392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4849920" y="4903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1943280" y="490392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192640" y="49039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5481720" y="490392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5824440" y="490392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6165720" y="4903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6507000" y="4903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6850080" y="49039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7188120" y="4903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7513560" y="4903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7854840" y="4903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8197920" y="49039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8535960" y="4903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2119320" y="52642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2459160" y="52642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801880" y="526428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3143160" y="5264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484440" y="5264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827520" y="52642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4165560" y="5264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508640" y="52642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4849920" y="5264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943280" y="526428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5192640" y="52642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481720" y="52642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5824440" y="526428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6165720" y="5264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6507000" y="5264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850080" y="52642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7188120" y="5264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7513560" y="5264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7854840" y="5264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8197920" y="52642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8535960" y="5264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9209160" y="6121440"/>
            <a:ext cx="1224000" cy="64620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CP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7192800" y="1055520"/>
            <a:ext cx="0" cy="748836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4529160" y="984240"/>
            <a:ext cx="0" cy="583236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9209160" y="7629480"/>
            <a:ext cx="1224000" cy="64620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CI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816440" y="1055520"/>
            <a:ext cx="0" cy="712800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/>
          <p:nvPr/>
        </p:nvSpPr>
        <p:spPr>
          <a:xfrm>
            <a:off x="352440" y="2063880"/>
            <a:ext cx="13169880" cy="16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br>
              <a:rPr sz="1400"/>
            </a:b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BAJO  LOS   TERMINOS   </a:t>
            </a:r>
            <a:r>
              <a:rPr b="1" lang="es-CL" sz="4000" spc="-1" strike="noStrike">
                <a:solidFill>
                  <a:srgbClr val="333399"/>
                </a:solidFill>
                <a:latin typeface="Arial"/>
              </a:rPr>
              <a:t>D </a:t>
            </a: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 EL  COSTO Y  RIESGO DEL VENDEDOR SE MAXIMIZA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PUESTO QUE TIENE QUE HACER DISPONIBLES LAS MERCANCIAS AL COMPRADO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A SU LLEGADA EN EL LUGAR DE DESTIN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 flipH="1">
            <a:off x="0" y="1992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495360" y="696960"/>
            <a:ext cx="11522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ctr">
            <a:no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7200" spc="-1" strike="noStrike">
                <a:solidFill>
                  <a:srgbClr val="333399"/>
                </a:solidFill>
                <a:latin typeface="Arial"/>
              </a:rPr>
              <a:t>GRUPO  D</a:t>
            </a:r>
            <a:r>
              <a:rPr b="1" lang="es-CL" sz="7200" spc="-1" strike="noStrike">
                <a:solidFill>
                  <a:srgbClr val="333399"/>
                </a:solidFill>
                <a:latin typeface="Arial"/>
              </a:rPr>
              <a:t>	</a:t>
            </a:r>
            <a:br>
              <a:rPr sz="34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423720" y="5664240"/>
            <a:ext cx="511344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DEQ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elivered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x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u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5969160" y="4079880"/>
            <a:ext cx="626400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D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elivered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x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hi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423720" y="7691400"/>
            <a:ext cx="511200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DD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elivered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uty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ai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5969160" y="5675400"/>
            <a:ext cx="626400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DDU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elivered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uty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npai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23720" y="4092480"/>
            <a:ext cx="511344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DA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elivered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t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ronti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"/>
          <p:cNvSpPr/>
          <p:nvPr/>
        </p:nvSpPr>
        <p:spPr>
          <a:xfrm>
            <a:off x="434880" y="192240"/>
            <a:ext cx="798192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DAF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(... INDICANDO LUGAR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elivered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t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ronti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7" name="" descr=""/>
          <p:cNvPicPr/>
          <p:nvPr/>
        </p:nvPicPr>
        <p:blipFill>
          <a:blip r:embed="rId1"/>
          <a:stretch/>
        </p:blipFill>
        <p:spPr>
          <a:xfrm>
            <a:off x="352440" y="2428920"/>
            <a:ext cx="7920000" cy="1284120"/>
          </a:xfrm>
          <a:prstGeom prst="rect">
            <a:avLst/>
          </a:prstGeom>
          <a:ln w="0">
            <a:noFill/>
          </a:ln>
        </p:spPr>
      </p:pic>
      <p:sp>
        <p:nvSpPr>
          <p:cNvPr id="1148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7339320" y="4114800"/>
            <a:ext cx="556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LOS     COSTOS      SE      TRANSFIEREN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VENDEDOR     AL      COMPRADOR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LAS     MERCADERIAS HAN SIDO ENTREG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EN EL LUGAR CONVENIDOEN LA FRONT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339320" y="6058080"/>
            <a:ext cx="556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OS    RIESGOS    SE     TRANSFIEREN     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ENDEDOR     AL    COMPRADOR 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S     MERCADERIAS HAN SIDO ENTREG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EN EL LUGAR CONVENIDO EN LA FRONT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7480440" y="8194680"/>
            <a:ext cx="5321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L TRANSPORTE DEBE SER CONTRATADO POR    EL  VENDEDOR,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016080" y="2855880"/>
            <a:ext cx="2521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087720" y="2784600"/>
            <a:ext cx="2521080" cy="936360"/>
          </a:xfrm>
          <a:prstGeom prst="rect">
            <a:avLst/>
          </a:prstGeom>
          <a:solidFill>
            <a:srgbClr val="ffffff"/>
          </a:soli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0" name="" descr=""/>
          <p:cNvPicPr/>
          <p:nvPr/>
        </p:nvPicPr>
        <p:blipFill>
          <a:blip r:embed="rId2"/>
          <a:stretch/>
        </p:blipFill>
        <p:spPr>
          <a:xfrm>
            <a:off x="3736800" y="2496960"/>
            <a:ext cx="1366920" cy="911520"/>
          </a:xfrm>
          <a:prstGeom prst="rect">
            <a:avLst/>
          </a:prstGeom>
          <a:ln w="0">
            <a:noFill/>
          </a:ln>
        </p:spPr>
      </p:pic>
      <p:sp>
        <p:nvSpPr>
          <p:cNvPr id="1221" name=""/>
          <p:cNvSpPr/>
          <p:nvPr/>
        </p:nvSpPr>
        <p:spPr>
          <a:xfrm>
            <a:off x="467208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434880" y="192240"/>
            <a:ext cx="798192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DES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(... INDICANDO PUERTO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elivered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x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hi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3" name="" descr=""/>
          <p:cNvPicPr/>
          <p:nvPr/>
        </p:nvPicPr>
        <p:blipFill>
          <a:blip r:embed="rId1"/>
          <a:stretch/>
        </p:blipFill>
        <p:spPr>
          <a:xfrm>
            <a:off x="352440" y="2428920"/>
            <a:ext cx="7920000" cy="1284120"/>
          </a:xfrm>
          <a:prstGeom prst="rect">
            <a:avLst/>
          </a:prstGeom>
          <a:ln w="0">
            <a:noFill/>
          </a:ln>
        </p:spPr>
      </p:pic>
      <p:sp>
        <p:nvSpPr>
          <p:cNvPr id="1224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7481880" y="4114800"/>
            <a:ext cx="5476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OS     COSTOS      SE      TRANSFIEREN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VENDEDOR     AL      COMPRADOR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AS     MERCADERIAS SE PONEN A DISPO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CIÓN </a:t>
            </a: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DEL COMPRADOR A BORDO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BUQUE EN EL PUERTO DE DEST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7434720" y="5999040"/>
            <a:ext cx="5552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OS     </a:t>
            </a: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RIESGO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S      SE      TRANSFIEREN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VENDEDOR     AL      COMPRADOR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S     MERCADERIAS SE PONEN A DISPO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CIÓN </a:t>
            </a: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DEL COMPRADOR A BORDO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BUQUE EN EL PUERTO DE DEST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7480440" y="8194680"/>
            <a:ext cx="5321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L TRANSPORTE DEBE SER CONTRATADO POR    EL  VENDEDOR,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539280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"/>
          <p:cNvSpPr/>
          <p:nvPr/>
        </p:nvSpPr>
        <p:spPr>
          <a:xfrm>
            <a:off x="434880" y="192240"/>
            <a:ext cx="798192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DEQ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(... INDICANDO PUERTO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elivered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x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u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6" name="" descr=""/>
          <p:cNvPicPr/>
          <p:nvPr/>
        </p:nvPicPr>
        <p:blipFill>
          <a:blip r:embed="rId1"/>
          <a:stretch/>
        </p:blipFill>
        <p:spPr>
          <a:xfrm>
            <a:off x="352440" y="2428920"/>
            <a:ext cx="7920000" cy="1284120"/>
          </a:xfrm>
          <a:prstGeom prst="rect">
            <a:avLst/>
          </a:prstGeom>
          <a:ln w="0">
            <a:noFill/>
          </a:ln>
        </p:spPr>
      </p:pic>
      <p:sp>
        <p:nvSpPr>
          <p:cNvPr id="1297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7481880" y="4114800"/>
            <a:ext cx="554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OS     COSTOS      SE      TRANSFIEREN 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VENDEDOR     AL       COMPRADOR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AS  MERCADERIAS SE PONEN A DIS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DEL   COMPRADOR   EN  EL   MUELLE  EN  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PUERTO DE DEST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7268760" y="5999040"/>
            <a:ext cx="561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OS     </a:t>
            </a: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RIESGOS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      SE      TRANSFIEREN 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VENDEDOR     AL      COMPRADOR 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S   MERCADERIAS SE PONEN A DIS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DEL  COMPRADOR   EN   EL   MUELLE   EN   E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PUERTO DE DEST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7480440" y="8194680"/>
            <a:ext cx="5321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L TRANSPORTE DEBE SER CONTRATADO POR    EL  VENDEDOR,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568008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95360" y="696960"/>
            <a:ext cx="11522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ctr">
            <a:no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7200" spc="-1" strike="noStrike">
                <a:solidFill>
                  <a:srgbClr val="333399"/>
                </a:solidFill>
                <a:latin typeface="Arial"/>
              </a:rPr>
              <a:t>LEYENDA</a:t>
            </a:r>
            <a:r>
              <a:rPr b="1" lang="es-CL" sz="7200" spc="-1" strike="noStrike">
                <a:solidFill>
                  <a:srgbClr val="333399"/>
                </a:solidFill>
                <a:latin typeface="Arial"/>
              </a:rPr>
              <a:t>	</a:t>
            </a:r>
            <a:br>
              <a:rPr sz="34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92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23720" y="3216240"/>
            <a:ext cx="7201080" cy="1660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10240" y="7026120"/>
            <a:ext cx="165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PROD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PAÍ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OR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37080" y="70326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ADU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47880" y="7026120"/>
            <a:ext cx="181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TRANSPO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LOCAL PA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OR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25480" y="7032600"/>
            <a:ext cx="179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PUERTO PA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OR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06960" y="703908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PUERTO P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DES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4079880"/>
            <a:ext cx="43200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20800" y="4295880"/>
            <a:ext cx="43200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53" idx="4"/>
            <a:endCxn id="48" idx="0"/>
          </p:cNvCxnSpPr>
          <p:nvPr/>
        </p:nvCxnSpPr>
        <p:spPr>
          <a:xfrm flipH="1" rot="16200000">
            <a:off x="2792520" y="3727080"/>
            <a:ext cx="2449800" cy="4161600"/>
          </a:xfrm>
          <a:prstGeom prst="bentConnector3">
            <a:avLst>
              <a:gd name="adj1" fmla="val 49970"/>
            </a:avLst>
          </a:prstGeom>
          <a:ln w="34920">
            <a:solidFill>
              <a:srgbClr val="00008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1144440" y="4297320"/>
            <a:ext cx="43200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84440" y="4297320"/>
            <a:ext cx="43164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4224240"/>
            <a:ext cx="43164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5282280" y="4478040"/>
            <a:ext cx="2527920" cy="2451960"/>
          </a:xfrm>
          <a:prstGeom prst="bentConnector3">
            <a:avLst>
              <a:gd name="adj1" fmla="val 72610"/>
            </a:avLst>
          </a:prstGeom>
          <a:ln w="3492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8850240" y="7053120"/>
            <a:ext cx="181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TRANSPO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LOCAL PA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DES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73880" y="4081320"/>
            <a:ext cx="431640" cy="28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60" idx="4"/>
            <a:endCxn id="59" idx="0"/>
          </p:cNvCxnSpPr>
          <p:nvPr/>
        </p:nvCxnSpPr>
        <p:spPr>
          <a:xfrm flipH="1" rot="16200000">
            <a:off x="6882840" y="4175640"/>
            <a:ext cx="2684880" cy="3070800"/>
          </a:xfrm>
          <a:prstGeom prst="bentConnector3">
            <a:avLst>
              <a:gd name="adj1" fmla="val 49966"/>
            </a:avLst>
          </a:prstGeom>
          <a:ln w="349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639720" y="4513320"/>
            <a:ext cx="0" cy="237492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5" idx="4"/>
            <a:endCxn id="49" idx="0"/>
          </p:cNvCxnSpPr>
          <p:nvPr/>
        </p:nvCxnSpPr>
        <p:spPr>
          <a:xfrm flipH="1" rot="16200000">
            <a:off x="837360" y="5106600"/>
            <a:ext cx="2442240" cy="1397880"/>
          </a:xfrm>
          <a:prstGeom prst="bentConnector3">
            <a:avLst>
              <a:gd name="adj1" fmla="val 67536"/>
            </a:avLst>
          </a:prstGeom>
          <a:ln w="349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10724400" y="7032600"/>
            <a:ext cx="170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COMP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PAÍ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DES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64440" y="4079880"/>
            <a:ext cx="43164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6"/>
            <a:endCxn id="64" idx="0"/>
          </p:cNvCxnSpPr>
          <p:nvPr/>
        </p:nvCxnSpPr>
        <p:spPr>
          <a:xfrm>
            <a:off x="7696080" y="4223880"/>
            <a:ext cx="3880800" cy="2809080"/>
          </a:xfrm>
          <a:prstGeom prst="bentConnector2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 flipV="1">
            <a:off x="6113520" y="4368600"/>
            <a:ext cx="0" cy="1439640"/>
          </a:xfrm>
          <a:prstGeom prst="line">
            <a:avLst/>
          </a:prstGeom>
          <a:ln w="34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13160" y="4008600"/>
            <a:ext cx="57600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68" idx="4"/>
            <a:endCxn id="50" idx="0"/>
          </p:cNvCxnSpPr>
          <p:nvPr/>
        </p:nvCxnSpPr>
        <p:spPr>
          <a:xfrm flipH="1" rot="16200000">
            <a:off x="2316240" y="4925160"/>
            <a:ext cx="2592720" cy="1621440"/>
          </a:xfrm>
          <a:prstGeom prst="bentConnector3">
            <a:avLst>
              <a:gd name="adj1" fmla="val 34536"/>
            </a:avLst>
          </a:prstGeom>
          <a:ln w="34920">
            <a:solidFill>
              <a:srgbClr val="ff99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"/>
          <p:cNvSpPr/>
          <p:nvPr/>
        </p:nvSpPr>
        <p:spPr>
          <a:xfrm>
            <a:off x="434880" y="192240"/>
            <a:ext cx="798192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DDU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(... INDICANDO LUGAR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elivered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uty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npai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9" name="" descr=""/>
          <p:cNvPicPr/>
          <p:nvPr/>
        </p:nvPicPr>
        <p:blipFill>
          <a:blip r:embed="rId1"/>
          <a:stretch/>
        </p:blipFill>
        <p:spPr>
          <a:xfrm>
            <a:off x="352440" y="2428920"/>
            <a:ext cx="7920000" cy="1284120"/>
          </a:xfrm>
          <a:prstGeom prst="rect">
            <a:avLst/>
          </a:prstGeom>
          <a:ln w="0">
            <a:noFill/>
          </a:ln>
        </p:spPr>
      </p:pic>
      <p:sp>
        <p:nvSpPr>
          <p:cNvPr id="1370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7306560" y="4114800"/>
            <a:ext cx="5668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OS      COSTOS      SE       TRANSFIEREN 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VENDEDOR     AL       COMPRADOR  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AS  MERCADERIAS SE   PONEN A DIS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DEL COMPRADOR   EN   EL MEDI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TRANSPORTE  ANTES DE PAGAR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DERECHOS DE ADU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7404120" y="5999040"/>
            <a:ext cx="5553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OS    </a:t>
            </a: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RIESGOS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      SE      TRANSFIEREN 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VENDEDOR     AL       COMPRADOR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S  MERCADERIAS SE PONEN A DIS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DEL COMPRADOR  EN  EL MEDIOI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TRANSPORTE EN  LUGAR DE DES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CONVENIDO CONVENIDO    DESPUE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DE  PAGADOS LOS  DERECHOS DE ADU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7480440" y="8194680"/>
            <a:ext cx="5321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L TRANSPORTE DEBE SER CONTRATADO POR    EL  VENDEDOR,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568008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"/>
          <p:cNvSpPr/>
          <p:nvPr/>
        </p:nvSpPr>
        <p:spPr>
          <a:xfrm>
            <a:off x="434880" y="192240"/>
            <a:ext cx="798192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DDP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(... INDICANDO LUGAR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Delivered Duty Pai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2" name="" descr=""/>
          <p:cNvPicPr/>
          <p:nvPr/>
        </p:nvPicPr>
        <p:blipFill>
          <a:blip r:embed="rId1"/>
          <a:stretch/>
        </p:blipFill>
        <p:spPr>
          <a:xfrm>
            <a:off x="352440" y="2428920"/>
            <a:ext cx="7920000" cy="1284120"/>
          </a:xfrm>
          <a:prstGeom prst="rect">
            <a:avLst/>
          </a:prstGeom>
          <a:ln w="0">
            <a:noFill/>
          </a:ln>
        </p:spPr>
      </p:pic>
      <p:sp>
        <p:nvSpPr>
          <p:cNvPr id="1443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7404120" y="3792600"/>
            <a:ext cx="5540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OS     COSTOS      SE      TRANSFIEREN 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VENDEDOR     AL       COMPRADOR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AS  MERCADERIAS SE PONEN A DIS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DEL COMPRADOR  EN  EL MEDI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TRANSPORTE EN EL LUGAR DE DES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CONVENIDO  DESPUES   DE    PAGADOS  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DERECHOS DE ADU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7332480" y="5981760"/>
            <a:ext cx="561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OS     </a:t>
            </a: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RIESGOS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      SE      TRANSFIEREN 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VENDEDOR     AL       COMPRADOR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S  MERCADERIAS SE PONEN A DIS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DEL COMPRADOR  EN  EL MEDIOI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TRANSPORTELUGAR DE DES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CONVENIDO    DESPUES    DE  PAGADOS 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DERECHOS DE ADU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7337520" y="8194680"/>
            <a:ext cx="5321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L TRANSPORTE DEBE SER CONTRATADO POR    EL  VENDEDOR,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676116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4" name="" descr=""/>
          <p:cNvPicPr/>
          <p:nvPr/>
        </p:nvPicPr>
        <p:blipFill>
          <a:blip r:embed="rId1"/>
          <a:stretch/>
        </p:blipFill>
        <p:spPr>
          <a:xfrm>
            <a:off x="1865160" y="1500120"/>
            <a:ext cx="7920360" cy="1284480"/>
          </a:xfrm>
          <a:prstGeom prst="rect">
            <a:avLst/>
          </a:prstGeom>
          <a:ln w="0">
            <a:noFill/>
          </a:ln>
        </p:spPr>
      </p:pic>
      <p:sp>
        <p:nvSpPr>
          <p:cNvPr id="1515" name=""/>
          <p:cNvSpPr/>
          <p:nvPr/>
        </p:nvSpPr>
        <p:spPr>
          <a:xfrm>
            <a:off x="2108160" y="28558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2448000" y="28558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2790720" y="285588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3132000" y="2855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3473280" y="2855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3816360" y="28558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4154400" y="2855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4497480" y="28558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4838760" y="2855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932120" y="285588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5181480" y="28558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5470560" y="28558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5813280" y="285588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6154560" y="2855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6496200" y="285588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6838920" y="28558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7176960" y="2855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7502400" y="2855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7843680" y="2855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8186760" y="28558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8524800" y="2855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2114640" y="31748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2454120" y="317484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2797200" y="317484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3138480" y="3174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3479760" y="3174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3822840" y="31748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4160880" y="3174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4503600" y="317484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4844880" y="3174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1938240" y="3174840"/>
            <a:ext cx="254160" cy="319320"/>
          </a:xfrm>
          <a:custGeom>
            <a:avLst/>
            <a:gdLst>
              <a:gd name="textAreaLeft" fmla="*/ 0 w 254160"/>
              <a:gd name="textAreaRight" fmla="*/ 254520 w 254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5187960" y="31748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5477040" y="317484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5819760" y="317484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6161040" y="3174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502320" y="3174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6845400" y="31748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7183440" y="3174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7508880" y="3174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7850160" y="3174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8193240" y="31748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8531280" y="3174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2114640" y="35352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2454120" y="353520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2797200" y="353520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3138480" y="3535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479760" y="3535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3822840" y="35352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4160880" y="3535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4503600" y="353520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4844880" y="3535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1938240" y="3535200"/>
            <a:ext cx="254160" cy="319320"/>
          </a:xfrm>
          <a:custGeom>
            <a:avLst/>
            <a:gdLst>
              <a:gd name="textAreaLeft" fmla="*/ 0 w 254160"/>
              <a:gd name="textAreaRight" fmla="*/ 254520 w 254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5187960" y="35352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5477040" y="353520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5819760" y="353520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6161040" y="3535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6502320" y="3535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6845400" y="35352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7183440" y="3535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7508880" y="3535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7850160" y="3535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8193240" y="35352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8531280" y="3535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2114640" y="53769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2454120" y="53769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2797200" y="53769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3138480" y="5376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3479760" y="5376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3822840" y="53769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4160880" y="5376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4503600" y="53769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4844880" y="5376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1938240" y="5376960"/>
            <a:ext cx="254160" cy="318960"/>
          </a:xfrm>
          <a:custGeom>
            <a:avLst/>
            <a:gdLst>
              <a:gd name="textAreaLeft" fmla="*/ 0 w 254160"/>
              <a:gd name="textAreaRight" fmla="*/ 254520 w 254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5187960" y="53769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5477040" y="53769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5819760" y="53769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6161040" y="5376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6502320" y="5376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6845400" y="53769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7183440" y="5376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7508880" y="5376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7850160" y="5376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8193240" y="53769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8531280" y="5376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2120760" y="56959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2460600" y="569592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2803680" y="569592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3144960" y="5695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3486240" y="5695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3828960" y="56959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4167360" y="569592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4510080" y="569592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4851360" y="5695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1944720" y="569592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5194440" y="56959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5483160" y="569592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5826240" y="569592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6167520" y="5695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6508800" y="5695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6851520" y="56959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7189920" y="569592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7515360" y="569592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7856640" y="5695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8199360" y="56959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8537400" y="5695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2120760" y="60562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2460600" y="605628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2803680" y="60562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3144960" y="6056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3486240" y="6056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3828960" y="60562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4167360" y="606600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4510080" y="60562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4851360" y="6056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1944720" y="605628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5194440" y="60562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5483160" y="605628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5826240" y="60562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6167520" y="6056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6508800" y="6056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6851520" y="60562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7189920" y="605628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7515360" y="605628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7856640" y="6056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8199360" y="60562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8537400" y="6056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2114640" y="667224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2454120" y="667224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2797200" y="667224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3138480" y="66722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3479760" y="66722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3822840" y="667224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4160880" y="66722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4503600" y="667224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4844880" y="66722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1938240" y="6672240"/>
            <a:ext cx="254160" cy="318960"/>
          </a:xfrm>
          <a:custGeom>
            <a:avLst/>
            <a:gdLst>
              <a:gd name="textAreaLeft" fmla="*/ 0 w 254160"/>
              <a:gd name="textAreaRight" fmla="*/ 254520 w 254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5187960" y="667224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5477040" y="667224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5819760" y="667224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6161040" y="66722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6502320" y="66722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6845400" y="667224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7183440" y="66722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7508880" y="66722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7850160" y="66722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8193240" y="667224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8531280" y="66722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2120760" y="706284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2460600" y="706284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2803680" y="706284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3144960" y="70628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3486240" y="70628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3828960" y="706284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4167360" y="706284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4510080" y="706284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4851360" y="70628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1944720" y="706284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5194440" y="706284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5483160" y="706284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5826240" y="706284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6167520" y="70628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6508800" y="70628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6851520" y="706284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7189920" y="706284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7515360" y="706284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7856640" y="70628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8199360" y="706284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8537400" y="70628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2120760" y="742320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2460600" y="742320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2803680" y="742320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3144960" y="74232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3486240" y="74232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3828960" y="742320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4167360" y="742320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4510080" y="742320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4851360" y="74232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1944720" y="742320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5194440" y="742320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5483160" y="742320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5826240" y="742320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6167520" y="74232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6508800" y="74232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6851520" y="742320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7189920" y="742320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7515360" y="742320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856640" y="74232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8199360" y="742320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8537400" y="74232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63360" y="73080"/>
            <a:ext cx="5040360" cy="646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333399">
                  <a:alpha val="81176"/>
                </a:srgbClr>
              </a:gs>
              <a:gs pos="100000">
                <a:srgbClr val="000000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ff00"/>
                </a:solidFill>
                <a:latin typeface="Arial"/>
              </a:rPr>
              <a:t>GRUPO 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9137520" y="3002040"/>
            <a:ext cx="1224000" cy="64620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DA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9137520" y="4224240"/>
            <a:ext cx="1224000" cy="64620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D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2112840" y="40798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2452680" y="40798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2795760" y="40798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3137040" y="407988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3478320" y="4079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3821040" y="40798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4159080" y="4079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4502160" y="40798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4843440" y="4079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1936800" y="407988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5186520" y="40798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5475240" y="407988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5818320" y="40798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6159600" y="4079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6500880" y="4079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6843600" y="40798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7182000" y="407988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7507440" y="407988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7848720" y="4079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8191440" y="40798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529480" y="4079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2119320" y="43988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2459160" y="439884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2801880" y="439884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3143160" y="4398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3484440" y="4398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3827520" y="43988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4165560" y="4398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4508640" y="439884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4849920" y="4398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1943280" y="4398840"/>
            <a:ext cx="253800" cy="319320"/>
          </a:xfrm>
          <a:custGeom>
            <a:avLst/>
            <a:gdLst>
              <a:gd name="textAreaLeft" fmla="*/ 0 w 253800"/>
              <a:gd name="textAreaRight" fmla="*/ 254160 w 25380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5192640" y="43988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5481720" y="439884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5824440" y="439884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6165720" y="4398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6507000" y="4398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6850080" y="43988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7188120" y="4398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7513560" y="4398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7854840" y="4398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8197920" y="43988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8535960" y="4398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2119320" y="47592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2459160" y="475920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2801880" y="475920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3143160" y="4759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3484440" y="4759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3827520" y="47592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4165560" y="4759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4508640" y="475920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4849920" y="4759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1943280" y="4759200"/>
            <a:ext cx="253800" cy="319320"/>
          </a:xfrm>
          <a:custGeom>
            <a:avLst/>
            <a:gdLst>
              <a:gd name="textAreaLeft" fmla="*/ 0 w 253800"/>
              <a:gd name="textAreaRight" fmla="*/ 254160 w 25380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5192640" y="47592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5481720" y="475920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5824440" y="475920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6165720" y="4759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6507000" y="4759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6850080" y="47592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7188120" y="4759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7513560" y="4759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7854840" y="4759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8197920" y="47592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8535960" y="4759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9137520" y="5473800"/>
            <a:ext cx="1368720" cy="64620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DEQ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7192800" y="1055520"/>
            <a:ext cx="0" cy="669780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6905520" y="1055520"/>
            <a:ext cx="0" cy="403236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9137520" y="6816600"/>
            <a:ext cx="1295640" cy="64620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DDU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2112840" y="80517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2452680" y="80517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2795760" y="80517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3137040" y="805176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3478320" y="80517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3821040" y="80517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4159080" y="80517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4502160" y="80517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4843440" y="80517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1936800" y="805176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5186520" y="80517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5475240" y="80517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5818320" y="80517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6159600" y="80517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6500880" y="80517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6843600" y="80517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7182000" y="805176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7507440" y="805176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7848720" y="80517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8191440" y="80517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8529480" y="80517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2119320" y="84423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2459160" y="84423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2801880" y="84423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3143160" y="84423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3484440" y="84423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3827520" y="84423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4165560" y="84423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4508640" y="84423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4849920" y="84423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1943280" y="844236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5192640" y="84423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5481720" y="84423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5824440" y="84423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6165720" y="84423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6507000" y="84423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6850080" y="84423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7188120" y="84423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7513560" y="84423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7854840" y="84423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8197920" y="84423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8535960" y="84423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2119320" y="88027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2459160" y="880272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2801880" y="880272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3143160" y="88027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3484440" y="88027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3827520" y="88027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4165560" y="88027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4508640" y="880272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4849920" y="88027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1943280" y="880272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5192640" y="88027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5481720" y="880272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5824440" y="880272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6165720" y="88027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6507000" y="88027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6850080" y="88027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7188120" y="88027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7513560" y="88027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7854840" y="88027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8197920" y="88027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8535960" y="88027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9137520" y="8196120"/>
            <a:ext cx="1224000" cy="64620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DD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8201160" y="1271520"/>
            <a:ext cx="71280" cy="777708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"/>
          <p:cNvSpPr/>
          <p:nvPr/>
        </p:nvSpPr>
        <p:spPr>
          <a:xfrm>
            <a:off x="0" y="1112760"/>
            <a:ext cx="12450600" cy="82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10800" spc="-1" strike="noStrike">
                <a:solidFill>
                  <a:srgbClr val="333399"/>
                </a:solidFill>
                <a:latin typeface="Arial"/>
              </a:rPr>
              <a:t>INCOTERMS 2000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DISTRIBUCIÓN DE COSTOS, RIESGOS Y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TRANSPORTE DE MERCADERI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0" y="263988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8673120" y="8794800"/>
            <a:ext cx="3914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JOSÉ LUIS LÓPEZ BLAN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SANTIAGO, 20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0" y="9144000"/>
            <a:ext cx="914400" cy="914400"/>
          </a:xfrm>
          <a:prstGeom prst="rect">
            <a:avLst/>
          </a:prstGeom>
          <a:solidFill>
            <a:srgbClr val="bbe0e3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5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68440" y="2855880"/>
            <a:ext cx="1316988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br>
              <a:rPr sz="1400"/>
            </a:b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BAJO EL TERMINO</a:t>
            </a:r>
            <a:r>
              <a:rPr b="1" lang="es-CL" sz="23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CL" sz="4000" spc="-1" strike="noStrike">
                <a:solidFill>
                  <a:srgbClr val="333399"/>
                </a:solidFill>
                <a:latin typeface="Arial"/>
              </a:rPr>
              <a:t>EXW</a:t>
            </a: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 EL VENDEDOR MINIMIZA SU RIESGO AL HACE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DISPONIBLES LAS MERCADERIAS EN SU PROPIO ESTABLECIMIENT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0" y="1992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5360" y="696960"/>
            <a:ext cx="11522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ctr">
            <a:no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7200" spc="-1" strike="noStrike">
                <a:solidFill>
                  <a:srgbClr val="333399"/>
                </a:solidFill>
                <a:latin typeface="Arial"/>
              </a:rPr>
              <a:t>GRUPO  E</a:t>
            </a:r>
            <a:r>
              <a:rPr b="1" lang="es-CL" sz="7200" spc="-1" strike="noStrike">
                <a:solidFill>
                  <a:srgbClr val="333399"/>
                </a:solidFill>
                <a:latin typeface="Arial"/>
              </a:rPr>
              <a:t>	</a:t>
            </a:r>
            <a:br>
              <a:rPr sz="34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9720" y="4656240"/>
            <a:ext cx="511164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EXW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EX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W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ork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34880" y="192240"/>
            <a:ext cx="52801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EXW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(... INDICANDO LUGAR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EX W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or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04840" y="4056120"/>
            <a:ext cx="553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LOS     COSTOS      SE      TRANSFIEREN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VENDEDOR      AL     COMPRADOR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LAS       MERCADERIAS       SE        PONEN      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DISPOSICIÓN   DEL    COMPRADOR    EN     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ESTABLECIMIENTO DEL VENDE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35800" y="5999040"/>
            <a:ext cx="5232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OS    RIESGOS    SE     TRANSFIEREN    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ENDEDOR  AL  COMPRADOR  CUANDO 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ERCADERIAS  SE  PONEN  A  DIS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EL COMPRADOR EN EL ESTABL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EL VENDE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480800" y="8278920"/>
            <a:ext cx="541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L   TRANSPORTE   DEBE  SER  CONTRA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OR   EL COMPRADOR.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52440" y="2174760"/>
            <a:ext cx="7200720" cy="1660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00008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52440" y="3287880"/>
            <a:ext cx="1316988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br>
              <a:rPr sz="1400"/>
            </a:b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BAJO LOS  TERMINOS  </a:t>
            </a:r>
            <a:r>
              <a:rPr b="1" lang="es-CL" sz="40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 EL VENDEDOR CONTRATA LOS TRANSPORTES INTERN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HASTA LUGAR DE EMBARQUE EN EL PAIS DE EXPORTACIÓ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0" y="1992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360" y="696960"/>
            <a:ext cx="11522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ctr">
            <a:no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7200" spc="-1" strike="noStrike">
                <a:solidFill>
                  <a:srgbClr val="333399"/>
                </a:solidFill>
                <a:latin typeface="Arial"/>
              </a:rPr>
              <a:t>GRUPO  F</a:t>
            </a:r>
            <a:r>
              <a:rPr b="1" lang="es-CL" sz="7200" spc="-1" strike="noStrike">
                <a:solidFill>
                  <a:srgbClr val="333399"/>
                </a:solidFill>
                <a:latin typeface="Arial"/>
              </a:rPr>
              <a:t>	</a:t>
            </a:r>
            <a:br>
              <a:rPr sz="34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96800" y="5664240"/>
            <a:ext cx="504036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FC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ree 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CA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rri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121520" y="5675400"/>
            <a:ext cx="511164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F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ree 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longside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hi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3720" y="7691400"/>
            <a:ext cx="511200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FOB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ree 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n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oar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208240"/>
            <a:ext cx="1280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2800" spc="-1" strike="noStrike">
                <a:solidFill>
                  <a:srgbClr val="800000"/>
                </a:solidFill>
                <a:latin typeface="Arial"/>
              </a:rPr>
              <a:t>EL TRANSPORTE PRINCIPAL NO ES DE CARGO DEL VENDE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34880" y="192240"/>
            <a:ext cx="64231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FCA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(... INDICANDO LUGAR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ree</a:t>
            </a: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 CA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rri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52440" y="2428920"/>
            <a:ext cx="7920000" cy="12841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4008600"/>
            <a:ext cx="559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OS     COSTOS      SE      TRANSFIEREN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VENDEDOR      AL     COMPRADOR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AS     MERCADERIAS HAN SIDO ENTREG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AL   TRANSPORTISTA   EN    EL    LUGAR   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EMBARQUE CONVEN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15200" y="5999040"/>
            <a:ext cx="5629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OS    RIESGOS    SE       TRANSFIEREN     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VENDEDOR     AL     COMPRADOR 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S     MERCADERIAS HAN SIDO ENTREG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AL   TRANSPORTISTA   EN    EL    LUGAR   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EMBARQUE CONVEN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391520" y="8113680"/>
            <a:ext cx="5556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L   TRANSPORTE   DEBE  SER  CONTRA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OR    EL  COMPRADOR,  O  POR CUENTA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COMPR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7644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34880" y="192240"/>
            <a:ext cx="79819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FAS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(... INDICANDO PUERTO DE EMBARQUE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ree</a:t>
            </a: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 A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longside </a:t>
            </a: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hip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52440" y="2428920"/>
            <a:ext cx="7920000" cy="12841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409880" y="4008600"/>
            <a:ext cx="547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OS     COSTOS      SE      TRANSFIEREN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VENDEDOR      AL     COMPRADOR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AS      MERCADERIAS HAN SIDO PUESTAS 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COSTADO   DEL   BUQUE   EN EL PUERTO 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EMBARQUE CONVEN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440120" y="5999040"/>
            <a:ext cx="541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OS    RIESGOS    SE     TRANSFIEREN     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VENDEDOR     AL    COMPRADOR 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S     MERCADERIAS HAN SIDO PUESTAS 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COSTADO  DEL   BUQUE   EN EL PUERTO 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EMBARQUE CONVEN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480800" y="8194680"/>
            <a:ext cx="5415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L   TRANSPORTE   DEBE  SER  CONTRA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OR    EL  COMPRADOR,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55720" y="2057400"/>
            <a:ext cx="0" cy="684036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434880" y="192240"/>
            <a:ext cx="79819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FOB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(... INDICANDO PUERTO DE EMBARQUE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ree</a:t>
            </a: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 O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n </a:t>
            </a: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oar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352440" y="2428920"/>
            <a:ext cx="7920000" cy="1284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410600" y="4008600"/>
            <a:ext cx="5603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OS     COSTOS      SE      TRANSFIEREN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VENDEDOR      AL     COMPRADOR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AS      MERCADERIAS CRUZAN LA BORDA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BUQUE    EN    EL    PUERTO   DE  EMBARQU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CONVEN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441200" y="5999040"/>
            <a:ext cx="553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OS    RIESGOS    SE     TRANSFIEREN     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VENDEDOR     AL    COMPRADOR 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S     MERCADERIAS CRUZAN LA BORDA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BUQUE    EN    EL    PUERTO   DE  EMBARQU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CONVEN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480800" y="8194680"/>
            <a:ext cx="5415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L   TRANSPORTE   DEBE  SER  CONTRA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OR    EL  COMPRADOR,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30516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2079720" y="1500120"/>
            <a:ext cx="7920000" cy="128448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2322360" y="3238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662200" y="32385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005280" y="32385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34656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68784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30560" y="3238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368960" y="323856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711680" y="32385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05296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146320" y="3238560"/>
            <a:ext cx="254160" cy="318960"/>
          </a:xfrm>
          <a:custGeom>
            <a:avLst/>
            <a:gdLst>
              <a:gd name="textAreaLeft" fmla="*/ 0 w 254160"/>
              <a:gd name="textAreaRight" fmla="*/ 254520 w 254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396040" y="3238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84760" y="32385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27840" y="32385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36912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71040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053120" y="3238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1696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05824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400960" y="3238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739360" y="323856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328840" y="3557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668680" y="35575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11400" y="355752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35268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69396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037040" y="3557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37508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718160" y="35575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05944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152800" y="3557520"/>
            <a:ext cx="253800" cy="319320"/>
          </a:xfrm>
          <a:custGeom>
            <a:avLst/>
            <a:gdLst>
              <a:gd name="textAreaLeft" fmla="*/ 0 w 253800"/>
              <a:gd name="textAreaRight" fmla="*/ 254160 w 25380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402160" y="3557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691240" y="35575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033960" y="355752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37524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716880" y="355752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059600" y="3557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39764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72308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06436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407440" y="3557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74548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328840" y="3917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668680" y="391788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011400" y="391788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35268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69396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037040" y="3917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37508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718160" y="391788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05944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152800" y="3917880"/>
            <a:ext cx="253800" cy="319320"/>
          </a:xfrm>
          <a:custGeom>
            <a:avLst/>
            <a:gdLst>
              <a:gd name="textAreaLeft" fmla="*/ 0 w 253800"/>
              <a:gd name="textAreaRight" fmla="*/ 254160 w 25380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402160" y="3917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691240" y="391788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033960" y="391788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37524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716880" y="391788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059600" y="3917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39764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2308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6436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407440" y="3917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74548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328840" y="55324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668680" y="55324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011400" y="553248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352680" y="55324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693960" y="55324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037040" y="55324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375080" y="55324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8160" y="55324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059440" y="55324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52800" y="553248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402160" y="55324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691240" y="55324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033960" y="553248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375240" y="55324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716880" y="553248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059600" y="55324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397640" y="55324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723080" y="55324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064360" y="55324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407440" y="55324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745480" y="55324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335320" y="58514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674800" y="585144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017880" y="585144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359160" y="58514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700440" y="58514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043520" y="58514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81560" y="58514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724280" y="585144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065560" y="58514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158920" y="5851440"/>
            <a:ext cx="254160" cy="319320"/>
          </a:xfrm>
          <a:custGeom>
            <a:avLst/>
            <a:gdLst>
              <a:gd name="textAreaLeft" fmla="*/ 0 w 254160"/>
              <a:gd name="textAreaRight" fmla="*/ 254520 w 254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408640" y="58514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697360" y="585144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040440" y="585144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381720" y="58514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723000" y="58514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066080" y="58514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404120" y="58514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729560" y="58514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070840" y="58514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413920" y="58514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751960" y="58514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335320" y="62118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674800" y="621180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017880" y="621180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359160" y="62118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700440" y="62118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043520" y="62118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381560" y="62118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724280" y="621180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065560" y="62118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158920" y="6211800"/>
            <a:ext cx="254160" cy="319320"/>
          </a:xfrm>
          <a:custGeom>
            <a:avLst/>
            <a:gdLst>
              <a:gd name="textAreaLeft" fmla="*/ 0 w 254160"/>
              <a:gd name="textAreaRight" fmla="*/ 254520 w 254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408640" y="62118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697360" y="621180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40440" y="621180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381720" y="62118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723000" y="62118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066080" y="62118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404120" y="62118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729560" y="62118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8070840" y="62118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413920" y="62118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751960" y="62118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28840" y="7837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668680" y="78375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011400" y="78375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352680" y="7837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693960" y="7837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037040" y="7837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375080" y="7837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718160" y="78375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059440" y="7837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152800" y="783756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402160" y="7837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691240" y="78375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033960" y="78375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375240" y="7837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716880" y="783756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059600" y="7837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97640" y="7837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723080" y="7837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64360" y="7837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407440" y="7837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745480" y="7837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335320" y="8156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674800" y="815652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017880" y="81565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359160" y="8156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700440" y="8156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043520" y="8156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381560" y="8156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724280" y="815652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065560" y="8156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158920" y="8156520"/>
            <a:ext cx="254160" cy="319320"/>
          </a:xfrm>
          <a:custGeom>
            <a:avLst/>
            <a:gdLst>
              <a:gd name="textAreaLeft" fmla="*/ 0 w 254160"/>
              <a:gd name="textAreaRight" fmla="*/ 254520 w 254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408640" y="8156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697360" y="815652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040440" y="81565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381720" y="8156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723000" y="8156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66080" y="8156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404120" y="8156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729560" y="8156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070840" y="8156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8413920" y="8156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8751960" y="8156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335320" y="8516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674800" y="851688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017880" y="851688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359160" y="8516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700440" y="8516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043520" y="8516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381560" y="8516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51688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065560" y="8516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158920" y="8516880"/>
            <a:ext cx="254160" cy="319320"/>
          </a:xfrm>
          <a:custGeom>
            <a:avLst/>
            <a:gdLst>
              <a:gd name="textAreaLeft" fmla="*/ 0 w 254160"/>
              <a:gd name="textAreaRight" fmla="*/ 254520 w 254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408640" y="8516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697360" y="851688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040440" y="851688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381720" y="8516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723000" y="8516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066080" y="8516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404120" y="8516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729560" y="8516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070840" y="8516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8413920" y="8516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751960" y="8516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9353520" y="3360600"/>
            <a:ext cx="1366920" cy="64620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FC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9353520" y="5664240"/>
            <a:ext cx="1366920" cy="64620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F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9425160" y="7969320"/>
            <a:ext cx="1439640" cy="64620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FOB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384800" y="1428840"/>
            <a:ext cx="0" cy="504036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232080" y="1447920"/>
            <a:ext cx="0" cy="280800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5033520" y="1500120"/>
            <a:ext cx="71640" cy="734544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36440" y="144360"/>
            <a:ext cx="5040360" cy="646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333399">
                  <a:alpha val="81176"/>
                </a:srgbClr>
              </a:gs>
              <a:gs pos="100000">
                <a:srgbClr val="000000"/>
              </a:gs>
            </a:gsLst>
            <a:lin ang="5400000"/>
          </a:gradFill>
          <a:ln w="507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ff00"/>
                </a:solidFill>
                <a:latin typeface="Arial"/>
              </a:rPr>
              <a:t>GRUPO 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3T23:08:09Z</dcterms:created>
  <dc:creator>LOPEZ REITZE</dc:creator>
  <dc:description/>
  <dc:language>en-US</dc:language>
  <cp:lastModifiedBy>jllb</cp:lastModifiedBy>
  <dcterms:modified xsi:type="dcterms:W3CDTF">2003-08-25T20:24:58Z</dcterms:modified>
  <cp:revision>25</cp:revision>
  <dc:subject/>
  <dc:title>Diapositiva 1</dc:title>
</cp:coreProperties>
</file>