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801600" cy="9601200"/>
  <p:notesSz cx="91074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6EF-2996-4B1B-A40C-B0A99941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F83-4E7B-4506-9E06-A6AEB4B8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F29-8467-47E0-BC8F-D5DDCFFE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9ED-9805-4B05-80AD-6F335E2B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638-0228-4456-B4C0-A6A194E6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67C-9617-41C6-992B-6F260C1E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AE9-7D17-43C5-99FB-3060474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24A-A35A-4CCC-B3B2-CD35162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BA0-78D0-49EB-89CE-E2B37562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291-07BE-4D97-B61B-2BC619A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47C-C767-4DF3-AD24-60DF04D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CC9-B858-41BB-BDA8-4BF1DF0E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2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35640" bIns="35640" anchor="t">
            <a:noAutofit/>
          </a:bodyPr>
          <a:lstStyle>
            <a:lvl1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  <a:defRPr b="0" lang="es-E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fld id="{A01D1279-2A81-47D5-AFA4-C7FF25CF4F4B}" type="slidenum">
              <a:rPr b="0" lang="es-E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52440" y="278460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C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69160" y="768024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rriage, Insuranc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FR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R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4120" y="370836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22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st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an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79360" y="8194680"/>
            <a:ext cx="541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 TRANSPORTE  Y  SEGURO   DEBE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 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877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PT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439040" y="5999040"/>
            <a:ext cx="539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0877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CIP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rriage,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I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suranc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04120" y="3852720"/>
            <a:ext cx="547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LLEGAN A PUER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STINO, ASUMIENDO EL COMPRADO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OS CORRESPONDIENTES SEGÚ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TRATO DE COMPRAVE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39040" y="5999040"/>
            <a:ext cx="539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 SE ENTREGRAN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RIMER TRANSPORTISTA PARA QUE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SLADE A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1081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44800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79072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1320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4732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16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154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974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387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932120" y="3238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18148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7056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81328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54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49620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389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17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502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84368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1867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5248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1146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45412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9720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38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797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22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60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036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44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938240" y="3557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1879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4770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197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610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50232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454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183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5088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8501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1932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5312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146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45412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9720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38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797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822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60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036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44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938240" y="3917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1879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770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8197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1610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50232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8454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83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088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8501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1932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5312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1146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45412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9720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384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97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228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160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503600" y="60246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844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38240" y="602460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18796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7704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19760" y="60246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610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50232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4540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18344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088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85016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193240" y="60246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531280" y="60246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1207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6060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8036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449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4862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289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167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51008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85136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944720" y="634356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9444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83160" y="634356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26240" y="634356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6752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088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5152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8992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515360" y="634356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5664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199360" y="634356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537400" y="634356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207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46060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036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449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862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289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67360" y="67136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008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136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944720" y="6703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9444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483160" y="6703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826240" y="6703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6752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088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85152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18992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15360" y="6703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85664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99360" y="6703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537400" y="6703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146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5412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9720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1384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797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8228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60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03600" y="7473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844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38240" y="7473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18796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47704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19760" y="7473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0232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4540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18344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5088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85016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193240" y="7473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531280" y="7473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207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46060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036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49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862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289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67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51008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5136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944720" y="77929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19444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483160" y="77929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826240" y="77929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16752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5088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5152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8992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515360" y="77929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85664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199360" y="77929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537400" y="77929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207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46060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036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1449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862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289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67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1008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5136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44720" y="81532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19444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483160" y="81532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826240" y="81532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16752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5088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85152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8992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515360" y="81532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85664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8199360" y="81532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8537400" y="81532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9137520" y="33847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9137520" y="47293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128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5268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7957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1370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83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8210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1590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50216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4344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936800" y="45846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8652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475240" y="45846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818320" y="45846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15960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5008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4360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18200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07440" y="458460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84872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191440" y="45846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529480" y="45846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193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45916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80188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431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4844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8275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65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50864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8499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43280" y="4903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19264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481720" y="4903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24440" y="4903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657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50700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85008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18812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5135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85484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197920" y="4903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535960" y="4903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1193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45916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80188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1431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4844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8275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165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0864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499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43280" y="5264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19264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481720" y="5264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824440" y="5264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1657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50700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5008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18812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5135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5484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197920" y="5264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535960" y="5264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9209160" y="61214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192800" y="1055520"/>
            <a:ext cx="0" cy="7488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529160" y="984240"/>
            <a:ext cx="0" cy="58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9209160" y="762948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816440" y="1055520"/>
            <a:ext cx="0" cy="712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352440" y="206388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 LOS   TERMINOS 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PUESTO QUE 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D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969160" y="407988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969160" y="5675400"/>
            <a:ext cx="6264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3720" y="4092480"/>
            <a:ext cx="51134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AF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339320" y="411480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N EL LUGAR CONVENIDOEN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39320" y="6058080"/>
            <a:ext cx="55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S     MERCADERIAS HAN SIDO ENTREG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N EL LUGAR CONVENIDO EN LA FRONT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3736800" y="2496960"/>
            <a:ext cx="1366920" cy="9115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S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481880" y="4114800"/>
            <a:ext cx="547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434720" y="5999040"/>
            <a:ext cx="555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SE PONEN A DISP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A BORD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EN EL 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EQ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481880" y="4114800"/>
            <a:ext cx="55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  COMPRADOR   EN  EL   MUELLE  EN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268760" y="5999040"/>
            <a:ext cx="56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 COMPRADOR   EN   EL   MUELLE   EN   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PUERTO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LEYENDA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0240" y="7026120"/>
            <a:ext cx="16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37080" y="7032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DU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7880" y="7026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25480" y="703260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06960" y="70390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UERTO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4"/>
            <a:endCxn id="48" idx="0"/>
          </p:cNvCxnSpPr>
          <p:nvPr/>
        </p:nvCxnSpPr>
        <p:spPr>
          <a:xfrm flipH="1" rot="16200000">
            <a:off x="2792520" y="3727080"/>
            <a:ext cx="2449800" cy="4161600"/>
          </a:xfrm>
          <a:prstGeom prst="bentConnector3">
            <a:avLst>
              <a:gd name="adj1" fmla="val 49970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850240" y="70531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TRANSPO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LOCAL P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3880" y="4081320"/>
            <a:ext cx="43164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4"/>
            <a:endCxn id="59" idx="0"/>
          </p:cNvCxnSpPr>
          <p:nvPr/>
        </p:nvCxnSpPr>
        <p:spPr>
          <a:xfrm flipH="1" rot="16200000">
            <a:off x="6882840" y="4175640"/>
            <a:ext cx="2684880" cy="3070800"/>
          </a:xfrm>
          <a:prstGeom prst="bentConnector3">
            <a:avLst>
              <a:gd name="adj1" fmla="val 4996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4"/>
            <a:endCxn id="49" idx="0"/>
          </p:cNvCxnSpPr>
          <p:nvPr/>
        </p:nvCxnSpPr>
        <p:spPr>
          <a:xfrm flipH="1" rot="16200000">
            <a:off x="837360" y="5106600"/>
            <a:ext cx="2442240" cy="1397880"/>
          </a:xfrm>
          <a:prstGeom prst="bentConnector3">
            <a:avLst>
              <a:gd name="adj1" fmla="val 6753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0724400" y="703260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PAÍ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6"/>
            <a:endCxn id="64" idx="0"/>
          </p:cNvCxnSpPr>
          <p:nvPr/>
        </p:nvCxnSpPr>
        <p:spPr>
          <a:xfrm>
            <a:off x="7696080" y="4223880"/>
            <a:ext cx="3880800" cy="280908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3160" y="4008600"/>
            <a:ext cx="576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4"/>
            <a:endCxn id="50" idx="0"/>
          </p:cNvCxnSpPr>
          <p:nvPr/>
        </p:nvCxnSpPr>
        <p:spPr>
          <a:xfrm flipH="1" rot="16200000">
            <a:off x="2316240" y="4925160"/>
            <a:ext cx="2592720" cy="1621440"/>
          </a:xfrm>
          <a:prstGeom prst="bentConnector3">
            <a:avLst>
              <a:gd name="adj1" fmla="val 34536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U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livered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uty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306560" y="411480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 COSTOS      SE 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 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 EN 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 ANTES DE PAGAR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7404120" y="5999040"/>
            <a:ext cx="555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 EN 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CONVENIDO    DESPU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  PAGADOS LOS  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748044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68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348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DDP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443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404120" y="3792600"/>
            <a:ext cx="554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L COMPRADOR  EN  EL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TRANSPORTE EN EL 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  DESPUES   DE    PAGADOS  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332480" y="5981760"/>
            <a:ext cx="561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RIESGOS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     SE      TRANSFIEREN 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  COMPRADOR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MERCADERIAS SE PONEN A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L COMPRADOR  EN  EL MEDIOI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TRANSPORTELUGAR DE DES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    DESPUES    DE  PAGADOS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DERECHOS DE ADU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337520" y="8194680"/>
            <a:ext cx="532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TRANSPORTE DEBE SER CONTRATADO POR    EL  VENDE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761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1865160" y="1500120"/>
            <a:ext cx="7920360" cy="128448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21081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44800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9072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320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732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163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154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9748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8387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32120" y="2855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18148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470560" y="2855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813280" y="2855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1545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496200" y="2855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83892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17696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024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368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186760" y="2855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524800" y="2855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1146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45412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9720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1384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4797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8228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60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503600" y="3174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844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938240" y="31748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18796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47704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819760" y="3174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1610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50232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84540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18344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5088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85016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193240" y="3174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8531280" y="3174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146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45412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9720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384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4797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8228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160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503600" y="3535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844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938240" y="35352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18796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47704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819760" y="3535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1610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50232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84540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18344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5088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85016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193240" y="3535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8531280" y="3535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1146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45412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9720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1384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4797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228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160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53769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844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938240" y="53769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18796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47704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819760" y="53769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1610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0232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84540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18344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088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85016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8193240" y="53769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8531280" y="53769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1207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6060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8036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1449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4862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8289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167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51008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85136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944720" y="56959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519444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483160" y="56959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826240" y="56959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616752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5088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5152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18992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15360" y="569592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85664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8199360" y="56959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8537400" y="56959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1207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46060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8036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1449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4862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8289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67360" y="60660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51008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5136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1944720" y="60562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19444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483160" y="60562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826240" y="60562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16752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5088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85152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18992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515360" y="60562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85664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8199360" y="60562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537400" y="60562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1146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45412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79720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1384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4797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8228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160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503600" y="66722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844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938240" y="667224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18796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47704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819760" y="66722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1610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50232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84540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18344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5088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785016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193240" y="66722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8531280" y="66722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1207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46060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8036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1449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4862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8289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167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51008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85136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944720" y="706284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19444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483160" y="706284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26240" y="706284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16752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5088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85152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18992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515360" y="706284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85664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8199360" y="706284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8537400" y="706284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1207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46060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8036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1449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862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8289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67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51008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85136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944720" y="742320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19444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483160" y="742320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826240" y="742320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16752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088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85152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18992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515360" y="742320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85664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199360" y="742320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537400" y="742320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3360" y="7308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9137520" y="30020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9137520" y="422424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1128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45268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7957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1370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4783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8210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1590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50216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84344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36800" y="40798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18652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475240" y="40798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818320" y="40798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615960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5008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84360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18200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507440" y="40798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84872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191440" y="40798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529480" y="40798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1193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5916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0188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1431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4844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8275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0864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8499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943280" y="439884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19264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481720" y="43988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824440" y="43988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657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50700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85008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18812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5135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85484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8197920" y="43988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535960" y="43988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1193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45916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280188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1431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4844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275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165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50864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8499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943280" y="475920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19264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481720" y="47592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824440" y="47592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1657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0700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85008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18812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5135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85484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8197920" y="47592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8535960" y="47592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9137520" y="5473800"/>
            <a:ext cx="13687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192800" y="1055520"/>
            <a:ext cx="0" cy="66978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905520" y="1055520"/>
            <a:ext cx="0" cy="4032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9137520" y="6816600"/>
            <a:ext cx="1295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1128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45268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7957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1370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4783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8210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590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50216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84344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936800" y="80517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8652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475240" y="80517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818320" y="80517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15960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5008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84360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18200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7507440" y="80517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84872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8191440" y="80517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8529480" y="80517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1193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45916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80188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1431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4844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275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165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50864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8499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943280" y="84423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19264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81720" y="84423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824440" y="84423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1657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50700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85008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718812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5135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785484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8197920" y="84423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8535960" y="84423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1193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45916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80188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1431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844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275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65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50864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8499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943280" y="880272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19264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81720" y="880272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824440" y="880272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1657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50700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685008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18812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5135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85484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8197920" y="880272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8535960" y="880272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9137520" y="8196120"/>
            <a:ext cx="122400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8201160" y="1271520"/>
            <a:ext cx="71280" cy="777708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0" y="1112760"/>
            <a:ext cx="12450600" cy="82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10800" spc="-1" strike="noStrike">
                <a:solidFill>
                  <a:srgbClr val="333399"/>
                </a:solidFill>
                <a:latin typeface="Arial"/>
              </a:rPr>
              <a:t>INCOTERMS 2000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DISTRIBUCIÓN DE COSTOS, RIESGOS 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ANSPORTE DE MERCADE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0" y="263988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8673120" y="8794800"/>
            <a:ext cx="39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JOSÉ LUIS LÓPEZ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NTIAGO,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9144000"/>
            <a:ext cx="914400" cy="914400"/>
          </a:xfrm>
          <a:prstGeom prst="rect">
            <a:avLst/>
          </a:prstGeom>
          <a:solidFill>
            <a:srgbClr val="bbe0e3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5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8440" y="2855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EL TERMINO</a:t>
            </a:r>
            <a:r>
              <a:rPr b="1" lang="es-CL" sz="2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EXW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E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4880" y="192240"/>
            <a:ext cx="52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EXW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EX W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04840" y="4056120"/>
            <a:ext cx="553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AS       MERCADERIAS       SE        PONEN      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ISPOSICIÓN   DEL    COMPRADOR    EN     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STABLECIMIENTO 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35800" y="5999040"/>
            <a:ext cx="523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OS    RIESGOS    SE     TRANSFIEREN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NDEDOR  AL  COMPRADOR  CUANDO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RCADERIAS  SE  PONEN  A  DIS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COMPRADOR EN EL ESTAB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 VENDE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80800" y="8278920"/>
            <a:ext cx="541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EL COMPRADOR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2440" y="2174760"/>
            <a:ext cx="7200720" cy="1660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00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2440" y="3287880"/>
            <a:ext cx="13169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BAJO LOS  TERMINOS  </a:t>
            </a:r>
            <a:r>
              <a:rPr b="1" lang="es-CL" sz="4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EL VENDEDOR CONTRATA LOS TRANSPORTES INTERN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HASTA LUGAR DE EMBARQUE EN EL PAIS DE EXPORT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360" y="696960"/>
            <a:ext cx="1152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GRUPO  F</a:t>
            </a:r>
            <a:r>
              <a:rPr b="1" lang="es-CL" sz="72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C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21520" y="5675400"/>
            <a:ext cx="511164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ree 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4880" y="192240"/>
            <a:ext cx="6423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CA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C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4008600"/>
            <a:ext cx="559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5999040"/>
            <a:ext cx="56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ENTRE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AL   TRANSPORTISTA   EN    EL    LUGAR  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8113680"/>
            <a:ext cx="555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R    EL  COMPRADOR,  O  POR CUENT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OMP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AS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A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longside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09880" y="4008600"/>
            <a:ext cx="547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STADO 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0120" y="5999040"/>
            <a:ext cx="541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HAN SIDO PUESTA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STADO  DEL   BUQUE   EN EL PUERTO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EMBARQUE CONV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348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333399"/>
                </a:solidFill>
                <a:latin typeface="Arial"/>
              </a:rPr>
              <a:t>FOB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ree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 O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1" lang="es-MX" sz="3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s-MX" sz="3800" spc="-1" strike="noStrike">
                <a:solidFill>
                  <a:srgbClr val="333399"/>
                </a:solidFill>
                <a:latin typeface="Arial"/>
              </a:rPr>
              <a:t>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52440" y="2428920"/>
            <a:ext cx="7920000" cy="1284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23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184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049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462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874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305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68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1132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529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5960" y="440856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9568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440856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27480" y="440856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687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10040" y="44085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5312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9116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10600" y="4008600"/>
            <a:ext cx="560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OS     COSTOS      SE      TRANSFIEREN   D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DEDOR      AL     COMPRADOR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LAS 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166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5788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00960" y="44085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9000" y="44085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84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6832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1400" y="628020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526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939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366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75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1780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59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2440" y="6280200"/>
            <a:ext cx="299880" cy="608040"/>
          </a:xfrm>
          <a:custGeom>
            <a:avLst/>
            <a:gdLst>
              <a:gd name="textAreaLeft" fmla="*/ 0 w 299880"/>
              <a:gd name="textAreaRight" fmla="*/ 300240 w 2998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02160" y="628020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9088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33960" y="628020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52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652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924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9764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230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6436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07080" y="628020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5480" y="628020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41200" y="599904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OS    RIESGOS    SE     TRANSFIEREN     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VENDEDOR     AL    COMPRADOR      CUAN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   MERCADERIAS CRUZAN LA BORD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BUQUE    EN    EL    PUERTO   DE  EMBARQU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Arial"/>
              </a:rPr>
              <a:t>CONVEN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6184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9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62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68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1132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5960" y="8224920"/>
            <a:ext cx="300240" cy="608040"/>
          </a:xfrm>
          <a:custGeom>
            <a:avLst/>
            <a:gdLst>
              <a:gd name="textAreaLeft" fmla="*/ 0 w 300240"/>
              <a:gd name="textAreaRight" fmla="*/ 300240 w 3002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84760" y="8224920"/>
            <a:ext cx="468000" cy="608040"/>
          </a:xfrm>
          <a:custGeom>
            <a:avLst/>
            <a:gdLst>
              <a:gd name="textAreaLeft" fmla="*/ 0 w 468000"/>
              <a:gd name="textAreaRight" fmla="*/ 468360 w 4680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27480" y="8224920"/>
            <a:ext cx="468360" cy="608040"/>
          </a:xfrm>
          <a:custGeom>
            <a:avLst/>
            <a:gdLst>
              <a:gd name="textAreaLeft" fmla="*/ 0 w 468360"/>
              <a:gd name="textAreaRight" fmla="*/ 468720 w 4683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68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911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578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009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9520" y="40798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Arial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1760" y="59529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0600" y="7896240"/>
            <a:ext cx="14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480800" y="8194680"/>
            <a:ext cx="541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  TRANSPORTE   DEBE  SER  CONTRA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R    EL  COMPRADOR,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0516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79720" y="1500120"/>
            <a:ext cx="7920000" cy="1284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3223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6220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052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465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878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305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689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168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52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46320" y="3238560"/>
            <a:ext cx="254160" cy="318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04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84760" y="3238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27840" y="3238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691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1040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5312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1696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58240" y="3238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400960" y="3238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739360" y="3238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288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6868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1140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939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370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75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1816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594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52800" y="355752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0216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91240" y="3557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33960" y="3557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752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6880" y="355752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5960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764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230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6436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07440" y="3557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745480" y="3557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288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868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140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939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0370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75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816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594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52800" y="3917880"/>
            <a:ext cx="253800" cy="319320"/>
          </a:xfrm>
          <a:custGeom>
            <a:avLst/>
            <a:gdLst>
              <a:gd name="textAreaLeft" fmla="*/ 0 w 253800"/>
              <a:gd name="textAreaRight" fmla="*/ 254160 w 253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0216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91240" y="3917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33960" y="3917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752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16880" y="3917880"/>
            <a:ext cx="398160" cy="319320"/>
          </a:xfrm>
          <a:custGeom>
            <a:avLst/>
            <a:gdLst>
              <a:gd name="textAreaLeft" fmla="*/ 0 w 398160"/>
              <a:gd name="textAreaRight" fmla="*/ 398520 w 39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05960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764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230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6436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407440" y="3917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745480" y="3917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3288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868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1140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526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939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70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75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816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594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52800" y="553248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0216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691240" y="553248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33960" y="553248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752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16880" y="553248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5960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764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230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06436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407440" y="553248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745480" y="553248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353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7480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1788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3591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7004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435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81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65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58920" y="585144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0864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97360" y="585144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0440" y="585144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3817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2300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6608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0412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295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07084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13920" y="585144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51960" y="585144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353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1788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591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004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435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81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65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58920" y="621180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0864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97360" y="621180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40440" y="621180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817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2300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6608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40412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295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7084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920" y="621180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751960" y="621180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288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868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1140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526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6939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70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75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816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594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52800" y="7837560"/>
            <a:ext cx="253800" cy="318960"/>
          </a:xfrm>
          <a:custGeom>
            <a:avLst/>
            <a:gdLst>
              <a:gd name="textAreaLeft" fmla="*/ 0 w 253800"/>
              <a:gd name="textAreaRight" fmla="*/ 254160 w 25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0216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91240" y="7837560"/>
            <a:ext cx="396720" cy="318960"/>
          </a:xfrm>
          <a:custGeom>
            <a:avLst/>
            <a:gdLst>
              <a:gd name="textAreaLeft" fmla="*/ 0 w 396720"/>
              <a:gd name="textAreaRight" fmla="*/ 397080 w 3967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33960" y="7837560"/>
            <a:ext cx="397080" cy="318960"/>
          </a:xfrm>
          <a:custGeom>
            <a:avLst/>
            <a:gdLst>
              <a:gd name="textAreaLeft" fmla="*/ 0 w 397080"/>
              <a:gd name="textAreaRight" fmla="*/ 397440 w 3970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52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16880" y="7837560"/>
            <a:ext cx="398160" cy="318960"/>
          </a:xfrm>
          <a:custGeom>
            <a:avLst/>
            <a:gdLst>
              <a:gd name="textAreaLeft" fmla="*/ 0 w 398160"/>
              <a:gd name="textAreaRight" fmla="*/ 398520 w 39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5960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9764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230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6436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07440" y="7837560"/>
            <a:ext cx="395280" cy="318960"/>
          </a:xfrm>
          <a:custGeom>
            <a:avLst/>
            <a:gdLst>
              <a:gd name="textAreaLeft" fmla="*/ 0 w 395280"/>
              <a:gd name="textAreaRight" fmla="*/ 395640 w 395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745480" y="7837560"/>
            <a:ext cx="398520" cy="318960"/>
          </a:xfrm>
          <a:custGeom>
            <a:avLst/>
            <a:gdLst>
              <a:gd name="textAreaLeft" fmla="*/ 0 w 398520"/>
              <a:gd name="textAreaRight" fmla="*/ 398880 w 398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353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7480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1788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591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04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435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381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2428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65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815652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864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697360" y="815652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40440" y="815652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817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2300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6608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0412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7295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7084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13920" y="815652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751960" y="815652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353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7480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1788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91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004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0435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81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65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58920" y="8516880"/>
            <a:ext cx="254160" cy="319320"/>
          </a:xfrm>
          <a:custGeom>
            <a:avLst/>
            <a:gdLst>
              <a:gd name="textAreaLeft" fmla="*/ 0 w 254160"/>
              <a:gd name="textAreaRight" fmla="*/ 254520 w 254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0864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97360" y="8516880"/>
            <a:ext cx="397080" cy="319320"/>
          </a:xfrm>
          <a:custGeom>
            <a:avLst/>
            <a:gdLst>
              <a:gd name="textAreaLeft" fmla="*/ 0 w 397080"/>
              <a:gd name="textAreaRight" fmla="*/ 397440 w 3970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40440" y="8516880"/>
            <a:ext cx="396720" cy="319320"/>
          </a:xfrm>
          <a:custGeom>
            <a:avLst/>
            <a:gdLst>
              <a:gd name="textAreaLeft" fmla="*/ 0 w 396720"/>
              <a:gd name="textAreaRight" fmla="*/ 397080 w 396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817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2300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6608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0412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7295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7084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413920" y="8516880"/>
            <a:ext cx="395280" cy="319320"/>
          </a:xfrm>
          <a:custGeom>
            <a:avLst/>
            <a:gdLst>
              <a:gd name="textAreaLeft" fmla="*/ 0 w 395280"/>
              <a:gd name="textAreaRight" fmla="*/ 395640 w 3952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751960" y="8516880"/>
            <a:ext cx="398520" cy="319320"/>
          </a:xfrm>
          <a:custGeom>
            <a:avLst/>
            <a:gdLst>
              <a:gd name="textAreaLeft" fmla="*/ 0 w 398520"/>
              <a:gd name="textAreaRight" fmla="*/ 398880 w 3985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353520" y="336060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353520" y="5664240"/>
            <a:ext cx="136692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425160" y="7969320"/>
            <a:ext cx="1439640" cy="646200"/>
          </a:xfrm>
          <a:prstGeom prst="rect">
            <a:avLst/>
          </a:prstGeom>
          <a:gradFill rotWithShape="0">
            <a:gsLst>
              <a:gs pos="0">
                <a:srgbClr val="8eaaac"/>
              </a:gs>
              <a:gs pos="50000">
                <a:srgbClr val="bbe0e3">
                  <a:alpha val="14117"/>
                </a:srgbClr>
              </a:gs>
              <a:gs pos="100000">
                <a:srgbClr val="8eaaa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333399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84800" y="1428840"/>
            <a:ext cx="0" cy="50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32080" y="1447920"/>
            <a:ext cx="0" cy="280800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033520" y="1500120"/>
            <a:ext cx="71640" cy="734544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6440" y="144360"/>
            <a:ext cx="5040360" cy="646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3399">
                  <a:alpha val="81176"/>
                </a:srgbClr>
              </a:gs>
              <a:gs pos="100000">
                <a:srgbClr val="000000"/>
              </a:gs>
            </a:gsLst>
            <a:lin ang="5400000"/>
          </a:gradFill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ff00"/>
                </a:solidFill>
                <a:latin typeface="Arial"/>
              </a:rPr>
              <a:t>GRUPO 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03-08-25T20:24:58Z</dcterms:modified>
  <cp:revision>25</cp:revision>
  <dc:subject/>
  <dc:title>Diapositiva 1</dc:title>
</cp:coreProperties>
</file>