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33B-2119-444A-9748-FED49444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025-EDDD-45D2-B24B-388BF371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C3A-7F31-4B64-AC5B-D01D703F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178-CAA6-4D19-A38D-C59D7046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1C6-B108-44B2-8199-5599AC64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A81-7280-41ED-9F96-7FDB077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192-DF6C-4063-91C1-77A9C7FF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41F-1840-4B63-9949-6AA0C335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A03-A57C-4CE0-AB95-50A9EB2D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241-4F6F-47C9-87B1-7898071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62E-7D00-406C-A91F-76FD687F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D54-0E51-4388-ADAE-52896E4F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B934-2E96-4E08-A233-73BAB702F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62320" y="6400800"/>
          <a:ext cx="12952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400800"/>
                    <a:ext cx="12952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362320" y="632448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23440" descr=""/>
          <p:cNvPicPr/>
          <p:nvPr/>
        </p:nvPicPr>
        <p:blipFill>
          <a:blip r:embed="rId3"/>
          <a:stretch/>
        </p:blipFill>
        <p:spPr>
          <a:xfrm>
            <a:off x="2895480" y="5257800"/>
            <a:ext cx="6858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2209680" y="3886200"/>
          <a:ext cx="1019160" cy="92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886200"/>
                    <a:ext cx="10191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8600" y="4411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066680" y="6781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2711880" y="292428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6668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040400">
            <a:off x="2039040" y="4266720"/>
            <a:ext cx="398520" cy="295560"/>
          </a:xfrm>
          <a:custGeom>
            <a:avLst/>
            <a:gdLst>
              <a:gd name="textAreaLeft" fmla="*/ 69480 w 398520"/>
              <a:gd name="textAreaRight" fmla="*/ 289080 w 398520"/>
              <a:gd name="textAreaTop" fmla="*/ 39600 h 295560"/>
              <a:gd name="textAreaBottom" fmla="*/ 25596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321000">
            <a:off x="2514240" y="4038120"/>
            <a:ext cx="461880" cy="231840"/>
          </a:xfrm>
          <a:custGeom>
            <a:avLst/>
            <a:gdLst>
              <a:gd name="textAreaLeft" fmla="*/ 80640 w 461880"/>
              <a:gd name="textAreaRight" fmla="*/ 334800 w 461880"/>
              <a:gd name="textAreaTop" fmla="*/ 30960 h 231840"/>
              <a:gd name="textAreaBottom" fmla="*/ 200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4724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11600" y="25441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23470" descr=""/>
          <p:cNvPicPr/>
          <p:nvPr/>
        </p:nvPicPr>
        <p:blipFill>
          <a:blip r:embed="rId6"/>
          <a:stretch/>
        </p:blipFill>
        <p:spPr>
          <a:xfrm>
            <a:off x="2133720" y="441360"/>
            <a:ext cx="1218960" cy="1235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3400" y="152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2004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77400">
            <a:off x="2358720" y="6400800"/>
            <a:ext cx="460440" cy="227160"/>
          </a:xfrm>
          <a:custGeom>
            <a:avLst/>
            <a:gdLst>
              <a:gd name="textAreaLeft" fmla="*/ 80640 w 460440"/>
              <a:gd name="textAreaRight" fmla="*/ 334080 w 460440"/>
              <a:gd name="textAreaTop" fmla="*/ 30240 h 227160"/>
              <a:gd name="textAreaBottom" fmla="*/ 196920 h 22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1541200">
            <a:off x="2360520" y="7086600"/>
            <a:ext cx="459000" cy="304920"/>
          </a:xfrm>
          <a:custGeom>
            <a:avLst/>
            <a:gdLst>
              <a:gd name="textAreaLeft" fmla="*/ 80280 w 459000"/>
              <a:gd name="textAreaRight" fmla="*/ 333000 w 459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4160" y="7391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45360" y="784872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5668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640" y="88390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73080" y="89154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7543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754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8153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1120" y="62784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8112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8240" y="643104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5320" y="6553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6781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6781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4520" y="66596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677376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86400" y="4724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732560" y="391896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800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779720" y="365904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008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5343840" y="36892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00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86728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12360" y="79200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4320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0004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190512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3392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598120" y="266688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481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71800" y="17521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9480" y="990720"/>
            <a:ext cx="150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y paga credi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3200400"/>
          <a:ext cx="9903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3200400"/>
                    <a:ext cx="9903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flipH="1">
            <a:off x="2133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9240" y="373392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64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440640" y="573372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477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h02827j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106668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373392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8600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13336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57280" y="1828800"/>
            <a:ext cx="90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2189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3840" y="7238880"/>
          <a:ext cx="1324080" cy="164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384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86400" y="7238880"/>
          <a:ext cx="1324080" cy="164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419800" y="5638680"/>
          <a:ext cx="1438200" cy="1133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9800" y="5638680"/>
                    <a:ext cx="14382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43480" y="990720"/>
          <a:ext cx="1438200" cy="113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3480" y="990720"/>
                    <a:ext cx="14382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rot="10472400">
            <a:off x="2971440" y="6248160"/>
            <a:ext cx="458640" cy="304560"/>
          </a:xfrm>
          <a:custGeom>
            <a:avLst/>
            <a:gdLst>
              <a:gd name="textAreaLeft" fmla="*/ 80280 w 458640"/>
              <a:gd name="textAreaRight" fmla="*/ 332640 w 45864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7591400">
            <a:off x="3376800" y="7110000"/>
            <a:ext cx="610920" cy="258840"/>
          </a:xfrm>
          <a:custGeom>
            <a:avLst/>
            <a:gdLst>
              <a:gd name="textAreaLeft" fmla="*/ 106920 w 610920"/>
              <a:gd name="textAreaRight" fmla="*/ 443160 w 610920"/>
              <a:gd name="textAreaTop" fmla="*/ 34560 h 258840"/>
              <a:gd name="textAreaBottom" fmla="*/ 224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r00074_" descr=""/>
          <p:cNvPicPr/>
          <p:nvPr/>
        </p:nvPicPr>
        <p:blipFill>
          <a:blip r:embed="rId18"/>
          <a:stretch/>
        </p:blipFill>
        <p:spPr>
          <a:xfrm>
            <a:off x="2286000" y="8229600"/>
            <a:ext cx="1143000" cy="53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8686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8686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8400" y="87231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6:17:55Z</dcterms:created>
  <dc:creator>López Reitze</dc:creator>
  <dc:description/>
  <dc:language>en-US</dc:language>
  <cp:lastModifiedBy>JLLB</cp:lastModifiedBy>
  <cp:lastPrinted>2000-11-15T14:09:20Z</cp:lastPrinted>
  <dcterms:modified xsi:type="dcterms:W3CDTF">2002-06-10T15:36:59Z</dcterms:modified>
  <cp:revision>5</cp:revision>
  <dc:subject/>
  <dc:title>Presentación de PowerPoint</dc:title>
</cp:coreProperties>
</file>