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BB4-F722-4E51-9DE3-3A53CFCF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FC8-733D-439D-8C94-D852508D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44C-76E7-4391-BF7E-8EFEC895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7CB-F444-4567-8F86-68741ABF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8C9-FE73-40C1-B540-3543A4C5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4C7-B8F4-4D54-BD0B-8A6B862F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2D0-C17B-42E6-BC30-8078D6BE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769-6058-454F-B5D1-3AC70AC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75D-B07E-4118-A211-AEA65190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9E9-7375-454B-B9D1-29918997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8DE-BA12-4DF1-9CA0-778B649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EAC-408D-4778-B5A1-FD3A25D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FD9-22A0-4D6F-995D-79BA6315C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62320" y="6400800"/>
          <a:ext cx="12952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400800"/>
                    <a:ext cx="12952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362320" y="632448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23440" descr=""/>
          <p:cNvPicPr/>
          <p:nvPr/>
        </p:nvPicPr>
        <p:blipFill>
          <a:blip r:embed="rId3"/>
          <a:stretch/>
        </p:blipFill>
        <p:spPr>
          <a:xfrm>
            <a:off x="2895480" y="5257800"/>
            <a:ext cx="6858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2209680" y="3886200"/>
          <a:ext cx="1019160" cy="92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886200"/>
                    <a:ext cx="1019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4411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066680" y="6781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2711880" y="292428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06668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040400">
            <a:off x="2039040" y="4266720"/>
            <a:ext cx="398520" cy="295560"/>
          </a:xfrm>
          <a:custGeom>
            <a:avLst/>
            <a:gdLst>
              <a:gd name="textAreaLeft" fmla="*/ 69480 w 398520"/>
              <a:gd name="textAreaRight" fmla="*/ 289080 w 398520"/>
              <a:gd name="textAreaTop" fmla="*/ 39600 h 295560"/>
              <a:gd name="textAreaBottom" fmla="*/ 25596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21000">
            <a:off x="2514240" y="4038120"/>
            <a:ext cx="461880" cy="231840"/>
          </a:xfrm>
          <a:custGeom>
            <a:avLst/>
            <a:gdLst>
              <a:gd name="textAreaLeft" fmla="*/ 80640 w 461880"/>
              <a:gd name="textAreaRight" fmla="*/ 334800 w 461880"/>
              <a:gd name="textAreaTop" fmla="*/ 30960 h 231840"/>
              <a:gd name="textAreaBottom" fmla="*/ 200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4724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11600" y="25441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0223470" descr=""/>
          <p:cNvPicPr/>
          <p:nvPr/>
        </p:nvPicPr>
        <p:blipFill>
          <a:blip r:embed="rId6"/>
          <a:stretch/>
        </p:blipFill>
        <p:spPr>
          <a:xfrm>
            <a:off x="2133720" y="441360"/>
            <a:ext cx="1218960" cy="1235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3400" y="152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2004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77400">
            <a:off x="2358720" y="6400800"/>
            <a:ext cx="460440" cy="227160"/>
          </a:xfrm>
          <a:custGeom>
            <a:avLst/>
            <a:gdLst>
              <a:gd name="textAreaLeft" fmla="*/ 80640 w 460440"/>
              <a:gd name="textAreaRight" fmla="*/ 334080 w 460440"/>
              <a:gd name="textAreaTop" fmla="*/ 30240 h 227160"/>
              <a:gd name="textAreaBottom" fmla="*/ 196920 h 22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541200">
            <a:off x="2360520" y="7086600"/>
            <a:ext cx="459000" cy="304920"/>
          </a:xfrm>
          <a:custGeom>
            <a:avLst/>
            <a:gdLst>
              <a:gd name="textAreaLeft" fmla="*/ 80280 w 459000"/>
              <a:gd name="textAreaRight" fmla="*/ 333000 w 459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4160" y="7391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45360" y="784872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5668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640" y="88390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3080" y="89154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754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8153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1120" y="627840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8112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8240" y="643104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6553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678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6781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4520" y="66596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677376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86400" y="4724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732560" y="391896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779720" y="365904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008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43840" y="368928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00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6728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2360" y="79200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432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000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19051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598120" y="266688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481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71800" y="17521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9480" y="99072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447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3200400"/>
          <a:ext cx="9903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3200400"/>
                    <a:ext cx="9903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flipH="1">
            <a:off x="2133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9240" y="373392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64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440640" y="57337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477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06668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3733920"/>
            <a:ext cx="15238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13336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7280" y="1828800"/>
            <a:ext cx="90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2189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3840" y="7238880"/>
          <a:ext cx="1324080" cy="164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384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86400" y="7238880"/>
          <a:ext cx="1324080" cy="164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6400" y="7238880"/>
                    <a:ext cx="13240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419800" y="5638680"/>
          <a:ext cx="1438200" cy="1133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9800" y="5638680"/>
                    <a:ext cx="14382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43480" y="990720"/>
          <a:ext cx="1438200" cy="113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3480" y="990720"/>
                    <a:ext cx="1438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rot="10472400">
            <a:off x="2971440" y="6248160"/>
            <a:ext cx="458640" cy="30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7591400">
            <a:off x="3376800" y="7110000"/>
            <a:ext cx="610920" cy="258840"/>
          </a:xfrm>
          <a:custGeom>
            <a:avLst/>
            <a:gdLst>
              <a:gd name="textAreaLeft" fmla="*/ 106920 w 610920"/>
              <a:gd name="textAreaRight" fmla="*/ 443160 w 610920"/>
              <a:gd name="textAreaTop" fmla="*/ 34560 h 258840"/>
              <a:gd name="textAreaBottom" fmla="*/ 224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r00074_" descr=""/>
          <p:cNvPicPr/>
          <p:nvPr/>
        </p:nvPicPr>
        <p:blipFill>
          <a:blip r:embed="rId18"/>
          <a:stretch/>
        </p:blipFill>
        <p:spPr>
          <a:xfrm>
            <a:off x="2286000" y="8229600"/>
            <a:ext cx="1143000" cy="53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8686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8686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8400" y="87231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B</cp:lastModifiedBy>
  <cp:lastPrinted>2000-11-15T14:09:20Z</cp:lastPrinted>
  <dcterms:modified xsi:type="dcterms:W3CDTF">2002-06-10T15:36:59Z</dcterms:modified>
  <cp:revision>5</cp:revision>
  <dc:subject/>
  <dc:title>Presentación de PowerPoint</dc:title>
</cp:coreProperties>
</file>