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613-0415-4D04-B09A-5711395A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989-8690-4706-BBA2-A5C80E2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2A4-6D9A-4B1B-A6B1-AEBF45D7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88E-CD20-462E-8DC7-2249EFB5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3C5-F86F-4376-B9E6-F7050A7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8FF-D1B8-4B9C-B06F-038FBD3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A94-7993-4B01-9E5D-2C739AF3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24E-D570-4507-AABF-0F2D079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08B-801F-4134-B88B-3FD79C0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EA6-E095-4B10-8E69-1E23D50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837-E1F0-4DA4-A428-ADDE76F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FBE-DCE3-4788-AB3C-730A498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F03-23B7-4593-812C-25DD2E0C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03832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VENIO ALZATORIO O SIMPLEMENTE JUDI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844720"/>
            <a:ext cx="867564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tende alzar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a al deudor de buena fe (174) no procesado ni con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 vez presentada nómina de créditos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itación no suspende efectos de la quiebra salvo bienes próximo deteri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efectos de sobreseimiento definitiv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14) Nulidad o resolución produce reapertura o segund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86040" y="1844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3414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rácter colectivo introduce otras razones para el ci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773360"/>
            <a:ext cx="662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77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aturaleza ejecución          terminación típica por el p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9178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en que conviene suspender y no cerrar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35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la naturaleza – sobrese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198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Se hacen necesarias resoluciones judiciales (inicio y término de la quiebra            carácter procesal de la quieb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861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consentimiento – convenios alzatorias de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645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268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 del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2380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judicial, supone escasez de bienes y suspensión de los efectos de la quie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2708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 – causales.  Si bienes no alcanzan a cubrir los gastos de la quiebra.  (160) No, si alguien financia los ga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645000"/>
            <a:ext cx="58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         interlocuto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3716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1341360"/>
            <a:ext cx="57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Tem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365720"/>
            <a:ext cx="897084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ja subsistente la quiebra y restituye derecho ejecución individ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Subsiste el desasimiento, etc.. pero se permite la persecución individu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atibilidad en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entenderse que suspende tod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Quiebra y todos sus efectos, per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tado de cesación de pagos que suby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2325600"/>
            <a:ext cx="227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 reaper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3141720"/>
            <a:ext cx="790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827440"/>
            <a:ext cx="817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(163) Si se restablece la quiebra, los acreedores que  percibieron en ejecuciones individuales no restituyen montos a la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708280"/>
            <a:ext cx="428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35772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57720"/>
            <a:ext cx="677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478320"/>
            <a:ext cx="7272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860640"/>
            <a:ext cx="7272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549600"/>
            <a:ext cx="3536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se reabre mism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067280"/>
            <a:ext cx="88200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se mantiene mismo período sospechoso (estado de quiebra,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ción de pa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02320"/>
            <a:ext cx="892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desasimiento subsistió en tiempo intermedio: actos devienen ino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205240"/>
            <a:ext cx="85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bienes adquiridos en tiempo intermedio entran como bienes futu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710320"/>
            <a:ext cx="518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) juicios se re-acumu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1760" y="1197000"/>
            <a:ext cx="6745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pertura de l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74720"/>
            <a:ext cx="85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abre el juez (162 – causales: bienes devienen suficientes para soportar gas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40464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2924280"/>
            <a:ext cx="81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5440" y="39337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360" y="4543560"/>
            <a:ext cx="809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404640"/>
            <a:ext cx="371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68596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 por resolución jud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3357720"/>
            <a:ext cx="838836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justi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) en la satisfacción de los crédi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o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314172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4205160"/>
            <a:ext cx="84600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i)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5440" y="5013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504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6320" y="196524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60488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   ¡ termina la cesación de pag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7032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Desistimiento colectivo de la Quiebra o remisión colectiva de créd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043080"/>
            <a:ext cx="88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 trata de enervar definitivamente la acción procesal o de dar por solucionada la obligación subya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3887640"/>
            <a:ext cx="8640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 todos los acreedores concur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oncursales que no concurrier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 créditos subsisten porque no hay efecto remisorio automáti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modo que única forma de asegurar la futura concurrencia del inconcurrente es mediante sobreseimiento 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usales no tienen a la vista una posible remisión automática de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89072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Consignación de costas y créditos vencidos, caución de restante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708280"/>
            <a:ext cx="867564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réditos vencidos? A la apertura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l pago?: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 la caución: Acreedores o Tribu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alternativa al convenio alzatorio, pero rigen unani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91508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Pago de todos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90720"/>
            <a:ext cx="8675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funda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5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492280"/>
            <a:ext cx="8675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uiebra clausurada (sobreseimiento temporal) o realización de últimos bienes concl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s años desde aprobación de cuentas definitiva de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ificación de la quiebra: hay fortuidad o no hay causal de condena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919760"/>
            <a:ext cx="86756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itima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989000"/>
            <a:ext cx="867564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ción del juicio de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n efectos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s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ecución individual se restit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ación inscripciones (1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ituciones de bienes y papeles al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, efecto espe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ingue obligaciones pendientes a la fecha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aldos insolutos? Tuvo que haber abo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gaciones de dinero solament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2:37:56Z</dcterms:modified>
  <cp:revision>80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6280655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EntryID">
    <vt:lpwstr>00000000470F9E0BC4E55D499B58E888FE4493EA64032300</vt:lpwstr>
  </property>
  <property fmtid="{D5CDD505-2E9C-101B-9397-08002B2CF9AE}" pid="6" name="_EmailSubject">
    <vt:lpwstr>Cierre de la Quiebra </vt:lpwstr>
  </property>
  <property fmtid="{D5CDD505-2E9C-101B-9397-08002B2CF9AE}" pid="7" name="_PreviousAdHocReviewCycleID">
    <vt:r8>112526276</vt:r8>
  </property>
  <property fmtid="{D5CDD505-2E9C-101B-9397-08002B2CF9AE}" pid="8" name="_ReviewCycleID">
    <vt:r8>-137917959</vt:r8>
  </property>
</Properties>
</file>