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6FF2-6727-44D9-9CA0-099B8089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2D3F-7BBB-45E4-A671-899704F5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0E2F-B486-4023-9A7C-3A25129D8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7306-5DFE-4147-996B-249B3C28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0730-8ACE-41F9-9183-1B0356D0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24C6-89CC-4350-B042-75856F16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C4E3-5B04-4B67-81D5-0C4AB3CE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CD85-772F-4C95-AA3F-A2B3F980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DE89-EB34-4B29-A75E-D7FA8774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CE11-318B-4C76-9D78-673CB43A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81F7-5D67-4CF4-9D79-63BDDFC9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C45F-97DE-41AB-8F2A-07B73F5A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0BEC-BD47-42BB-B301-7357D14F3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305920" y="304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534520" y="304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8077320" y="304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838080" y="22860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38080" y="114300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762120" y="12193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990720" y="12193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1219320" y="12193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369160" y="38088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ncur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97000" y="2438280"/>
            <a:ext cx="603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Cierre de la Quieb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7760" y="476280"/>
            <a:ext cx="6330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Cierre de la Quiebra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32000" y="2038320"/>
            <a:ext cx="619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VENIO ALZATORIO O SIMPLEMENTE JUDICI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2844720"/>
            <a:ext cx="8675640" cy="26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racte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tende alzar la qui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eficia al deudor de buena fe (174) no procesado ni cond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a vez presentada nómina de créditos recono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mitación no suspende efectos de la quiebra salvo bienes próximo deteri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 efectos de sobreseimiento definitivo ordin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14) Nulidad o resolución produce reapertura o segunda quieb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523800"/>
            <a:ext cx="6330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Cierre de la Quieb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86040" y="1844640"/>
            <a:ext cx="309600" cy="21600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2341440"/>
            <a:ext cx="73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Carácter colectivo introduce otras razones para el cier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6000" y="1773360"/>
            <a:ext cx="662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1773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Naturaleza ejecución          terminación típica por el pa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291780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Casos en que conviene suspender y no cerrar la quieb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42920" y="356724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Casos de la naturaleza – sobreseimien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42920" y="50198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Se hacen necesarias resoluciones judiciales (inicio y término de la quiebra            carácter procesal de la quiebr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42920" y="42861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Casos de consentimiento – convenios alzatorias de la quieb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16000" y="36450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11280" y="5373720"/>
            <a:ext cx="309600" cy="21600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126828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racteres del Ci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560" y="162828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523800"/>
            <a:ext cx="6330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Cierre de la Quiebra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1840" y="107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32000" y="1916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lución judicial, supone escasez de bienes y suspensión de los efectos de la quieb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32000" y="2708280"/>
            <a:ext cx="71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8 – causales.  Si bienes no alcanzan a cubrir los gastos de la quiebra.  (160) No, si alguien financia los gas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32000" y="3645000"/>
            <a:ext cx="587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lución          interlocutor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43280" y="3716280"/>
            <a:ext cx="309600" cy="21600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47640" y="1341360"/>
            <a:ext cx="572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breseimiento Temp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21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6000" y="306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1600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386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4365720"/>
            <a:ext cx="897084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ja subsistente la quiebra y restituye derecho ejecución individu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¿Subsiste el desasimiento, etc.. pero se permite la persecución individu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ompatibilidad en la sol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be entenderse que suspende toda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Quiebra y todos sus efectos, pero 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estado de cesación de pagos que suby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50560" y="1774800"/>
            <a:ext cx="828180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4520" y="2325600"/>
            <a:ext cx="22730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fectos reapertu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3141720"/>
            <a:ext cx="79027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2827440"/>
            <a:ext cx="8172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 (163) Si se restablece la quiebra, los acreedores que  percibieron en ejecuciones individuales no restituyen montos a la m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03640" y="2708280"/>
            <a:ext cx="4284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42920" y="3357720"/>
            <a:ext cx="66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3357720"/>
            <a:ext cx="6770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3478320"/>
            <a:ext cx="72723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58920" y="3860640"/>
            <a:ext cx="7272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3549600"/>
            <a:ext cx="3536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 se reabre mismo proc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4067280"/>
            <a:ext cx="882000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) se mantiene mismo período sospechoso (estado de quiebra, des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sación de pag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4702320"/>
            <a:ext cx="8929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) desasimiento subsistió en tiempo intermedio: actos devienen inoponi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5205240"/>
            <a:ext cx="853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) bienes adquiridos en tiempo intermedio entran como bienes futur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5710320"/>
            <a:ext cx="5184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) juicios se re-acumul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71760" y="1197000"/>
            <a:ext cx="6745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pertura de la Quieb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1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1674720"/>
            <a:ext cx="8532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reabre el juez (162 – causales: bienes devienen suficientes para soportar gast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5040" y="404640"/>
            <a:ext cx="6330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Cierre de la Quiebra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523800"/>
            <a:ext cx="6330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16360" y="2924280"/>
            <a:ext cx="81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5440" y="3933720"/>
            <a:ext cx="287280" cy="144720"/>
          </a:xfrm>
          <a:custGeom>
            <a:avLst/>
            <a:gdLst>
              <a:gd name="textAreaLeft" fmla="*/ 44640 w 287280"/>
              <a:gd name="textAreaRight" fmla="*/ 251640 w 28728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6360" y="4543560"/>
            <a:ext cx="809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47640" y="404640"/>
            <a:ext cx="371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2685960"/>
            <a:ext cx="7159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 por resolución judi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3357720"/>
            <a:ext cx="8388360" cy="9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justif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) en la satisfacción de los crédito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inario,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6920" y="3141720"/>
            <a:ext cx="7159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92000" y="4205160"/>
            <a:ext cx="8460000" cy="10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i) en la necesidad de dar por terminado el remedio concursal. En Chile, beneficio al deudor de buena fe, aún sin la satisfacción de los créditos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aordin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05440" y="5013360"/>
            <a:ext cx="287280" cy="144360"/>
          </a:xfrm>
          <a:custGeom>
            <a:avLst/>
            <a:gdLst>
              <a:gd name="textAreaLeft" fmla="*/ 44640 w 287280"/>
              <a:gd name="textAreaRight" fmla="*/ 251640 w 2872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5040" y="476280"/>
            <a:ext cx="6330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Cierre de la Quiebra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76320" y="1965240"/>
            <a:ext cx="7159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breseimiento Defini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7760" y="476280"/>
            <a:ext cx="6330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Cierre de la Quiebra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1604880"/>
            <a:ext cx="619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RDINARIO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64)         ¡ termina la cesación de pago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2470320"/>
            <a:ext cx="8675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Desistimiento colectivo de la Quiebra o remisión colectiva de crédi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3043080"/>
            <a:ext cx="8893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e trata de enervar definitivamente la acción procesal o de dar por solucionada la obligación subyac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3280" y="3887640"/>
            <a:ext cx="864072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or todos los acreedores concurr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¿Concursales que no concurrier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s créditos subsisten porque no hay efecto remisorio automátic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modo que única forma de asegurar la futura concurrencia del inconcurrente es mediante sobreseimiento extraordin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89000"/>
            <a:ext cx="8675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ausales no tienen a la vista una posible remisión automática de los créd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7760" y="476280"/>
            <a:ext cx="6330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Cierre de la Quiebra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1890720"/>
            <a:ext cx="86756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Consignación de costas y créditos vencidos, caución de restantes créd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32000" y="1461960"/>
            <a:ext cx="619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RDINARIO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64)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2708280"/>
            <a:ext cx="8675640" cy="19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¿Créditos vencidos? A la apertura de la qui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¿Quién determina suficiencia del pago?: Tribu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¿Quién determina suficiencia de la caución: Acreedores o Tribun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 alternativa al convenio alzatorio, pero rigen unanim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4915080"/>
            <a:ext cx="8675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) Pago de todos los créd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7760" y="476280"/>
            <a:ext cx="6330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Cierre de la Quiebra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1890720"/>
            <a:ext cx="86756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funda en la necesidad de dar por terminado el remedio concursal. En Chile, beneficio al deudor de buena fe, aún sin la satisfacción de los créditos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0" y="1461960"/>
            <a:ext cx="619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TRAORDINARIO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65)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2492280"/>
            <a:ext cx="8675640" cy="24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Requisito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Quiebra clausurada (sobreseimiento temporal) o realización de últimos bienes conclu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os años desde aprobación de cuentas definitiva del sín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alificación de la quiebra: hay fortuidad o no hay causal de condena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4919760"/>
            <a:ext cx="867564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egitimad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Deu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7760" y="476280"/>
            <a:ext cx="6330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Cierre de la Quiebra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32000" y="1461960"/>
            <a:ext cx="619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BRESEIMIENTO DEFINITIV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1989000"/>
            <a:ext cx="8675640" cy="38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fecto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inación del juicio de qui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san efectos de la aper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s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ocato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ecución individual se restitu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um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celación inscripciones (1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ituciones de bienes y papeles al deu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traordinario, efecto especi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ingue obligaciones pendientes a la fecha de la aper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lo saldos insolutos? Tuvo que haber abon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ligaciones de dinero solamente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13:39:54Z</dcterms:created>
  <dc:creator>GQMC</dc:creator>
  <dc:description/>
  <dc:language>en-US</dc:language>
  <cp:lastModifiedBy>Octavio Bofill G.</cp:lastModifiedBy>
  <dcterms:modified xsi:type="dcterms:W3CDTF">2004-06-10T22:37:56Z</dcterms:modified>
  <cp:revision>80</cp:revision>
  <dc:subject/>
  <dc:title>Efectos declaración de Quiebr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6280655</vt:r8>
  </property>
  <property fmtid="{D5CDD505-2E9C-101B-9397-08002B2CF9AE}" pid="3" name="_AuthorEmail">
    <vt:lpwstr>gvarela@grasty.cl</vt:lpwstr>
  </property>
  <property fmtid="{D5CDD505-2E9C-101B-9397-08002B2CF9AE}" pid="4" name="_AuthorEmailDisplayName">
    <vt:lpwstr>Carmen Gloria Varela</vt:lpwstr>
  </property>
  <property fmtid="{D5CDD505-2E9C-101B-9397-08002B2CF9AE}" pid="5" name="_EmailEntryID">
    <vt:lpwstr>00000000470F9E0BC4E55D499B58E888FE4493EA64032300</vt:lpwstr>
  </property>
  <property fmtid="{D5CDD505-2E9C-101B-9397-08002B2CF9AE}" pid="6" name="_EmailSubject">
    <vt:lpwstr>Cierre de la Quiebra </vt:lpwstr>
  </property>
  <property fmtid="{D5CDD505-2E9C-101B-9397-08002B2CF9AE}" pid="7" name="_PreviousAdHocReviewCycleID">
    <vt:r8>112526276</vt:r8>
  </property>
  <property fmtid="{D5CDD505-2E9C-101B-9397-08002B2CF9AE}" pid="8" name="_ReviewCycleID">
    <vt:r8>-137917959</vt:r8>
  </property>
</Properties>
</file>