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097-738C-4DFE-9439-B53C1BAD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5CF-C2AC-46F8-9539-4AA71A26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0EB-F340-4473-B27B-B7F4DBB7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313-665F-40D9-BAAB-B07D260C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A97-648E-4D39-A9CB-1E2ED7C8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A71-833E-4FAF-AD01-6F65EA71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746-F050-4045-84D2-BBF47524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DA3-57CB-4792-9AAB-A6F7FA81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7A9-3935-48AC-8C27-6409C267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045-EA32-443F-B623-C0062FCE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DC9-E40E-45D6-A8DA-FE300992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7DB-6FF1-4A37-9415-C88AB979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BB6E-DACC-47B8-BAD8-1B575D62C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3059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5345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0773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38080" y="2286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11430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621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9907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2193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9160" y="3808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97000" y="2438280"/>
            <a:ext cx="60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Cierre de la Quieb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203832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VENIO ALZATORIO O SIMPLEMENTE JUDIC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844720"/>
            <a:ext cx="867564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acte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tende alzar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cia al deudor de buena fe (174) no procesado ni cond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 vez presentada nómina de créditos recono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mitación no suspende efectos de la quiebra salvo bienes próximo deteri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efectos de sobreseimiento definitivo ord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14) Nulidad o resolución produce reapertura o segunda quieb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86040" y="184464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34144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Carácter colectivo introduce otras razones para el cier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1773360"/>
            <a:ext cx="662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177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Naturaleza ejecución          terminación típica por el p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29178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Casos en que conviene suspender y no cerrar la quie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35672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Casos de la naturaleza – sobreseimie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0198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Se hacen necesarias resoluciones judiciales (inicio y término de la quiebra            carácter procesal de la quiebr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42861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Casos de consentimiento – convenios alzatorias de la quie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3645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537372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126828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acteres del Ci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52380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84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191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ción judicial, supone escasez de bienes y suspensión de los efectos de la quie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270828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8 – causales.  Si bienes no alcanzan a cubrir los gastos de la quiebra.  (160) No, si alguien financia los ga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3645000"/>
            <a:ext cx="58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ción          interlocutor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371628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1341360"/>
            <a:ext cx="572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breseimiento Temp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365720"/>
            <a:ext cx="897084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ja subsistente la quiebra y restituye derecho ejecución individ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Subsiste el desasimiento, etc.. pero se permite la persecución individu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patibilidad en la 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e entenderse que suspende toda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Quiebra y todos sus efectos, pero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estado de cesación de pagos que suby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1774800"/>
            <a:ext cx="82818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4520" y="2325600"/>
            <a:ext cx="2273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ectos reaper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3141720"/>
            <a:ext cx="7902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827440"/>
            <a:ext cx="817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(163) Si se restablece la quiebra, los acreedores que  percibieron en ejecuciones individuales no restituyen montos a la m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2708280"/>
            <a:ext cx="428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335772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357720"/>
            <a:ext cx="677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478320"/>
            <a:ext cx="7272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3860640"/>
            <a:ext cx="7272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549600"/>
            <a:ext cx="3536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se reabre mismo proc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067280"/>
            <a:ext cx="882000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se mantiene mismo período sospechoso (estado de quiebra, des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sación de pa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702320"/>
            <a:ext cx="8929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) desasimiento subsistió en tiempo intermedio: actos devienen inopon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205240"/>
            <a:ext cx="85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) bienes adquiridos en tiempo intermedio entran como bienes futu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710320"/>
            <a:ext cx="5184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) juicios se re-acumu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71760" y="1197000"/>
            <a:ext cx="6745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pertura de la Quieb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674720"/>
            <a:ext cx="853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abre el juez (162 – causales: bienes devienen suficientes para soportar gas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40464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2924280"/>
            <a:ext cx="81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5440" y="3933720"/>
            <a:ext cx="287280" cy="14472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6360" y="4543560"/>
            <a:ext cx="809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404640"/>
            <a:ext cx="371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2685960"/>
            <a:ext cx="7159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 por resolución jud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3357720"/>
            <a:ext cx="8388360" cy="9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justif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) en la satisfacción de los crédit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inario,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3141720"/>
            <a:ext cx="7159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2000" y="4205160"/>
            <a:ext cx="846000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i) en la necesidad de dar por terminado el remedio concursal. En Chile, beneficio al deudor de buena fe, aún sin la satisfacción de los créditos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ordi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5440" y="501336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504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76320" y="1965240"/>
            <a:ext cx="7159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breseimiento Defin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60488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INARIO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4)         ¡ termina la cesación de pag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2470320"/>
            <a:ext cx="867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Desistimiento colectivo de la Quiebra o remisión colectiva de crédi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3043080"/>
            <a:ext cx="88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 trata de enervar definitivamente la acción procesal o de dar por solucionada la obligación subyac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3280" y="3887640"/>
            <a:ext cx="86407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r todos los acreedores concur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Concursales que no concurrier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 créditos subsisten porque no hay efecto remisorio automátic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modo que única forma de asegurar la futura concurrencia del inconcurrente es mediante sobreseimiento extraordi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89000"/>
            <a:ext cx="867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ausales no tienen a la vista una posible remisión automática de los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890720"/>
            <a:ext cx="867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Consignación de costas y créditos vencidos, caución de restantes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46196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INARIO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4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708280"/>
            <a:ext cx="867564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Créditos vencidos? A la apertura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Quién determina suficiencia del pago?: Trib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Quién determina suficiencia de la caución: Acreedores o Tribu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alternativa al convenio alzatorio, pero rigen unanim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4915080"/>
            <a:ext cx="867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Pago de todos los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890720"/>
            <a:ext cx="8675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funda en la necesidad de dar por terminado el remedio concursal. En Chile, beneficio al deudor de buena fe, aún sin la satisfacción de los créditos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146196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TRAORDINARIO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5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492280"/>
            <a:ext cx="867564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quisit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uiebra clausurada (sobreseimiento temporal) o realización de últimos bienes concl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s años desde aprobación de cuentas definitiva del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lificación de la quiebra: hay fortuidad o no hay causal de condena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4919760"/>
            <a:ext cx="86756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gitimad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Deu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7760" y="476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Cierre de la Quiebr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1461960"/>
            <a:ext cx="619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BRESEIMIENTO DEFINITIV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989000"/>
            <a:ext cx="8675640" cy="38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ect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ción del juicio de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san efectos de la ap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s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oca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ecución individual se restit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celación inscripciones (1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ituciones de bienes y papeles al deu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traordinario, efecto espec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ingue obligaciones pendientes a la fecha de la ap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lo saldos insolutos? Tuvo que haber abon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ligaciones de dinero solament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3:39:54Z</dcterms:created>
  <dc:creator>GQMC</dc:creator>
  <dc:description/>
  <dc:language>en-US</dc:language>
  <cp:lastModifiedBy>Octavio Bofill G.</cp:lastModifiedBy>
  <dcterms:modified xsi:type="dcterms:W3CDTF">2004-06-10T22:37:56Z</dcterms:modified>
  <cp:revision>80</cp:revision>
  <dc:subject/>
  <dc:title>Efectos declaración de Quieb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6280655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EntryID">
    <vt:lpwstr>00000000470F9E0BC4E55D499B58E888FE4493EA64032300</vt:lpwstr>
  </property>
  <property fmtid="{D5CDD505-2E9C-101B-9397-08002B2CF9AE}" pid="6" name="_EmailSubject">
    <vt:lpwstr>Cierre de la Quiebra </vt:lpwstr>
  </property>
  <property fmtid="{D5CDD505-2E9C-101B-9397-08002B2CF9AE}" pid="7" name="_PreviousAdHocReviewCycleID">
    <vt:r8>112526276</vt:r8>
  </property>
  <property fmtid="{D5CDD505-2E9C-101B-9397-08002B2CF9AE}" pid="8" name="_ReviewCycleID">
    <vt:r8>-137917959</vt:r8>
  </property>
</Properties>
</file>