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DB9-DE90-47ED-A24C-CBCFFDF8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E96-4543-4F1F-A99F-046CF8E4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CAE-AF79-4C2F-B244-C55C01E8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55F-8F05-4A44-A648-774BA160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814-05A9-4C73-A436-DE886C57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D44-8ED1-4D86-B474-5BE58A1D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7358-78DF-4D53-BD1B-9C775A0F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06B-C3A1-43D9-8FFD-AF7AFF62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762-9A1F-48FB-8E5C-84CFF344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5F95-3C3B-43F1-8323-F8193A18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EC6-FB15-4FB4-850B-99A427ED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BF7-C55E-4FC8-A0C6-706D8FA9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5C58-B4C9-496B-B291-844C7DFD5615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3059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5345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0773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38080" y="22860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114300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621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9907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2193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69160" y="3808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ncu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97000" y="2438280"/>
            <a:ext cx="60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Activo y Pasivo Concu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4720" y="1628640"/>
            <a:ext cx="707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iones de restitución reales, reivindicatorias y poses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7840" y="2378160"/>
            <a:ext cx="84265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Reivindicac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85          Sigue reglas generales, en tribunal quiebra, contra sín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one fallido poseedor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enencia) y por ende reputado du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35280" y="292572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35280" y="321480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3716280"/>
            <a:ext cx="907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Reivindicatorias especial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¿Reivindicatorias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82        Título de crédito en poder del fallido que reconoce dominio ajeno, antes de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su 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isión de cobranza </a:t>
            </a:r>
            <a:r>
              <a:rPr b="1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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mandato al deudor expi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83        Mercaderías, entregadas, identificables, reconoce dominio aj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558972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79640" y="436572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4720" y="1555920"/>
            <a:ext cx="707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iones de restitución reales, reivindicatorias y poses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1989000"/>
            <a:ext cx="9648720" cy="23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rámite Reivindicatoria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icio ordinario Art. 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Interdictos poseso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70        Reconoce el D° a terce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te tribunal competente reglas generales (# acumul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0200" y="256536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50208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9400" y="4270320"/>
            <a:ext cx="8971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cciones personales de restitución (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ciones, terminaciones, nulida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8000" y="4797360"/>
            <a:ext cx="1000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lido mero tenedor (        reivindicatoria = poseedo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jercicio acciones contrato respectivo, ante juez quiebra, salvo terminación arrend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uesto el término del contrato respec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16360" y="4941720"/>
            <a:ext cx="360360" cy="142920"/>
          </a:xfrm>
          <a:prstGeom prst="leftRightArrow">
            <a:avLst>
              <a:gd name="adj1" fmla="val 50000"/>
              <a:gd name="adj2" fmla="val 50195"/>
            </a:avLst>
          </a:prstGeom>
          <a:solidFill>
            <a:srgbClr val="b23002"/>
          </a:solidFill>
          <a:ln w="9360">
            <a:solidFill>
              <a:srgbClr val="d23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1840" y="1625760"/>
            <a:ext cx="148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Terc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349360"/>
            <a:ext cx="66787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jeto       ¿Declarar domin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Recuperar domin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De ella deriva acción restitutor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Evitar el embargo gener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8000" y="3549600"/>
            <a:ext cx="564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mitación        ¿Incidente 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Proceso autónom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4437000"/>
            <a:ext cx="7056360" cy="24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</a:t>
            </a: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5 pendiente la declarator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inúa tramitación, acumulánd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tido, si hubo alzamiento automático del embargo? Pero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inúa desapoder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501480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551808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8160" y="1628640"/>
            <a:ext cx="1448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Terc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421000"/>
            <a:ext cx="457200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posición posterior a la declar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2811600"/>
            <a:ext cx="7993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admisible, porque terceros no son admitidos a la quiebra salvo casos explíc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misible, porque nada lo nie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Procedimien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29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40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324320"/>
            <a:ext cx="8172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521 CPC          Ordinario sin replica ni dup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5 LQ Inci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680 CPC Sum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08360" y="443700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80" y="1820880"/>
            <a:ext cx="333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Restitución Administ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2279520"/>
            <a:ext cx="6767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Puede el síndico?  ¿Es facultad de disposició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Antes o después del inventar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Puede la Junta de Acreedor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33240" y="4221000"/>
            <a:ext cx="3432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ION PATRIMO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720" y="4748040"/>
            <a:ext cx="23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. Bienes Pas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2760" y="5157720"/>
            <a:ext cx="775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ón Pauliana Civil, Pauliana Supletoria en Quiebra y revocatorias concur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ones de inoponibilidad y no de nu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ones pers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ones de ineficacia, ni restitutorias ni indemnizato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4076640"/>
            <a:ext cx="36720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4920" y="2421000"/>
            <a:ext cx="28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ión Pauliana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3114720"/>
            <a:ext cx="835344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misma acción que revocatorias concursal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gen igualdad acreedores, inoponibilidad es su sa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gunos ven fundamentos distintos pero objetos simi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juicio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ala fe: conocimiento mal estado nego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riquecimiento injusto en actos gratu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uliana civil es acción subsidiaria de inoponibilidad a revocatorias concursales (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3243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3798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4230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54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33240" y="1484280"/>
            <a:ext cx="3432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ION PATRIMO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68560" y="2708280"/>
            <a:ext cx="81054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ólo existe si hay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 actos previos a la Quiebra (ex post: inoponibilida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descansan en la par condictio? ¿enriquecimiento injusto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responsabilidad fiduciaria con los acreedor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hay ilicitud en el acto revocado? o ¿sólo un atentado contra la par condicitio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nción ¿nulidad o inoponibilida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tuación objetiva vs. subjetividad de la acción pauli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0720" y="210492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ocatoria Concu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897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3400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3905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4336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48402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33240" y="1484280"/>
            <a:ext cx="3432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ION PATRIMO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551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94440" y="1481040"/>
            <a:ext cx="3484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GRACION PATRIMO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7800" y="2130480"/>
            <a:ext cx="40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uliana Civil, proce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09520" y="270828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468 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285264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7080" y="3200400"/>
            <a:ext cx="628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jercida por acr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supone el concur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requiere título ejecutiv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Acreedor posterior al acto impugnado?,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neficia sólo al acreedor de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/>
          <p:nvPr/>
        </p:nvCxnSpPr>
        <p:spPr>
          <a:xfrm flipH="1" rot="16200000">
            <a:off x="1298520" y="4426200"/>
            <a:ext cx="311760" cy="90684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191" name=""/>
          <p:cNvCxnSpPr/>
          <p:nvPr/>
        </p:nvCxnSpPr>
        <p:spPr>
          <a:xfrm flipH="1" rot="16200000">
            <a:off x="1298520" y="4980240"/>
            <a:ext cx="311760" cy="90684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75564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564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7800" y="1938240"/>
            <a:ext cx="40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uliana Civil, proce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2525760"/>
            <a:ext cx="597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etende ineficacia de acto jurí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720" y="2916360"/>
            <a:ext cx="5071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≠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o material (ocultamiento de bienes por 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vio al concur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33098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3813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8200" y="422280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erjudica acreedor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4800" y="4892760"/>
            <a:ext cx="735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ede ser buen o mal negocio, pero no debe afectar a los acreedor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debe agravar la insolvencia (ej. Factor de liquid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50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6480" y="1773360"/>
            <a:ext cx="8654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ocimiento mal E° negocios deudor (consilium fraudis) y tercero en acto oneros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 momento ejecución acto (participatio fraudis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VIGENCIA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 MAL ESTA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ber del mal E°, ¿es realmente un fraude paulian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pio de acción pauliana civil 2468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ión pauliana supletoria: Arts. 75 presunción conoci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1557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on fraude paul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23558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29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35082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39067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Es supletoria a revocatoria concu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4221000"/>
            <a:ext cx="8016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modo que apl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ando no hay revocatoria especial que apl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ataca actos fuera del período sospechoso especial de cada revocatoria concu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empre con deudor no califi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4937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5442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609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256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ntraste entre la apariencia y la re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rmas buscan la realidad: bienes de la 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2/175 indicación bienes prop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7 N° 2 3,4,5 y 7  /  94 inc. 1° atribuciones Sín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o la realidad del proceso es la que p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étodos para determinar la realidad vs. la apar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efinidos, pero ley define algu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autación, administración bienes pres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Hecho y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/>
          <p:nvPr/>
        </p:nvCxnSpPr>
        <p:spPr>
          <a:xfrm flipH="1" rot="16200000">
            <a:off x="982080" y="2483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61" name=""/>
          <p:cNvCxnSpPr/>
          <p:nvPr/>
        </p:nvCxnSpPr>
        <p:spPr>
          <a:xfrm flipH="1" rot="16200000">
            <a:off x="982080" y="2771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167796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vocatoria Concu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360" y="2046240"/>
            <a:ext cx="9072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 puede ser posterior al acto impug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ser exitosa, beneficia 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od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los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evo acreedor: el sín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se plantea duda del título ejecu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refiere a actos anteriores a la apertura de la Quieb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cepción 215 y 216: entre aprobación y nulidad convenio: r. gra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segunda quiebra: revocatorias concursales (convenio alzatori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chas veces la ejecución del acto presupone un perjuicio a acreed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 da por cumplido requerimiento de acción pauliana civ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22636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26956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3200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42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0" y="4730760"/>
            <a:ext cx="89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5627520"/>
            <a:ext cx="680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 lo que se protege la par condictio por sobre 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5613480"/>
            <a:ext cx="68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hay real consideración del fraude paulia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58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51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1609560"/>
            <a:ext cx="7920000" cy="64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l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Pauliana Civil subsidiaria en quiebra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licables a todo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licables a deudores calificados, más objetivas y expedi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s de actos a título gratuito o de beneficio gratuito 74 - 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 más l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yor expedición de la 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oponibilidad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s de actos oneros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oponibilidad facultativa “podrá” 77 - 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ólo califi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6560" y="306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6560" y="3500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6560" y="256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20" y="4730760"/>
            <a:ext cx="89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5627520"/>
            <a:ext cx="68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522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212580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179640" y="1549440"/>
            <a:ext cx="44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vocatorias Concurs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40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2040" y="1557360"/>
            <a:ext cx="61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ulidades de derecho, inoponibilidad forz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2205000"/>
            <a:ext cx="597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ículos 74, 76; actos gratu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34600" y="4508640"/>
            <a:ext cx="45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no está obligado a acoger deman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47640" y="4724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6920" y="1484280"/>
            <a:ext cx="5761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2573280"/>
            <a:ext cx="7848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ez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iene discreción, debe declarar revo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31417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ulidades facultativas, inoponibilidad discre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26920" y="3068640"/>
            <a:ext cx="64818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3797280"/>
            <a:ext cx="597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ículos 77, 78; actos onero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" y="4086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iciones en cuanto a la facul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78440" y="4892760"/>
            <a:ext cx="553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no debe fallar conforme al mérito del proces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23800" y="5229360"/>
            <a:ext cx="22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isitos 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59360" y="5540400"/>
            <a:ext cx="583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es soberano para apreciar la mala fe de tercer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5800" y="5877000"/>
            <a:ext cx="41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opera de acuerdo a la equida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47640" y="508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5373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47640" y="57340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7640" y="602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06920" y="530208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11080" y="522936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evos antecedentes ilustrativ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9000" y="1484280"/>
            <a:ext cx="32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6560" y="1925640"/>
            <a:ext cx="806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termina alcance de revocatorias concursales (hasta apertura de la quieb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58920" y="256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335772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bjetiv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07840" y="335772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ándo se tomó conocimiento del estado de insolvencia que afecta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 deudor (Teorías y su relación con concepto de insolvenc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21960" y="234936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08640" y="273204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pu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58920" y="292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40000" y="285444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38560" y="242100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2720" y="230040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36600" y="280512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opon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399888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glas Proce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91160" y="4433760"/>
            <a:ext cx="33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puesta síndico al tribu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17800" y="4749840"/>
            <a:ext cx="26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icación por av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51200" y="5110200"/>
            <a:ext cx="52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lido, acreedores, terceros objetan y prop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34000" y="547056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i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17360" y="5829480"/>
            <a:ext cx="507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fija, notifica por aviso, apelable devolu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03280" y="458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03280" y="49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3280" y="5302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03280" y="5662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03280" y="6022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6560" y="333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8360" y="198900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echa de la Cesación de Pa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85040" y="2424240"/>
            <a:ext cx="46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udor común: 1° título ejecutivo exig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43280" y="2739960"/>
            <a:ext cx="61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udor calificado: juez, no más de un año desde aper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49760" y="3100320"/>
            <a:ext cx="484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os particulares, revocatorias concur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03280" y="25718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03280" y="29322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03280" y="3292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9000" y="1484280"/>
            <a:ext cx="32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167796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cciones Revocatorias Concursales Partic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36360" y="2197080"/>
            <a:ext cx="9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cciones Revocatorias Destinadas a Revocar Actos a Título Gratuito o Asimi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92240" y="2631960"/>
            <a:ext cx="573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de actos a título gratuito propiamente 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22120" y="2948040"/>
            <a:ext cx="45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contra los pagos anticip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44440" y="3308400"/>
            <a:ext cx="41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contra la dación en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60520" y="2779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60520" y="313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60520" y="35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81080" y="3668760"/>
            <a:ext cx="627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contra garantías reales sobre bienes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7492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-36360" y="4221000"/>
            <a:ext cx="9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cciones Revocatorias Destinadas a Revocar Actos a Título Oneroso o Asimi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00960" y="4648320"/>
            <a:ext cx="52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de actos a título oneroso en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14280" y="4964040"/>
            <a:ext cx="43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de ciertas compens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71800" y="5324400"/>
            <a:ext cx="631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toria de ciertos pagos de letras de cambio o paga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47640" y="47959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47640" y="5156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47640" y="5516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99520" y="5684760"/>
            <a:ext cx="52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vocación de ciertas inscripciones hipoteca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62040" y="587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42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8360" y="1628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cción revocatoria contra actos a título gratuito (Art. 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32000" y="2138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94680" y="1946160"/>
            <a:ext cx="641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cualquier tipo de deudor:  común y califi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71640" y="2306520"/>
            <a:ext cx="53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242712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12000" y="234936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consilium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32000" y="2498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32000" y="3075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332000" y="3578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16000" y="293040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16000" y="343548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"/>
          <p:cNvCxnSpPr/>
          <p:nvPr/>
        </p:nvCxnSpPr>
        <p:spPr>
          <a:xfrm flipH="1" rot="16200000">
            <a:off x="2205720" y="34977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2413080" y="389088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días anteriores a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"/>
          <p:cNvCxnSpPr/>
          <p:nvPr/>
        </p:nvCxnSpPr>
        <p:spPr>
          <a:xfrm flipH="1" rot="16200000">
            <a:off x="2205720" y="4049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2411280" y="4443480"/>
            <a:ext cx="669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 excepción se extiende desde 120 días anteriores a la fech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sación de pago, en el caso que beneficiario sea pariente ha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arto g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89080" y="530712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ley no asimila a un acto gratuito, los actos onerosos en que existe una gran diferencia entre las prestaciones recíprocas de las par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32000" y="54514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06560" y="860400"/>
            <a:ext cx="91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9640" y="13334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cción revocatoria contra pagos anticipados (Art. 76 N°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2000" y="2174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84240" y="198288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71640" y="2343240"/>
            <a:ext cx="53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56360" y="246384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12000" y="238608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consilium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2535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32000" y="31114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332000" y="3614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16000" y="296712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16000" y="347184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/>
          <p:nvPr/>
        </p:nvCxnSpPr>
        <p:spPr>
          <a:xfrm flipH="1" rot="16200000">
            <a:off x="2205720" y="35341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2413080" y="392760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días anteriores a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189080" y="447984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fecha de vencimiento de la obligación cuyo pago se anticipa puede corresponder a una fecha anterior o posterior a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32000" y="4624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"/>
          <p:cNvCxnSpPr/>
          <p:nvPr/>
        </p:nvCxnSpPr>
        <p:spPr>
          <a:xfrm flipH="1" rot="16200000">
            <a:off x="2205720" y="47343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2340000" y="512748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tras legislaciones sólo obligaciones que vencían con posterioridad a la apertura de l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54160" y="572760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ley asimila al pago anticipado el descuento de efectos de comercio o facturas de su carg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23280" y="1701720"/>
            <a:ext cx="151272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483320" y="1676520"/>
            <a:ext cx="198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8360" y="14065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cción revocatoria contra daciones en pago (Art. 76 N°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42920" y="24685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5520" y="227664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2560" y="2637000"/>
            <a:ext cx="53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67280" y="275760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22920" y="2679840"/>
            <a:ext cx="28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consilium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42920" y="2828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42920" y="3405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39085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6920" y="3260880"/>
            <a:ext cx="66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3765600"/>
            <a:ext cx="66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/>
          <p:nvPr/>
        </p:nvCxnSpPr>
        <p:spPr>
          <a:xfrm flipH="1" rot="16200000">
            <a:off x="1917000" y="3827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2124000" y="422100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días anteriores a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00000" y="493560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obligaciones de dinero que el fallido soluciona con especies distintas del dinero o de los efectos de comer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042920" y="50799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32680" y="1844640"/>
            <a:ext cx="151272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9308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8360" y="1406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cción revocatoria contra garantías reales para obligaciones preexistentes (Art. 76 N°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332000" y="2397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84240" y="220500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71640" y="2565360"/>
            <a:ext cx="53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56360" y="268596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12000" y="260820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consilium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32000" y="2757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32000" y="3333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32000" y="3836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16000" y="318924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16000" y="369396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/>
          <p:nvPr/>
        </p:nvCxnSpPr>
        <p:spPr>
          <a:xfrm flipH="1" rot="16200000">
            <a:off x="2205720" y="3755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413080" y="414972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días anteriores a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89080" y="486396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one otorgar garantías reales (prenda e hipoteca) sobre bienes del fallido para caucionar obligaciones preexist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32000" y="50086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2205720" y="51249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2340000" y="5445000"/>
            <a:ext cx="66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la garantía se constituye junto con adquirirse la obligación por el deudor, no procede este acción revocatoria, habría que recurrir a las acciones especiales del art. 77 y 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51640" y="1844640"/>
            <a:ext cx="151308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41204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étodos para determinar la realidad vs. la apar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aración de bienes, recuperaciones de terceros, reivindicaciones       personales, reales y especiales, resol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vención bienes futuros del fal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ción patrimonial (nulidad, resolución, revoc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Hecho y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8360" y="14065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cción revocatoria contra actos a título oneroso e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32000" y="2397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84240" y="220500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86040" y="256536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268596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724360" y="25653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32000" y="2757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2000" y="31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35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16000" y="294804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facul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335772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"/>
          <p:cNvCxnSpPr/>
          <p:nvPr/>
        </p:nvCxnSpPr>
        <p:spPr>
          <a:xfrm flipH="1" rot="16200000">
            <a:off x="2205720" y="34200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2413080" y="381312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ontar de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87280" y="4503600"/>
            <a:ext cx="795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dera cualquier acto o contrato a título oneroso e incluso los pagos no considerados en el art. 76 N°1 (pagos anticip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30200" y="46483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1640" y="1844640"/>
            <a:ext cx="151308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1204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09308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96000" y="306864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ocimient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sación de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8360" y="14065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vocación de ciertas compensaciones (Art. 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32000" y="2397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84240" y="220500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986040" y="256536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67280" y="268596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24360" y="25653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32000" y="2757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32000" y="31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3200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116000" y="294804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facul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16000" y="350208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/>
          <p:nvPr/>
        </p:nvCxnSpPr>
        <p:spPr>
          <a:xfrm flipH="1" rot="16200000">
            <a:off x="2205720" y="35643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413080" y="395748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ontar de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87280" y="4648320"/>
            <a:ext cx="795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one la adquisición, por endoso o cesión, de créditos a la orden o nominativos, en contra del fallido para obtener compensaciones en perjuicio de la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30200" y="47926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451640" y="1844640"/>
            <a:ext cx="151308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41204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09308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796000" y="3068640"/>
            <a:ext cx="66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ocimient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sación de pago al tiemp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la cesión o end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187280" y="5540400"/>
            <a:ext cx="795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 algunos la revocación de la compensación procedería sólo si por dicha compensación se devenga un perjuicio al patrimonio del falli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30200" y="566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68360" y="1406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vocación de ciertos pagos de letras de cambio o pagarés (Art. 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332000" y="2612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84240" y="242100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86040" y="278136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67280" y="290196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24360" y="27813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332000" y="2973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33200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332000" y="44798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116000" y="357336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facul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116000" y="433692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"/>
          <p:cNvCxnSpPr/>
          <p:nvPr/>
        </p:nvCxnSpPr>
        <p:spPr>
          <a:xfrm flipH="1" rot="16200000">
            <a:off x="2205720" y="43988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2413080" y="479268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ontar de la fecha de cesación de pago hasta el día antes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451640" y="1844640"/>
            <a:ext cx="151308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41204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9308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80000" y="3284640"/>
            <a:ext cx="669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ocimient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sación de pago al tiemp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la aceptación de la letra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scripción del pagaré a favor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c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68360" y="1406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vocación de ciertos pagos de letras de cambio o pagarés (Art. 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54160" y="213372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one que el deudor ha pagado letras o pagarés de su giro durante el 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16000" y="2852640"/>
            <a:ext cx="795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beneficiario de dichos títulos debe haber tenido conocimiento de la insolvencia del deudor al tiempo de librarse o aceptarse la letra o suscribirse el pagaré a la orden de aqué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081080" y="386064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reembolso se exigirá al primer beneficiario del libramiento, aceptación o suscripción de la letra de cambio o pagaré, respectiva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081080" y="457668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gunos autores consideran procedente extender esta sanción al cheque, fundado en el art. 11 de la Ley de Cuentas Corrientes Bancarias y Che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187280" y="299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187280" y="234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40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"/>
          <p:cNvCxnSpPr/>
          <p:nvPr/>
        </p:nvCxnSpPr>
        <p:spPr>
          <a:xfrm flipH="1" rot="16200000">
            <a:off x="2205720" y="49021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08" name=""/>
          <p:cNvSpPr/>
          <p:nvPr/>
        </p:nvSpPr>
        <p:spPr>
          <a:xfrm>
            <a:off x="2413080" y="529596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tros consideran que no es posible dicha extensión por cuanto al tratarse de una sanción su interpretación debe ser restri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26920" y="461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8360" y="14065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evocación de ciertas inscripciones hipotecarias (Art. 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397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84240" y="220500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971640" y="2565360"/>
            <a:ext cx="53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156360" y="268596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12000" y="260820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consilium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332000" y="2757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32000" y="3333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332000" y="3836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16000" y="318924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una inoponibilidad facul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116000" y="369396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"/>
          <p:cNvCxnSpPr/>
          <p:nvPr/>
        </p:nvCxnSpPr>
        <p:spPr>
          <a:xfrm flipH="1" rot="16200000">
            <a:off x="2205720" y="3755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2413080" y="414972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días anteriores a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451640" y="1844640"/>
            <a:ext cx="151308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41204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71640" y="4792680"/>
            <a:ext cx="795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one que el deudor otorga un contrato de hipoteca y éste se inscribe durante el período sospechoso, transcurriendo más de 15 días entre su otorgamiento y la inscripción (este plazo aumento a razón de un día por cada 100km de di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87280" y="4941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apa de verificación: constituye una subfase de la etapa cognocitiva del proces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 objetivo es identificar los acreedores que serán beneficiarios de la realización del bien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notificación de la resolución que declara la quiebra constituye la relación procesal con los acreedores de la quiebra, quienes tienen la carga de verificar sus créd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 del proce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"/>
          <p:cNvCxnSpPr/>
          <p:nvPr/>
        </p:nvCxnSpPr>
        <p:spPr>
          <a:xfrm flipH="1" rot="16200000">
            <a:off x="1269360" y="37278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538" name=""/>
          <p:cNvCxnSpPr/>
          <p:nvPr/>
        </p:nvCxnSpPr>
        <p:spPr>
          <a:xfrm flipH="1" rot="16200000">
            <a:off x="1269360" y="40147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2042640" y="4092480"/>
            <a:ext cx="49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ificación en período ordinario o extraordi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40120" y="4473720"/>
            <a:ext cx="6470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tículo 131, no existen acreedores eximidos de la obligació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ificar sus créd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132000" y="5300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132000" y="5516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132000" y="5732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14600" y="522936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29000" y="5445000"/>
            <a:ext cx="440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imientos incidentales de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97320" y="5684760"/>
            <a:ext cx="34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ómina de Créditos Reconoc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533520" y="629604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758520" y="193680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1941480"/>
            <a:ext cx="12952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195640" y="2009880"/>
            <a:ext cx="647640" cy="215640"/>
          </a:xfrm>
          <a:prstGeom prst="rightArrow">
            <a:avLst>
              <a:gd name="adj1" fmla="val 50000"/>
              <a:gd name="adj2" fmla="val 75083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920680" y="1760400"/>
            <a:ext cx="400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ÓDO ORDINARIO DE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940480" y="2247840"/>
            <a:ext cx="46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ÓDO EXTRAORDINARIO DE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933200" y="2801880"/>
            <a:ext cx="400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ÓDO ORDINARIO DE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79640" y="2801880"/>
            <a:ext cx="4032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08000" y="3444840"/>
            <a:ext cx="266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ebe distinguir ent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116000" y="409572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identes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7" name=""/>
          <p:cNvCxnSpPr/>
          <p:nvPr/>
        </p:nvCxnSpPr>
        <p:spPr>
          <a:xfrm flipH="1" rot="16200000">
            <a:off x="548640" y="36579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68" name=""/>
          <p:cNvSpPr/>
          <p:nvPr/>
        </p:nvSpPr>
        <p:spPr>
          <a:xfrm>
            <a:off x="1284480" y="4460760"/>
            <a:ext cx="56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30 días desde notificación resolución de apertu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319760" y="5110200"/>
            <a:ext cx="66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no fatal, vence con la resolución que cierra p. ordinario (13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239120" y="5468760"/>
            <a:ext cx="812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debe de oficio declarar su término si los interesados no lo hubieren solici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331280" y="4748040"/>
            <a:ext cx="37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común, legal e improrrog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533520" y="629604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758520" y="170028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4360" y="1704960"/>
            <a:ext cx="12952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116000" y="249084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Residentes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"/>
          <p:cNvCxnSpPr/>
          <p:nvPr/>
        </p:nvCxnSpPr>
        <p:spPr>
          <a:xfrm flipH="1" rot="16200000">
            <a:off x="548640" y="20307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1342080" y="2787480"/>
            <a:ext cx="69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30 días más incremento según T. de Emplazamiento (259 C.P.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91320" y="3387600"/>
            <a:ext cx="73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individual y se cuenta desde notificación por carta aérea certific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348200" y="3673440"/>
            <a:ext cx="66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no fatal, vence con la resolución que cierra p. ordinario (13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267560" y="4008600"/>
            <a:ext cx="812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debe de oficio declarar su término si los interesados no lo hubieren solici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400400" y="30718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legal e improrrog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32480" y="4489560"/>
            <a:ext cx="46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ÓDO EXTRAORDINARIO DE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979640" y="4489560"/>
            <a:ext cx="460836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66840" y="5016600"/>
            <a:ext cx="878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que corre desde que el juez declara cerrado período ordinario de verificación ha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tanto subsista el proceso de quiebra (art. 140 “mientras haya fondos para repartir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51800" y="5592600"/>
            <a:ext cx="66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 Puga, hasta el momento que el síndico cese en sus fun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533520" y="659772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47388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0248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3108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7203960" y="63896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757440" y="22096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716360" y="225900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511280" y="2114640"/>
            <a:ext cx="14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. Ordina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666760" y="2114640"/>
            <a:ext cx="19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. Extraordina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5640" y="2498760"/>
            <a:ext cx="394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ficación es de cargo del activ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ieb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691160" y="2498760"/>
            <a:ext cx="44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ficación es de cargo del acreed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ci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7800" y="3203640"/>
            <a:ext cx="420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mite aprovechar el IVA respect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éditos verificados que consten en factu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716360" y="321804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reedor pierde el IVA como crédito fi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6920" y="3855960"/>
            <a:ext cx="419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cación ordinaria se notifica por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704840" y="3851280"/>
            <a:ext cx="456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cación extraordinaria se notifica por avi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acreedores y por cédula al sín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-18360" y="4441680"/>
            <a:ext cx="4516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zo para impugnar créditos verific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inariamente desde que se agregan a au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ta 15 días después de notificación de cier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ordina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716720" y="4503600"/>
            <a:ext cx="4112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zo para impugnar créditos verific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período extraordinario es dentro de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días siguientes de notificación por avi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a solicitud de ver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58520" y="155736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84360" y="1562040"/>
            <a:ext cx="12952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533520" y="629604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621360" y="164772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imiento incidental de ver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39640" y="1652760"/>
            <a:ext cx="4319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52360" y="234936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quisitos formales de verific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26920" y="2776680"/>
            <a:ext cx="58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s propios de cualquier demanda (254 C.P.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826920" y="3179880"/>
            <a:ext cx="831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olicitud debe indicar el monto de lo adeudado por concepto de capital e inter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os devengados hasta el día de la declaración de quieb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26920" y="381312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juntar minuta de liquidación de crédito y los títulos justificativos de la pret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26920" y="4245120"/>
            <a:ext cx="831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ompañar dos copias de la demanda y sus anexos (una para síndico y otra para el falli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4" name=""/>
          <p:cNvCxnSpPr/>
          <p:nvPr/>
        </p:nvCxnSpPr>
        <p:spPr>
          <a:xfrm flipH="1" rot="16200000">
            <a:off x="1226520" y="45486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625" name=""/>
          <p:cNvSpPr/>
          <p:nvPr/>
        </p:nvSpPr>
        <p:spPr>
          <a:xfrm>
            <a:off x="1908000" y="5008680"/>
            <a:ext cx="58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iscute sanción por no entregar las copias que se seña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920" y="1701720"/>
            <a:ext cx="820872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o de H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enes reivindicados por la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enes sometidos a revocación en favor de la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enes restituidos por nulidad o res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enes futuros gratu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neficios líquidos de bienes futuros onero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844640"/>
            <a:ext cx="8064360" cy="1728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860640"/>
            <a:ext cx="8642160" cy="18003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5880" y="1474920"/>
            <a:ext cx="2993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sultado de ecuació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0360" y="4043520"/>
            <a:ext cx="90360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uperaciones de terceros, separación de bienes: reivindicatorias, resoluciones, compensaciones, modos de extinguir distintos del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afectos al concurso (del deudor: inembargab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imentos en favor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rgas y derechos preferentes de terceros no acreedores (ej. bienes futuros, discusión de la masa vs. en la ma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9440" y="5925960"/>
            <a:ext cx="3298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Activo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5877000"/>
            <a:ext cx="237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533520" y="630864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621360" y="164772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imiento incidental de ver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39640" y="1652760"/>
            <a:ext cx="4319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52360" y="213372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uiénes deben verifi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26920" y="2560680"/>
            <a:ext cx="792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xiste acreedor alguno eximido de esta obligación (131), única forma de lograr la par condic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26920" y="320832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cepciones apar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"/>
          <p:cNvCxnSpPr/>
          <p:nvPr/>
        </p:nvCxnSpPr>
        <p:spPr>
          <a:xfrm flipH="1" rot="16200000">
            <a:off x="1442160" y="3274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638" name=""/>
          <p:cNvSpPr/>
          <p:nvPr/>
        </p:nvSpPr>
        <p:spPr>
          <a:xfrm>
            <a:off x="2050920" y="3718080"/>
            <a:ext cx="70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es condicionales (152) que jurídicamente no son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050920" y="4145040"/>
            <a:ext cx="70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es privilegiados de primera clase (1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0" name=""/>
          <p:cNvCxnSpPr/>
          <p:nvPr/>
        </p:nvCxnSpPr>
        <p:spPr>
          <a:xfrm flipH="1" rot="16200000">
            <a:off x="1442160" y="36835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641" name=""/>
          <p:cNvSpPr/>
          <p:nvPr/>
        </p:nvSpPr>
        <p:spPr>
          <a:xfrm>
            <a:off x="1979640" y="450864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éditos por costas que se causen en interés de los acre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79640" y="4821120"/>
            <a:ext cx="83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éditos por gastos para poner a disposición de la masa bienes del fall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79640" y="5157720"/>
            <a:ext cx="8316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éditos por gastos de administración, realización activo y présta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atados por síndico para dichos ef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979640" y="5661000"/>
            <a:ext cx="8316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uneraciones de trabajadores e indemnizaciones laborales. Pago administrativ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o que igualmente requiere verificación por parte de acreedor (14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21360" y="164772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imiento incidental de ver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9640" y="1652760"/>
            <a:ext cx="4319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2360" y="213372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quisitos para verifi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977760" y="256536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éditos dinerarios (13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2924280"/>
            <a:ext cx="83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éditos documentarios (133) basta antecedente escrito que pruebe o dé certeza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édito aunque carezca de mérito ejecu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971640" y="349560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ligaciones crediticias deben ser anteriores a l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50920" y="400068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fectos de demanda de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971640" y="446076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olicitud de verificación y su resolución deben ser notificadas por av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482112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es extraordinaria debe notificar por cédula al síndico, sin perjuicio del av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971640" y="5180040"/>
            <a:ext cx="83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 relación procesal de juicio incidental de verificación, interrumpe la prescrip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constituye en mora al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621360" y="164772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imiento incidental de ver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39640" y="1652760"/>
            <a:ext cx="4319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52360" y="213372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mpugnación de la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977760" y="2565360"/>
            <a:ext cx="831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jeto:</a:t>
            </a: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ivale a la contestación de la demanda. Pretende obtener la exclusión del pasivo de un determinado acreedor o de la preferencia que se ale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971640" y="32796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gitimad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2" name=""/>
          <p:cNvCxnSpPr/>
          <p:nvPr/>
        </p:nvCxnSpPr>
        <p:spPr>
          <a:xfrm flipH="1" rot="16200000">
            <a:off x="1586880" y="3274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>
            <a:off x="1943280" y="371628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éditos: fallido, síndico, demás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4" name=""/>
          <p:cNvCxnSpPr/>
          <p:nvPr/>
        </p:nvCxnSpPr>
        <p:spPr>
          <a:xfrm flipH="1" rot="16200000">
            <a:off x="1586880" y="3635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675" name=""/>
          <p:cNvSpPr/>
          <p:nvPr/>
        </p:nvSpPr>
        <p:spPr>
          <a:xfrm>
            <a:off x="1979640" y="402912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ferencias: cualquiera de los señalados menos el fallido (13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971640" y="45324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tuación de Terc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187280" y="4821120"/>
            <a:ext cx="83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ley en esta fase excluye al tercero, aun cuando también pueden tener 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és ya que la disminución de los créditos disminuye a su vez la neces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acciones revocato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187280" y="5656320"/>
            <a:ext cx="831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ceros están suficientemente protegidos: reposición quiebra, impugnación f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cesación de pago y acción revoc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252360" y="170028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mpugnación de la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71640" y="213192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tuación del síndico (14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295280" y="242100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ene la facultad y deber legal de impugnar créditos y pref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368360" y="280368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a por la prosecución normal del juic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40000" y="316404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ber de fiscalización (13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440000" y="352260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ugnación de intereses excesivos (13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71640" y="402732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para impug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274760" y="4503600"/>
            <a:ext cx="934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para impugnar créditos verificados ordinariamente desde que se agregan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tos hasta 15 días después de notificación de cierre  p. ordinar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258920" y="5157720"/>
            <a:ext cx="788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zo para impugnar créditos verificados en período extraordinario es dentro de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 días siguientes de la notificación por aviso de la solicitud de verificació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332000" y="2637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332000" y="299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33200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33200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326880" y="630864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621360" y="164772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imiento incidental de ver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1652760"/>
            <a:ext cx="4319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52360" y="213372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mpugnación de la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52400" y="26370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mi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440000" y="2925720"/>
            <a:ext cx="83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mita como inci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476360" y="330840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slado de 6 d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476360" y="366876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icación personal o art. 44 C.P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11280" y="402912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tencia es definitiva, pone término a juicio declar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11280" y="4460760"/>
            <a:ext cx="83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sa Juzgada: discutible si procede reabrirse en juicio ordinario poste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616320" y="1647720"/>
            <a:ext cx="21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ómina de Créd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9640" y="1652760"/>
            <a:ext cx="223200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26920" y="2276640"/>
            <a:ext cx="83170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¿Listado, título ejecutivo ejecución colectiva, nómina administrativa o jurisdiccion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índico la forma y presenta al tribu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 días cierre período de verificación ordin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ividualiza acreedores, montos y pref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rva créditos condicionales e impug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mpliable con créditos verificados extraordinaria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termina acreedores para efectos de votar en juntas y percibir benef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mutable por resolución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VERIFICACIÓN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1120" y="2246400"/>
            <a:ext cx="80092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reglas de realización de los bienes recogen los principios que sustentan 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icio de quieb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quitar el proceso concursal en períodos breves, para 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ibe la venta como unidad económica y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idad de giro como excepcio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ne ciertos plazos programáticos (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ca enajenaciones de activos menores (1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340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340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340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11280" y="164772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IZACIÓN DEL AC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39640" y="1652760"/>
            <a:ext cx="3095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5" name=""/>
          <p:cNvCxnSpPr/>
          <p:nvPr/>
        </p:nvCxnSpPr>
        <p:spPr>
          <a:xfrm flipH="1" rot="16200000">
            <a:off x="1124640" y="25542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611280" y="164772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ES DE LA RE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39640" y="1652760"/>
            <a:ext cx="3095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"/>
          <p:cNvCxnSpPr/>
          <p:nvPr/>
        </p:nvCxnSpPr>
        <p:spPr>
          <a:xfrm flipH="1" rot="16200000">
            <a:off x="1947240" y="1835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744" name=""/>
          <p:cNvSpPr/>
          <p:nvPr/>
        </p:nvSpPr>
        <p:spPr>
          <a:xfrm>
            <a:off x="2608920" y="22240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autación e 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5" name=""/>
          <p:cNvCxnSpPr/>
          <p:nvPr/>
        </p:nvCxnSpPr>
        <p:spPr>
          <a:xfrm flipH="1" rot="16200000">
            <a:off x="1947240" y="21722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746" name=""/>
          <p:cNvSpPr/>
          <p:nvPr/>
        </p:nvSpPr>
        <p:spPr>
          <a:xfrm>
            <a:off x="2628720" y="263052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628360" y="2990880"/>
            <a:ext cx="32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propiamente 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8" name=""/>
          <p:cNvCxnSpPr/>
          <p:nvPr/>
        </p:nvCxnSpPr>
        <p:spPr>
          <a:xfrm flipH="1" rot="16200000">
            <a:off x="1947240" y="25326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749" name=""/>
          <p:cNvSpPr/>
          <p:nvPr/>
        </p:nvSpPr>
        <p:spPr>
          <a:xfrm>
            <a:off x="2701800" y="356724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s de Realiz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29080" y="3500280"/>
            <a:ext cx="273492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25892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694520" y="42861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693800" y="47181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694520" y="5149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25892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25892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419640" y="515772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492360" y="4869000"/>
            <a:ext cx="574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233600" y="4724280"/>
            <a:ext cx="450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 6 meses desde junta constitutiva (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 9 meses para realización de inmue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rrogable una sola v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916360" y="4437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268520" y="4221000"/>
            <a:ext cx="447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 6 meses cualquiera sea su integ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2701080" y="162252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629080" y="1555920"/>
            <a:ext cx="27349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0280" y="2852640"/>
            <a:ext cx="8780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activo debe exceder de 1000 Unidades de Fo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21) Realización de bienes próximo a deterioro o a una desvalorización inmin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prescinde de autorización judicial, se entiende que la orden de venta está conten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la sent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 venta puede ser privada o al marti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 Puga esta forma de realización no excluye los inmuebles en tanto cumpla 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 121 (norma correlativa en juicio ejecutivo individual sí lo excluy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8160" y="22701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os Art.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24000" y="2205000"/>
            <a:ext cx="18000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2925000" y="126360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-216000" y="2206800"/>
            <a:ext cx="96840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activo debe exceder de 1000 Unidades de Fo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22) realización de especies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corporales muebles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venden al marti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22) realización de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valores mobiliari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 cotización bursátil, en remate en bolsa de va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dos los demás bienes, corporales e incorporales, pública subasta o licitación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es pública subasta se debe cumplir trámite de tasación, determinación bases de re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fijación de día y h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es necesario citación acreedores hipotecarios (71 pueden iniciar concurso especial y separad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solicitar autorización de otros tribunales que hubieren embargado bienes, alzamiento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PSO I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caso de licitación pública la ley exige aprobación de las bases por junta de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8160" y="15508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os Art. 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87880" y="1652760"/>
            <a:ext cx="43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ización de bienes excluidos en art.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68360" y="1484280"/>
            <a:ext cx="1655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560" y="1774800"/>
            <a:ext cx="828180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stión de administración de la Quiebra  (facultad jurisdicc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ia del cargo de Sín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er instrumento de conservación del activo concurs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1557360"/>
            <a:ext cx="1762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au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2000" y="3205080"/>
            <a:ext cx="7902720" cy="35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 N°2: se incauta de todos los bienes del fallido con fuerza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4 N°1: ministro de fe, libros, documentos y bienes del fallido, custo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Alcances? Numerosas discu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 razonable pareciera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enes en poder del fallido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odo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incluso de tercer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3320" y="3284640"/>
            <a:ext cx="309600" cy="21564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3320" y="378936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/>
          <p:nvPr/>
        </p:nvCxnSpPr>
        <p:spPr>
          <a:xfrm flipH="1" rot="16200000">
            <a:off x="1269360" y="4979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2824200" y="13352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629080" y="1268280"/>
            <a:ext cx="38145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879480" y="2147760"/>
            <a:ext cx="76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. Realización de bienes alterando las normas del procedimiento ordinar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01280" y="2781360"/>
            <a:ext cx="833544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 adoptar este procedimiento se requiere (123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voto conforme de más de la ½ del pasivo con derecho a vo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creedores verificados y reconoci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voto favorable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jo esta modalidad se puede vender el activo como unidad sin trámites del art.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 forma de realización no admite el pacto comisorio, supone la reducción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o a moned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pesar de soberanía de las partes, síndico puede objetar dentro de tercer d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84360" y="2133720"/>
            <a:ext cx="792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2824200" y="13352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29080" y="1268280"/>
            <a:ext cx="38145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11280" y="21477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.  Venta del activo al mejor postor en pública subasta ante juez de quieb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39640" y="2133720"/>
            <a:ext cx="80647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03440" y="2852640"/>
            <a:ext cx="767844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 adoptar este procedimiento se requie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voto conforme de más de la mayoría de la ½ del pasivo con derecho a vo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creedores verificados y reconocido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requiere el voto favorable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aplicable a todo tipo de bie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índico puede objetar dentro de tercer d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2824200" y="13352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9080" y="1268280"/>
            <a:ext cx="38145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39640" y="214776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. Ven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unidad económica en pública subasta y por el juez de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68360" y="2060640"/>
            <a:ext cx="8424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25320" y="2852640"/>
            <a:ext cx="8467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trata de la venta como conjunto de bienes del deudor, que puede ser total o par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unidad de bienes supone una integración económica orientada a la producción 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ción de bienes o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e procedimiento de realización no es incompatible con el del art. 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iere aprobación de la Ju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requiere el voto favorable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índico puede objetar dentro de tercer d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2824200" y="13352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629080" y="1268280"/>
            <a:ext cx="38145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68360" y="1989000"/>
            <a:ext cx="84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.  Ven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unidad económica en pública subasta y por el juez de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68360" y="1989000"/>
            <a:ext cx="83725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76720" y="2709720"/>
            <a:ext cx="856692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proposición a la Junta la puede realizar el síndico, cualquier acreedor y 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bases las confecciona el sín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be contener los bienes que integra la unidad econó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cio mínimo, garantías y demás modalidades de enajen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venta debe realizarse en pública subasta, al mejor postor y ante juez de l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e procedimiento sólo puede aplicarse en dos oportunidades. Luego, proce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dinario o bajo régimen extraordinario del 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lidades de la venta art. 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2824200" y="13352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629080" y="1268280"/>
            <a:ext cx="38145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55640" y="220500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.  Ven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unidad económica en pública subasta y por el juez de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84360" y="2060640"/>
            <a:ext cx="8351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23880" y="2852640"/>
            <a:ext cx="87696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fecto de la venta bajo 124, hipoteca y prenda legal en favor del deudor por oblig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ndientes del adquir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junta puede excluir en las bases algunos bienes de los graváme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concurso se mantiene abierto hasta cumplimiento íntegro de las obligaciones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quir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feccionamiento de la venta se discute por falta de acta de remate que lo forma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2824200" y="133524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ción  Su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629080" y="1268280"/>
            <a:ext cx="273492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8400" y="2421000"/>
            <a:ext cx="915984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valor probable de la realización del activo no debe exceder de 1000 Unidades de Fo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jo este procedimiento síndico provisional pasa a ser síndico defini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índico determina forma de realización. Única limitación plazo de 6 meses para la liquid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modifica este plazo la circunstancia de existir inmuebles que liqui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jeción de acreedores o fallido a este procedimiento, misma ju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2822400" y="133524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idad Giro del Fal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629080" y="1268280"/>
            <a:ext cx="417492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53520" y="2421000"/>
            <a:ext cx="879264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también forma de “realización” y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iro / oficinas, locales o establecimientos             ¿suponen a una empresa?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lacionada con permiso de actividades futuras del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inuidad efectiva símil de prenda pretoria de ejecución indivi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isional           Efe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tal         Parcial. Pueden ser medidas parale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282920" y="299736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619280" y="4437000"/>
            <a:ext cx="503280" cy="216000"/>
          </a:xfrm>
          <a:prstGeom prst="leftRightArrow">
            <a:avLst>
              <a:gd name="adj1" fmla="val 50000"/>
              <a:gd name="adj2" fmla="val 46384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042920" y="4941720"/>
            <a:ext cx="503280" cy="216000"/>
          </a:xfrm>
          <a:prstGeom prst="leftRightArrow">
            <a:avLst>
              <a:gd name="adj1" fmla="val 50000"/>
              <a:gd name="adj2" fmla="val 46384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2822040" y="133524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idad Provi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629080" y="1268280"/>
            <a:ext cx="309528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-89640" y="2349360"/>
            <a:ext cx="938376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ributo del síndico (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ta Junta de Planificación porque ésta resuelve sobre la suerte de los bienes de la masa (1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función de interés de la masa (no del falli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alternativa al cierre y paralización de locales, oficinas y establec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jetivo            facilitar realización de bienes y preparar liquidación progres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89080" y="4365720"/>
            <a:ext cx="503280" cy="215640"/>
          </a:xfrm>
          <a:prstGeom prst="leftRightArrow">
            <a:avLst>
              <a:gd name="adj1" fmla="val 50000"/>
              <a:gd name="adj2" fmla="val 46462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823120" y="133524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idad Ef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29080" y="1268280"/>
            <a:ext cx="2879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-92160" y="1844640"/>
            <a:ext cx="9506160" cy="56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ribución del síndico con autorización del tribunal, por causas graves (99 inc. 2°) o de la Ju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acreedores (112), a proposición del síndico o 2 acreedores a partir de la Junta de 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Durac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1 año prorrogable o más si acuerdo venta unidad económica (1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uerdo fundado, determinando objeto y bienes, administración y facultades. Si renovació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índico no puede seguir administr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continuación de giro” se agrega a razón social o nom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índico no administrador: interven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bje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pagar a acreedores mediante frutos de la continuidad (= continuación de la empre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afecta acreedores Hipotecarios, prendarios, retencionarios, a menos que consien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ede haber compra de créditos a precio de moneda quiebra para conseguir quó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300360" y="4869000"/>
            <a:ext cx="71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144360" y="1700280"/>
            <a:ext cx="874872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a acreedores es paulatino con ocasión del giro (1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se de la continuidad              deshaciendo lo h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pueden realizarse bienes comprend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laciones jurídicas preexistentes a la quiebra siguen vig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763000" y="1268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idad Ef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629080" y="1268280"/>
            <a:ext cx="27349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627280" y="220500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547640" y="3494160"/>
            <a:ext cx="51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réditos contraídos durante la contin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08000" y="3932280"/>
            <a:ext cx="51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visoria  (1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906640" y="3860640"/>
            <a:ext cx="519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re bienes de la masa, sin perjuicio derecho preferente acreedores privilegiados, preferentes y 1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906640" y="4437000"/>
            <a:ext cx="598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scutible si son de la masa o tienen preferencia 2472 n°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08000" y="4797360"/>
            <a:ext cx="51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ectiva   (11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916360" y="4835520"/>
            <a:ext cx="519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re bienes de la continuidad, con preferencia a otros acreedores, salvo hipotecarios, prendarios y retencionarios que no consinti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195640" y="4579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195640" y="573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916360" y="5661000"/>
            <a:ext cx="598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n de la masa, ¿pero no alcanzan a hipotecarios, prendarios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encionari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560" y="1774800"/>
            <a:ext cx="828180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6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1557360"/>
            <a:ext cx="1762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au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2000" y="2205000"/>
            <a:ext cx="790272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autación deja a salvo el derecho de restituir a legítimos tercer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6 supone presencia del fallido o colaboradores cerc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 domicilio del fallido: matriz, sucursales,  ¿domicilio priva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/>
          <p:nvPr/>
        </p:nvCxnSpPr>
        <p:spPr>
          <a:xfrm flipH="1" rot="16200000">
            <a:off x="434160" y="1835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88" name=""/>
          <p:cNvCxnSpPr/>
          <p:nvPr/>
        </p:nvCxnSpPr>
        <p:spPr>
          <a:xfrm flipH="1" rot="16200000">
            <a:off x="434160" y="2338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89" name=""/>
          <p:cNvCxnSpPr/>
          <p:nvPr/>
        </p:nvCxnSpPr>
        <p:spPr>
          <a:xfrm flipH="1" rot="16200000">
            <a:off x="434160" y="28911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250920" y="3789360"/>
            <a:ext cx="97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 domicilios de terceros: Puelma distingue si terceros reconocen o no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micilio fallido N° 52 N°5, entrega de papel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enes al Sín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enes “inocupables”:(ej. derechos en sociedades) (ej. algunos incorporales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icipación de acreedores y terceros en la incau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/>
          <p:nvPr/>
        </p:nvCxnSpPr>
        <p:spPr>
          <a:xfrm flipH="1" rot="16200000">
            <a:off x="434160" y="3346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flipH="1" rot="16200000">
            <a:off x="434160" y="4570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 flipH="1" rot="16200000">
            <a:off x="434160" y="5051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2246400" y="133524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UACIÓN Y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050920" y="1268280"/>
            <a:ext cx="4680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12560" y="2203560"/>
            <a:ext cx="89938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s acreedores se pagan en proporción al monto de sus créditos, resguardando siemp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preferencias (148 L.Q. y 2469 C.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preferencias sólo se pagan hasta concurrencia de sus respectivas garantí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lo demás son val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periodicidad y forma de pago lo determina la Junta de Acreedores. Sus acuerdos 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eden alterar los montos ni las preferenc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subsidio, normas legales (147 y sgt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Reparto a acreedores de 2° y 3° clase, sólo si existe fondo suficiente para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mejor derecho y cubrir gas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Créditos valistas, reparto sólo si se reúne cantidad suficiente para hacer abono del 5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114560" y="47628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/>
          <p:nvPr/>
        </p:nvSpPr>
        <p:spPr>
          <a:xfrm>
            <a:off x="1114560" y="50328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246400" y="133524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UACIÓN Y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050920" y="1268280"/>
            <a:ext cx="4680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79480" y="2198520"/>
            <a:ext cx="76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ación del monto de créditos en moneda nacional, no vencid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971640" y="2133720"/>
            <a:ext cx="7488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5240" y="2852640"/>
            <a:ext cx="67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rédito reajustable en moneda nacional, que devenga inter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3360" y="3645000"/>
            <a:ext cx="70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rédito reajustable en moneda nacional, que no devenga inter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3360" y="4365720"/>
            <a:ext cx="70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rédito no reajustable en moneda nacional, que devenga inter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5880" y="5013360"/>
            <a:ext cx="74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rédito no reajustable en moneda nacional, que no devenga inter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7" name=""/>
          <p:cNvCxnSpPr/>
          <p:nvPr/>
        </p:nvCxnSpPr>
        <p:spPr>
          <a:xfrm>
            <a:off x="324000" y="3123720"/>
            <a:ext cx="907200" cy="311760"/>
          </a:xfrm>
          <a:prstGeom prst="bentConnector3">
            <a:avLst>
              <a:gd name="adj1" fmla="val 49900"/>
            </a:avLst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18" name=""/>
          <p:cNvSpPr/>
          <p:nvPr/>
        </p:nvSpPr>
        <p:spPr>
          <a:xfrm>
            <a:off x="1198440" y="3243240"/>
            <a:ext cx="69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or actual es capital más reajuste convenido e intereses a fecha aper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9" name=""/>
          <p:cNvCxnSpPr/>
          <p:nvPr/>
        </p:nvCxnSpPr>
        <p:spPr>
          <a:xfrm>
            <a:off x="324000" y="3916440"/>
            <a:ext cx="907200" cy="311760"/>
          </a:xfrm>
          <a:prstGeom prst="bentConnector3">
            <a:avLst>
              <a:gd name="adj1" fmla="val 49900"/>
            </a:avLst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20" name=""/>
          <p:cNvSpPr/>
          <p:nvPr/>
        </p:nvSpPr>
        <p:spPr>
          <a:xfrm>
            <a:off x="1198080" y="4035600"/>
            <a:ext cx="59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or actual es capital más reajuste convenido a fecha aper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1" name=""/>
          <p:cNvCxnSpPr/>
          <p:nvPr/>
        </p:nvCxnSpPr>
        <p:spPr>
          <a:xfrm>
            <a:off x="324000" y="4637160"/>
            <a:ext cx="907200" cy="311760"/>
          </a:xfrm>
          <a:prstGeom prst="bentConnector3">
            <a:avLst>
              <a:gd name="adj1" fmla="val 49900"/>
            </a:avLst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22" name=""/>
          <p:cNvSpPr/>
          <p:nvPr/>
        </p:nvSpPr>
        <p:spPr>
          <a:xfrm>
            <a:off x="1198800" y="4756320"/>
            <a:ext cx="58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or actual es capital más interés devengado a fecha aper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59640" y="5380200"/>
            <a:ext cx="703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aplica al capital tasa se descuento equivalente a intereses corriente 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eraciones no reajustables desde apertura a vencimiento de la deu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4" name=""/>
          <p:cNvCxnSpPr/>
          <p:nvPr/>
        </p:nvCxnSpPr>
        <p:spPr>
          <a:xfrm>
            <a:off x="324000" y="5308560"/>
            <a:ext cx="907200" cy="311760"/>
          </a:xfrm>
          <a:prstGeom prst="bentConnector3">
            <a:avLst>
              <a:gd name="adj1" fmla="val 49900"/>
            </a:avLst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25" name=""/>
          <p:cNvSpPr/>
          <p:nvPr/>
        </p:nvSpPr>
        <p:spPr>
          <a:xfrm>
            <a:off x="1095480" y="242100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1114560" y="50328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246400" y="133524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UACIÓN Y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050920" y="1268280"/>
            <a:ext cx="4680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79480" y="2198520"/>
            <a:ext cx="85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ación del monto de créditos en moneda extranje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971640" y="2133720"/>
            <a:ext cx="61927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21320" y="2708280"/>
            <a:ext cx="793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 la obligación surge de la ley o de autorización del Banco Central, se pa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ajo la moneda establecida en la convención y devenga interés pac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019160" y="3238560"/>
            <a:ext cx="8085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. 68 hace referencia a Decreto 471 del M. de Economía que dejó de existir. Ri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mas orgánicas Banco Cent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095480" y="242100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835280" y="4718160"/>
            <a:ext cx="85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reedores con derecho a pag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35280" y="4719600"/>
            <a:ext cx="3816360" cy="43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095480" y="479124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81440" y="5149800"/>
            <a:ext cx="85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s acreedores que figuren en Nómina de Créditos Reconocidos (salvo casos 1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2" name=""/>
          <p:cNvCxnSpPr/>
          <p:nvPr/>
        </p:nvCxnSpPr>
        <p:spPr>
          <a:xfrm flipH="1" rot="16200000">
            <a:off x="548640" y="2819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43" name=""/>
          <p:cNvSpPr/>
          <p:nvPr/>
        </p:nvSpPr>
        <p:spPr>
          <a:xfrm>
            <a:off x="171000" y="3897360"/>
            <a:ext cx="8835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 la obligación es contractual, se paga en pesos en equivalente vendedor del día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go (20 ley 18.0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1114560" y="50328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Pas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246400" y="133524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UACIÓN Y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050920" y="1268280"/>
            <a:ext cx="4680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79480" y="1982880"/>
            <a:ext cx="85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tuaciones Especia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971640" y="1917720"/>
            <a:ext cx="25207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6160" y="2492280"/>
            <a:ext cx="24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creedor Condi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066680" y="2879640"/>
            <a:ext cx="7663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2 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Bajo condición suspensiv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uede exigir que se consigne monto 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 percibiría si se verifica condición o su entrega bajo caución sufic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 el caso que no se verifique cond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095480" y="206064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239840" y="386064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"/>
          <p:cNvCxnSpPr/>
          <p:nvPr/>
        </p:nvCxnSpPr>
        <p:spPr>
          <a:xfrm flipH="1" rot="16200000">
            <a:off x="548640" y="2483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58" name=""/>
          <p:cNvSpPr/>
          <p:nvPr/>
        </p:nvSpPr>
        <p:spPr>
          <a:xfrm>
            <a:off x="48240" y="3716280"/>
            <a:ext cx="51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creedor que verifica en período extraordi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9" name=""/>
          <p:cNvCxnSpPr/>
          <p:nvPr/>
        </p:nvCxnSpPr>
        <p:spPr>
          <a:xfrm flipH="1" rot="16200000">
            <a:off x="548640" y="37548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60" name=""/>
          <p:cNvSpPr/>
          <p:nvPr/>
        </p:nvSpPr>
        <p:spPr>
          <a:xfrm>
            <a:off x="1127160" y="4173480"/>
            <a:ext cx="9348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4  genera efecto inmediato de depósito de repartos a favor del acreed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ta que crédito quede recono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1" name=""/>
          <p:cNvCxnSpPr/>
          <p:nvPr/>
        </p:nvCxnSpPr>
        <p:spPr>
          <a:xfrm flipH="1" rot="16200000">
            <a:off x="548640" y="44042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62" name=""/>
          <p:cNvSpPr/>
          <p:nvPr/>
        </p:nvSpPr>
        <p:spPr>
          <a:xfrm>
            <a:off x="1116000" y="4807080"/>
            <a:ext cx="934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4  Una vez reconocido, el pago debe efectuarse con preferencia a los demá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es (respecto de los fondos reservados en los repartos prev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9480" y="5367240"/>
            <a:ext cx="46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creedor que a su vez es deudor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4" name=""/>
          <p:cNvCxnSpPr/>
          <p:nvPr/>
        </p:nvCxnSpPr>
        <p:spPr>
          <a:xfrm flipH="1" rot="16200000">
            <a:off x="548640" y="54122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965" name=""/>
          <p:cNvSpPr/>
          <p:nvPr/>
        </p:nvSpPr>
        <p:spPr>
          <a:xfrm>
            <a:off x="1116000" y="5699160"/>
            <a:ext cx="934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3  Las sumas que le corresponden percibir al acreedor se imputan a su deud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el evento que no haya operado la compens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52380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1773360"/>
            <a:ext cx="158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2205000"/>
            <a:ext cx="87487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er acercamiento al Activo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uación del Síndico, en presencia de M. de Fe (secretario, notario, ad-hoc) y experto téc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1080" y="2349360"/>
            <a:ext cx="287280" cy="142920"/>
          </a:xfrm>
          <a:custGeom>
            <a:avLst/>
            <a:gdLst>
              <a:gd name="textAreaLeft" fmla="*/ 44640 w 287280"/>
              <a:gd name="textAreaRight" fmla="*/ 251640 w 2872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1080" y="2852640"/>
            <a:ext cx="287280" cy="14472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34495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 + estado.  Incluso, reclamaciones de terceros (94 N°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agrega al juicio día siguiente hábil facción,  notificación por avi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57192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1080" y="407664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6360" y="4543560"/>
            <a:ext cx="80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ite para nuevos bienes (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iones del fallido y acreedores (98)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 tercero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efecto relativo del 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465300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522936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1773360"/>
            <a:ext cx="158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2565360"/>
            <a:ext cx="8748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ca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ue criterio activo de derecho. No debe incluir bienes en poder de terceros que no reconocen derechos al fallido.  No debe incluir inembargables.  Debe incluir bienes de terceros o reivindicados (de reivindicación re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Cosa juzgada del inventario? Sólo entre fallido y acreedores, si hubo objeción resuelta por el ju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000" y="270828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4363920"/>
            <a:ext cx="287280" cy="14472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40464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2637000"/>
            <a:ext cx="8893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ienes de terceros en poder del fal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. 94        inventario debe consignar pretensión de terc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. 98        pero terceros no pueden objetar el 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ía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: Restitución o exclusión de la 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523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9810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cciones de Recuperación y Separación de Bi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916280"/>
            <a:ext cx="6193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98760" y="4365720"/>
            <a:ext cx="309240" cy="215640"/>
          </a:xfrm>
          <a:custGeom>
            <a:avLst/>
            <a:gdLst>
              <a:gd name="textAreaLeft" fmla="*/ 48240 w 309240"/>
              <a:gd name="textAreaRight" fmla="*/ 270720 w 3092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378936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3:39:54Z</dcterms:created>
  <dc:creator>GQMC</dc:creator>
  <dc:description/>
  <dc:language>en-US</dc:language>
  <cp:lastModifiedBy>Octavio Bofill G.</cp:lastModifiedBy>
  <dcterms:modified xsi:type="dcterms:W3CDTF">2004-06-10T21:51:12Z</dcterms:modified>
  <cp:revision>75</cp:revision>
  <dc:subject/>
  <dc:title>Efectos declaración de Quieb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2526276</vt:r8>
  </property>
  <property fmtid="{D5CDD505-2E9C-101B-9397-08002B2CF9AE}" pid="3" name="_AuthorEmail">
    <vt:lpwstr>ayuri@grasty.cl</vt:lpwstr>
  </property>
  <property fmtid="{D5CDD505-2E9C-101B-9397-08002B2CF9AE}" pid="4" name="_AuthorEmailDisplayName">
    <vt:lpwstr>Ana Maria Yuri</vt:lpwstr>
  </property>
  <property fmtid="{D5CDD505-2E9C-101B-9397-08002B2CF9AE}" pid="5" name="_EmailEntryID">
    <vt:lpwstr>000000006C664B80B1B6D61196840050BA8C3624E4F72A00</vt:lpwstr>
  </property>
  <property fmtid="{D5CDD505-2E9C-101B-9397-08002B2CF9AE}" pid="6" name="_EmailSubject">
    <vt:lpwstr>curso de quiebra</vt:lpwstr>
  </property>
  <property fmtid="{D5CDD505-2E9C-101B-9397-08002B2CF9AE}" pid="7" name="_PreviousAdHocReviewCycleID">
    <vt:r8>1486346728</vt:r8>
  </property>
  <property fmtid="{D5CDD505-2E9C-101B-9397-08002B2CF9AE}" pid="8" name="_ReviewCycleID">
    <vt:r8>-137917959</vt:r8>
  </property>
</Properties>
</file>