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467C-A195-44B5-849C-E52910873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B1F3-3EC3-47AC-B638-991550F99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3835-D712-477E-BFB3-6C51E5F0D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3BE1-CAD4-4124-92BE-7D79F7D15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9241-AF3C-4E3E-8948-3CD41D16E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564F-6C75-4DDF-A883-9552CB044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8FA1-E2D5-4617-B0AB-B68946E47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63BF-9D72-4E52-9CB8-AE92764A3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B58D-2CDB-483A-9093-BAF0E25F6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B907-4AFB-432E-AAD3-59F40C94E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D617-DF3E-4876-9062-279A02E2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D597-698D-46EE-AF1E-65CBB239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5FEC6-4315-4814-9F1A-582C6F64B420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8305920" y="304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8534520" y="304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8077320" y="304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838080" y="22860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38080" y="114300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762120" y="12193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990720" y="12193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1219320" y="12193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369160" y="380880"/>
            <a:ext cx="42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Derecho Concurs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97000" y="2438280"/>
            <a:ext cx="603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Activo y Pasivo Concurs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44720" y="1628640"/>
            <a:ext cx="70768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iones de restitución reales, reivindicatorias y poseso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7840" y="2378160"/>
            <a:ext cx="8426520" cy="15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400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Reivindicació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rt. 85          Sigue reglas generales, en tribunal quiebra, contra sínd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upone fallido poseedor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≠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tenencia) y por ende reputado dueñ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35280" y="2925720"/>
            <a:ext cx="288720" cy="142920"/>
          </a:xfrm>
          <a:custGeom>
            <a:avLst/>
            <a:gdLst>
              <a:gd name="textAreaLeft" fmla="*/ 45000 w 288720"/>
              <a:gd name="textAreaRight" fmla="*/ 252720 w 28872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835280" y="3214800"/>
            <a:ext cx="288720" cy="142920"/>
          </a:xfrm>
          <a:custGeom>
            <a:avLst/>
            <a:gdLst>
              <a:gd name="textAreaLeft" fmla="*/ 45000 w 288720"/>
              <a:gd name="textAreaRight" fmla="*/ 252720 w 28872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8000" y="3716280"/>
            <a:ext cx="90723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400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Reivindicatorias especiale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(¿Reivindicatorias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rt. 82        Título de crédito en poder del fallido que reconoce dominio ajeno, antes de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       su  pa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isión de cobranza </a:t>
            </a:r>
            <a:r>
              <a:rPr b="1" lang="en-US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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mandato al deudor expi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rt. 83        Mercaderías, entregadas, identificables, reconoce dominio aje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835280" y="5589720"/>
            <a:ext cx="288720" cy="142920"/>
          </a:xfrm>
          <a:custGeom>
            <a:avLst/>
            <a:gdLst>
              <a:gd name="textAreaLeft" fmla="*/ 45000 w 288720"/>
              <a:gd name="textAreaRight" fmla="*/ 252720 w 28872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979640" y="4365720"/>
            <a:ext cx="288720" cy="142920"/>
          </a:xfrm>
          <a:custGeom>
            <a:avLst/>
            <a:gdLst>
              <a:gd name="textAreaLeft" fmla="*/ 45000 w 288720"/>
              <a:gd name="textAreaRight" fmla="*/ 252720 w 28872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9640" y="523800"/>
            <a:ext cx="77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44720" y="1555920"/>
            <a:ext cx="70768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iones de restitución reales, reivindicatorias y poseso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1280" y="1989000"/>
            <a:ext cx="9648720" cy="23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400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Trámite Reivindicatoria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Juicio ordinario Art. 8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Interdictos posesor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rt. 70        Reconoce el D° a tercero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nte tribunal competente reglas generales (# acumulació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30200" y="2565360"/>
            <a:ext cx="289080" cy="142920"/>
          </a:xfrm>
          <a:custGeom>
            <a:avLst/>
            <a:gdLst>
              <a:gd name="textAreaLeft" fmla="*/ 45000 w 289080"/>
              <a:gd name="textAreaRight" fmla="*/ 253080 w 28908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03280" y="3502080"/>
            <a:ext cx="289080" cy="142920"/>
          </a:xfrm>
          <a:custGeom>
            <a:avLst/>
            <a:gdLst>
              <a:gd name="textAreaLeft" fmla="*/ 45000 w 289080"/>
              <a:gd name="textAreaRight" fmla="*/ 253080 w 28908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9400" y="4270320"/>
            <a:ext cx="89712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cciones personales de restitución (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oluciones, terminaciones, nulidad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8000" y="4797360"/>
            <a:ext cx="10009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llido mero tenedor (        reivindicatoria = poseedor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jercicio acciones contrato respectivo, ante juez quiebra, salvo terminación arrendamien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upuesto el término del contrato respecti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916360" y="4941720"/>
            <a:ext cx="360360" cy="142920"/>
          </a:xfrm>
          <a:prstGeom prst="leftRightArrow">
            <a:avLst>
              <a:gd name="adj1" fmla="val 50000"/>
              <a:gd name="adj2" fmla="val 50195"/>
            </a:avLst>
          </a:prstGeom>
          <a:solidFill>
            <a:srgbClr val="b23002"/>
          </a:solidFill>
          <a:ln w="9360">
            <a:solidFill>
              <a:srgbClr val="d238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9640" y="523800"/>
            <a:ext cx="77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71840" y="1625760"/>
            <a:ext cx="1488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. Tercerí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9280" y="2349360"/>
            <a:ext cx="66787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400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bjeto       ¿Declarar domini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¿Recuperar domini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¿De ella deriva acción restitutori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¿Evitar el embargo general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8000" y="3549600"/>
            <a:ext cx="5645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400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mitación        ¿Incidente ?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¿Proceso autónom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11280" y="4437000"/>
            <a:ext cx="7056360" cy="24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400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rt.</a:t>
            </a: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85 pendiente la declaratori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inúa tramitación, acumulándo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tido, si hubo alzamiento automático del embargo? Pero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inúa desapodera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16000" y="5014800"/>
            <a:ext cx="289080" cy="142920"/>
          </a:xfrm>
          <a:custGeom>
            <a:avLst/>
            <a:gdLst>
              <a:gd name="textAreaLeft" fmla="*/ 45000 w 289080"/>
              <a:gd name="textAreaRight" fmla="*/ 253080 w 28908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16000" y="5518080"/>
            <a:ext cx="289080" cy="142920"/>
          </a:xfrm>
          <a:custGeom>
            <a:avLst/>
            <a:gdLst>
              <a:gd name="textAreaLeft" fmla="*/ 45000 w 289080"/>
              <a:gd name="textAreaRight" fmla="*/ 253080 w 28908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523800"/>
            <a:ext cx="77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58160" y="1628640"/>
            <a:ext cx="1448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Tercerí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9640" y="2421000"/>
            <a:ext cx="4572000" cy="7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400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terposición posterior a la declarato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26920" y="2811600"/>
            <a:ext cx="799308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admisible, porque terceros no son admitidos a la quiebra salvo casos explíci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dmisible, porque nada lo nieg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¿Procedimient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03280" y="2924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03280" y="3645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03280" y="4076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00000" y="4324320"/>
            <a:ext cx="817272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rt. 521 CPC          Ordinario sin replica ni dupl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rt. 5 LQ Incid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rt. 680 CPC Sum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708360" y="4437000"/>
            <a:ext cx="289080" cy="142920"/>
          </a:xfrm>
          <a:custGeom>
            <a:avLst/>
            <a:gdLst>
              <a:gd name="textAreaLeft" fmla="*/ 45000 w 289080"/>
              <a:gd name="textAreaRight" fmla="*/ 253080 w 28908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9640" y="523800"/>
            <a:ext cx="77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9640" y="523800"/>
            <a:ext cx="77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1080" y="1820880"/>
            <a:ext cx="33307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Restitución Administr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00000" y="2279520"/>
            <a:ext cx="6767640" cy="17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¿Puede el síndico?  ¿Es facultad de disposición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¿Antes o después del inventari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¿Puede la Junta de Acreedor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433240" y="4221000"/>
            <a:ext cx="3432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CION PATRIMON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6720" y="4748040"/>
            <a:ext cx="23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. Bienes Pas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2760" y="5157720"/>
            <a:ext cx="7751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ón Pauliana Civil, Pauliana Supletoria en Quiebra y revocatorias concurs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ones de inoponibilidad y no de nu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ones perso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ones de ineficacia, ni restitutorias ni indemnizator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340000" y="4076640"/>
            <a:ext cx="367200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94920" y="2421000"/>
            <a:ext cx="28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ión Pauliana Civ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00000" y="3114720"/>
            <a:ext cx="8353440" cy="29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¿misma acción que revocatorias concursal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tegen igualdad acreedores, inoponibilidad es su san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gunos ven fundamentos distintos pero objetos simila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juicio acree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ala fe: conocimiento mal estado nego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riquecimiento injusto en actos gratui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uliana civil es acción subsidiaria de inoponibilidad a revocatorias concursales (7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4360" y="32432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4360" y="3798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4360" y="4230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4360" y="5445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9640" y="523800"/>
            <a:ext cx="77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33240" y="1484280"/>
            <a:ext cx="3432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CION PATRIMON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26920" y="4618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68560" y="2708280"/>
            <a:ext cx="81054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ólo existe si hay quieb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or actos previos a la Quiebra (ex post: inoponibilidad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¿descansan en la par condictio? ¿enriquecimiento injusto?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¿responsabilidad fiduciaria con los acreedor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¿hay ilicitud en el acto revocado? o ¿sólo un atentado contra la par condicitio?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anción ¿nulidad o inoponibilidad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tuación objetiva vs. subjetividad de la acción paulia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0720" y="2104920"/>
            <a:ext cx="343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ocatoria Concur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116000" y="2897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16000" y="34005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116000" y="3905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116000" y="43369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16000" y="48402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433240" y="1484280"/>
            <a:ext cx="3432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CION PATRIMON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16000" y="5516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26920" y="4618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494440" y="1481040"/>
            <a:ext cx="34848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TEGRACION PATRIMON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97800" y="2130480"/>
            <a:ext cx="402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auliana Civil, proced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109520" y="2708280"/>
            <a:ext cx="134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468 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258920" y="2852640"/>
            <a:ext cx="288720" cy="142920"/>
          </a:xfrm>
          <a:custGeom>
            <a:avLst/>
            <a:gdLst>
              <a:gd name="textAreaLeft" fmla="*/ 45000 w 288720"/>
              <a:gd name="textAreaRight" fmla="*/ 252720 w 28872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67080" y="3200400"/>
            <a:ext cx="6281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Ejercida por acree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¿supone el concurs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¿requiere título ejecutiv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¿Acreedor posterior al acto impugnado?,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neficia sólo al acreedor demand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/>
          <p:nvPr/>
        </p:nvCxnSpPr>
        <p:spPr>
          <a:xfrm flipH="1" rot="16200000">
            <a:off x="1298520" y="4426200"/>
            <a:ext cx="311760" cy="90684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cxnSp>
        <p:nvCxnSpPr>
          <p:cNvPr id="191" name=""/>
          <p:cNvCxnSpPr/>
          <p:nvPr/>
        </p:nvCxnSpPr>
        <p:spPr>
          <a:xfrm flipH="1" rot="16200000">
            <a:off x="1298520" y="4980240"/>
            <a:ext cx="311760" cy="90684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192" name=""/>
          <p:cNvSpPr/>
          <p:nvPr/>
        </p:nvSpPr>
        <p:spPr>
          <a:xfrm>
            <a:off x="755640" y="3933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55640" y="4365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26920" y="4618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97800" y="1938240"/>
            <a:ext cx="402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auliana Civil, proced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9640" y="2525760"/>
            <a:ext cx="597708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Pretende ineficacia de acto juríd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41720" y="2916360"/>
            <a:ext cx="5071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≠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to material (ocultamiento de bienes por ej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evio al concurs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11280" y="33098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11280" y="38131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8200" y="4222800"/>
            <a:ext cx="44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Perjudica acreedores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14800" y="4892760"/>
            <a:ext cx="7354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ede ser buen o mal negocio, pero no debe afectar a los acreedore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debe agravar la insolvencia (ej. Factor de liquide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1280" y="5084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26920" y="4618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86480" y="1773360"/>
            <a:ext cx="86540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ocimiento mal E° negocios deudor (consilium fraudis) y tercero en acto oneroso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 momento ejecución acto (participatio fraudis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¿VIGENCIA ACTU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L MAL ESTAD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aber del mal E°, ¿es realmente un fraude paulian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pio de acción pauliana civil 2468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ión pauliana supletoria: Arts. 75 presunción conocimien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55640" y="155736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Con fraude pauli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0920" y="23558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50920" y="2924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50920" y="35082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55640" y="3906720"/>
            <a:ext cx="70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Es supletoria a revocatoria concur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95280" y="4221000"/>
            <a:ext cx="80168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 modo que aplic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ando no hay revocatoria especial que apliqu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 ataca actos fuera del período sospechoso especial de cada revocatoria concurs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empre con deudor no calific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4000" y="49370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24000" y="54421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4000" y="6093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435640" y="2565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50560" y="620280"/>
            <a:ext cx="88930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ontraste entre la apariencia y la re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ormas buscan la realidad: bienes de la m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2/175 indicación bienes prop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7 N° 2 3,4,5 y 7  /  94 inc. 1° atribuciones Sínd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ero la realidad del proceso es la que pr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étodos para determinar la realidad vs. la apari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definidos, pero ley define algun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cautación, administración bienes pres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vent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26920" y="523800"/>
            <a:ext cx="6330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 Hecho y de Dere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/>
          <p:nvPr/>
        </p:nvCxnSpPr>
        <p:spPr>
          <a:xfrm flipH="1" rot="16200000">
            <a:off x="982080" y="248328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cxnSp>
        <p:nvCxnSpPr>
          <p:cNvPr id="61" name=""/>
          <p:cNvCxnSpPr/>
          <p:nvPr/>
        </p:nvCxnSpPr>
        <p:spPr>
          <a:xfrm flipH="1" rot="16200000">
            <a:off x="982080" y="277164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26920" y="4618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39640" y="167796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Revocatoria Concur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84360" y="2046240"/>
            <a:ext cx="907236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reedor puede ser posterior al acto impugn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 ser exitosa, beneficia a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todo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los acree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uevo acreedor: el sínd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se plantea duda del título ejecuti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 refiere a actos anteriores a la apertura de la Quiebr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cepción 215 y 216: entre aprobación y nulidad convenio: r. grale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 segunda quiebra: revocatorias concursales (convenio alzatorio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chas veces la ejecución del acto presupone un perjuicio a acreedor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 da por cumplido requerimiento de acción pauliana civi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4000" y="22636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4000" y="26956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4000" y="32004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24000" y="4221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4920" y="4730760"/>
            <a:ext cx="89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50920" y="5627520"/>
            <a:ext cx="680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or lo que se protege la par condictio por sobre to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0920" y="5613480"/>
            <a:ext cx="680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hay real consideración del fraude paulian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4000" y="3716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24000" y="5805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24000" y="5157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26920" y="4618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4000" y="1609560"/>
            <a:ext cx="7920000" cy="64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3333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cl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[Pauliana Civil subsidiaria en quiebra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licables a todo deud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licables a deudores calificados, más objetivas y expedi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vocatorias de actos a título gratuito o de beneficio gratuito 74 - 7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íodo sospechoso más lar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yor expedición de la a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oponibilidad de derec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vocatorias de actos oneroso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rticipatio fraud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oponibilidad facultativa “podrá” 77 - 7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ólo calific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66560" y="306864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66560" y="350028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6560" y="256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4920" y="4730760"/>
            <a:ext cx="89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50920" y="5627520"/>
            <a:ext cx="680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8360" y="5229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5640" y="2125800"/>
            <a:ext cx="79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-179640" y="1549440"/>
            <a:ext cx="44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333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vocatorias Concursal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68360" y="4005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4618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2040" y="1557360"/>
            <a:ext cx="61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ulidades de derecho, inoponibilidad forz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39640" y="2205000"/>
            <a:ext cx="597708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ículos 74, 76; actos gratui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434600" y="4508640"/>
            <a:ext cx="459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Juez no está obligado a acoger demand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547640" y="472428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6920" y="1484280"/>
            <a:ext cx="576108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9640" y="2573280"/>
            <a:ext cx="78487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uez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O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tiene discreción, debe declarar revo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95280" y="314172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ulidades facultativas, inoponibilidad discre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26920" y="3068640"/>
            <a:ext cx="648180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9640" y="3797280"/>
            <a:ext cx="597708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ículos 77, 78; actos onero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39640" y="408636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iciones en cuanto a la facult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378440" y="4892760"/>
            <a:ext cx="553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Juez no debe fallar conforme al mérito del proces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423800" y="5229360"/>
            <a:ext cx="229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isitos a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359360" y="5540400"/>
            <a:ext cx="583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Juez es soberano para apreciar la mala fe de tercero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405800" y="5877000"/>
            <a:ext cx="413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Juez opera de acuerdo a la equidad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547640" y="508464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547640" y="537372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547640" y="573408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547640" y="6021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706920" y="5302080"/>
            <a:ext cx="288720" cy="142920"/>
          </a:xfrm>
          <a:custGeom>
            <a:avLst/>
            <a:gdLst>
              <a:gd name="textAreaLeft" fmla="*/ 45000 w 288720"/>
              <a:gd name="textAreaRight" fmla="*/ 252720 w 28872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511080" y="5229360"/>
            <a:ext cx="390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uevos antecedentes ilustrativo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26920" y="4618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79000" y="1484280"/>
            <a:ext cx="32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eríodo sospecho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6560" y="1925640"/>
            <a:ext cx="8066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termina alcance de revocatorias concursales (hasta apertura de la quiebr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258920" y="2565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8360" y="3357720"/>
            <a:ext cx="44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Objetiv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07840" y="3357720"/>
            <a:ext cx="728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ándo se tomó conocimiento del estado de insolvencia que afectab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 deudor (Teorías y su relación con concepto de insolvenci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21960" y="2349360"/>
            <a:ext cx="121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908640" y="2732040"/>
            <a:ext cx="14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spu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258920" y="2925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340000" y="2854440"/>
            <a:ext cx="289080" cy="142920"/>
          </a:xfrm>
          <a:custGeom>
            <a:avLst/>
            <a:gdLst>
              <a:gd name="textAreaLeft" fmla="*/ 45000 w 289080"/>
              <a:gd name="textAreaRight" fmla="*/ 253080 w 28908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338560" y="2421000"/>
            <a:ext cx="288720" cy="142920"/>
          </a:xfrm>
          <a:custGeom>
            <a:avLst/>
            <a:gdLst>
              <a:gd name="textAreaLeft" fmla="*/ 45000 w 288720"/>
              <a:gd name="textAreaRight" fmla="*/ 252720 w 28872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232720" y="230040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uliana civ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136600" y="2805120"/>
            <a:ext cx="205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oponibi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68360" y="3998880"/>
            <a:ext cx="44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Reglas Proces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091160" y="4433760"/>
            <a:ext cx="336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puesta síndico al tribu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117800" y="4749840"/>
            <a:ext cx="269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tificación por avi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051200" y="5110200"/>
            <a:ext cx="526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llido, acreedores, terceros objetan y propo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134000" y="5470560"/>
            <a:ext cx="151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cid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017360" y="5829480"/>
            <a:ext cx="507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Juez fija, notifica por aviso, apelable devoluti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403280" y="4581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403280" y="4941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403280" y="53020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403280" y="56624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403280" y="60228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66560" y="33336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68360" y="1989000"/>
            <a:ext cx="44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Fecha de la Cesación de Pa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085040" y="2424240"/>
            <a:ext cx="462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udor común: 1° título ejecutivo exig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043280" y="2739960"/>
            <a:ext cx="613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udor calificado: juez, no más de un año desde aper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049760" y="3100320"/>
            <a:ext cx="484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sos particulares, revocatorias concurs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403280" y="25718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403280" y="29322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403280" y="32925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79000" y="1484280"/>
            <a:ext cx="32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eríodo sospecho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26920" y="4618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24000" y="1677960"/>
            <a:ext cx="66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Acciones Revocatorias Concursales Particul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-36360" y="2197080"/>
            <a:ext cx="9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Acciones Revocatorias Destinadas a Revocar Actos a Título Gratuito o Asimil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92240" y="2631960"/>
            <a:ext cx="573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vocatoria de actos a título gratuito propiamente 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122120" y="2948040"/>
            <a:ext cx="454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vocatoria contra los pagos anticip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144440" y="3308400"/>
            <a:ext cx="417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vocatoria contra la dación en pa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460520" y="27795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460520" y="31399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460520" y="3500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081080" y="3668760"/>
            <a:ext cx="627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vocatoria contra garantías reales sobre bienes del falli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474920" y="386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-36360" y="4221000"/>
            <a:ext cx="9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Acciones Revocatorias Destinadas a Revocar Actos a Título Oneroso o Asimil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200960" y="4648320"/>
            <a:ext cx="52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vocatoria de actos a título oneroso en gene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214280" y="4964040"/>
            <a:ext cx="43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vocatoria de ciertas compensa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171800" y="5324400"/>
            <a:ext cx="631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vocatoria de ciertos pagos de letras de cambio o pagar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547640" y="479592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547640" y="515628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547640" y="551664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199520" y="5684760"/>
            <a:ext cx="520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vocación de ciertas inscripciones hipotecar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562040" y="5877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042920" y="4618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68360" y="1628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Acción revocatoria contra actos a título gratuito (Art. 7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332000" y="21384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994680" y="1946160"/>
            <a:ext cx="641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cede contra cualquier tipo de deudor:  común y calific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971640" y="2306520"/>
            <a:ext cx="53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exige la concurrencia de elementos subje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156360" y="2427120"/>
            <a:ext cx="288720" cy="142920"/>
          </a:xfrm>
          <a:custGeom>
            <a:avLst/>
            <a:gdLst>
              <a:gd name="textAreaLeft" fmla="*/ 45000 w 288720"/>
              <a:gd name="textAreaRight" fmla="*/ 252720 w 28872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012000" y="2349360"/>
            <a:ext cx="280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i consilium fraud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i participatio fraud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332000" y="24987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332000" y="30751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332000" y="35784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116000" y="2930400"/>
            <a:ext cx="669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 trata de una inoponibilidad de derec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116000" y="3435480"/>
            <a:ext cx="669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íodo Sospecho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4" name=""/>
          <p:cNvCxnSpPr/>
          <p:nvPr/>
        </p:nvCxnSpPr>
        <p:spPr>
          <a:xfrm flipH="1" rot="16200000">
            <a:off x="2205720" y="349776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335" name=""/>
          <p:cNvSpPr/>
          <p:nvPr/>
        </p:nvSpPr>
        <p:spPr>
          <a:xfrm>
            <a:off x="2413080" y="3890880"/>
            <a:ext cx="669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 días anteriores a la fecha de cesación de pago hasta el día de la declaratoria de quieb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6" name=""/>
          <p:cNvCxnSpPr/>
          <p:nvPr/>
        </p:nvCxnSpPr>
        <p:spPr>
          <a:xfrm flipH="1" rot="16200000">
            <a:off x="2205720" y="404964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2411280" y="4443480"/>
            <a:ext cx="6696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or excepción se extiende desde 120 días anteriores a la fecha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esación de pago, en el caso que beneficiario sea pariente has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arto gr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189080" y="5307120"/>
            <a:ext cx="795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ley no asimila a un acto gratuito, los actos onerosos en que existe una gran diferencia entre las prestaciones recíprocas de las par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332000" y="54514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006560" y="860400"/>
            <a:ext cx="911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6920" y="4618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39640" y="13334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Acción revocatoria contra pagos anticipados (Art. 76 N°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332000" y="21747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984240" y="1982880"/>
            <a:ext cx="669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cede contra deudor calificado; deudor común:  pauliana civ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971640" y="2343240"/>
            <a:ext cx="53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exige la concurrencia de elementos subje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156360" y="2463840"/>
            <a:ext cx="288720" cy="142920"/>
          </a:xfrm>
          <a:custGeom>
            <a:avLst/>
            <a:gdLst>
              <a:gd name="textAreaLeft" fmla="*/ 45000 w 288720"/>
              <a:gd name="textAreaRight" fmla="*/ 252720 w 28872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12000" y="2386080"/>
            <a:ext cx="280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i consilium fraud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i participatio fraud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332000" y="25351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332000" y="31114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332000" y="36147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116000" y="2967120"/>
            <a:ext cx="669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 trata de una inoponibilidad de derec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116000" y="3471840"/>
            <a:ext cx="669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íodo Sospecho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4" name=""/>
          <p:cNvCxnSpPr/>
          <p:nvPr/>
        </p:nvCxnSpPr>
        <p:spPr>
          <a:xfrm flipH="1" rot="16200000">
            <a:off x="2205720" y="353412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355" name=""/>
          <p:cNvSpPr/>
          <p:nvPr/>
        </p:nvSpPr>
        <p:spPr>
          <a:xfrm>
            <a:off x="2413080" y="3927600"/>
            <a:ext cx="669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 días anteriores a la fecha de cesación de pago hasta el día de la declaratoria de quieb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189080" y="4479840"/>
            <a:ext cx="795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fecha de vencimiento de la obligación cuyo pago se anticipa puede corresponder a una fecha anterior o posterior a la declaratoria de quieb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332000" y="46245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8" name=""/>
          <p:cNvCxnSpPr/>
          <p:nvPr/>
        </p:nvCxnSpPr>
        <p:spPr>
          <a:xfrm flipH="1" rot="16200000">
            <a:off x="2205720" y="473436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359" name=""/>
          <p:cNvSpPr/>
          <p:nvPr/>
        </p:nvSpPr>
        <p:spPr>
          <a:xfrm>
            <a:off x="2340000" y="5127480"/>
            <a:ext cx="669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tras legislaciones sólo obligaciones que vencían con posterioridad a la apertura de la quieb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154160" y="5727600"/>
            <a:ext cx="795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ley asimila al pago anticipado el descuento de efectos de comercio o facturas de su carg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523280" y="1701720"/>
            <a:ext cx="1512720" cy="432000"/>
          </a:xfrm>
          <a:prstGeom prst="wedgeRectCallout">
            <a:avLst>
              <a:gd name="adj1" fmla="val -44226"/>
              <a:gd name="adj2" fmla="val 698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483320" y="1676520"/>
            <a:ext cx="198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sunción de ma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e del deudor 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26920" y="4618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26920" y="4618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68360" y="140652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Acción revocatoria contra daciones en pago (Art. 76 N°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042920" y="24685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5520" y="2276640"/>
            <a:ext cx="669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cede contra deudor calificado; deudor común:  pauliana civ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82560" y="2637000"/>
            <a:ext cx="53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exige la concurrencia de elementos subje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867280" y="2757600"/>
            <a:ext cx="289080" cy="142920"/>
          </a:xfrm>
          <a:custGeom>
            <a:avLst/>
            <a:gdLst>
              <a:gd name="textAreaLeft" fmla="*/ 45000 w 289080"/>
              <a:gd name="textAreaRight" fmla="*/ 253080 w 28908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722920" y="2679840"/>
            <a:ext cx="280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i consilium fraud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i participatio fraud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042920" y="28288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042920" y="34052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042920" y="39085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826920" y="3260880"/>
            <a:ext cx="669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 trata de una inoponibilidad de derec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826920" y="3765600"/>
            <a:ext cx="669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íodo Sospecho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/>
          <p:nvPr/>
        </p:nvCxnSpPr>
        <p:spPr>
          <a:xfrm flipH="1" rot="16200000">
            <a:off x="1917000" y="382788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379" name=""/>
          <p:cNvSpPr/>
          <p:nvPr/>
        </p:nvSpPr>
        <p:spPr>
          <a:xfrm>
            <a:off x="2124000" y="4221000"/>
            <a:ext cx="669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 días anteriores a la fecha de cesación de pago hasta el día de la declaratoria de quieb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900000" y="4935600"/>
            <a:ext cx="795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 trata de obligaciones de dinero que el fallido soluciona con especies distintas del dinero o de los efectos de comer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042920" y="50799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132680" y="1844640"/>
            <a:ext cx="1512720" cy="432000"/>
          </a:xfrm>
          <a:prstGeom prst="wedgeRectCallout">
            <a:avLst>
              <a:gd name="adj1" fmla="val -44226"/>
              <a:gd name="adj2" fmla="val 698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093080" y="1819440"/>
            <a:ext cx="1984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sunción de ma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e del deudor 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826920" y="4618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826920" y="4618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68360" y="140652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Acción revocatoria contra garantías reales para obligaciones preexistentes (Art. 76 N°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332000" y="23972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984240" y="2205000"/>
            <a:ext cx="669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cede contra deudor calificado; deudor común:  pauliana civ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971640" y="2565360"/>
            <a:ext cx="53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exige la concurrencia de elementos subje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156360" y="2685960"/>
            <a:ext cx="288720" cy="142920"/>
          </a:xfrm>
          <a:custGeom>
            <a:avLst/>
            <a:gdLst>
              <a:gd name="textAreaLeft" fmla="*/ 45000 w 288720"/>
              <a:gd name="textAreaRight" fmla="*/ 252720 w 28872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012000" y="2608200"/>
            <a:ext cx="280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i consilium fraud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i participatio fraud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332000" y="27576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332000" y="33336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332000" y="38368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116000" y="3189240"/>
            <a:ext cx="669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 trata de una inoponibilidad de derec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116000" y="3693960"/>
            <a:ext cx="669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íodo Sospecho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/>
          <p:nvPr/>
        </p:nvCxnSpPr>
        <p:spPr>
          <a:xfrm flipH="1" rot="16200000">
            <a:off x="2205720" y="375588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400" name=""/>
          <p:cNvSpPr/>
          <p:nvPr/>
        </p:nvSpPr>
        <p:spPr>
          <a:xfrm>
            <a:off x="2413080" y="4149720"/>
            <a:ext cx="669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 días anteriores a la fecha de cesación de pago hasta el día de la declaratoria de quieb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189080" y="4863960"/>
            <a:ext cx="795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upone otorgar garantías reales (prenda e hipoteca) sobre bienes del fallido para caucionar obligaciones preexist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332000" y="50086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3" name=""/>
          <p:cNvCxnSpPr/>
          <p:nvPr/>
        </p:nvCxnSpPr>
        <p:spPr>
          <a:xfrm flipH="1" rot="16200000">
            <a:off x="2205720" y="512496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404" name=""/>
          <p:cNvSpPr/>
          <p:nvPr/>
        </p:nvSpPr>
        <p:spPr>
          <a:xfrm>
            <a:off x="2340000" y="5445000"/>
            <a:ext cx="669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 la garantía se constituye junto con adquirirse la obligación por el deudor, no procede este acción revocatoria, habría que recurrir a las acciones especiales del art. 77 y 7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451640" y="1844640"/>
            <a:ext cx="1513080" cy="432000"/>
          </a:xfrm>
          <a:prstGeom prst="wedgeRectCallout">
            <a:avLst>
              <a:gd name="adj1" fmla="val -44226"/>
              <a:gd name="adj2" fmla="val 698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412040" y="1819440"/>
            <a:ext cx="1984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sunción de ma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e del deudor 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50560" y="1628280"/>
            <a:ext cx="88930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étodos para determinar la realidad vs. la apari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paración de bienes, recuperaciones de terceros, reivindicaciones       personales, reales y especiales, resolu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ervención bienes futuros del fall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egración patrimonial (nulidad, resolución, revocació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523800"/>
            <a:ext cx="6330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 Hecho y de Dere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826920" y="4618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826920" y="4618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826920" y="4618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68360" y="140652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Acción revocatoria contra actos a título oneroso en gen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332000" y="23972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984240" y="2205000"/>
            <a:ext cx="669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cede contra deudor calificado; deudor común:  pauliana civ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986040" y="2565360"/>
            <a:ext cx="502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ige la concurrencia de elementos subje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867280" y="2685960"/>
            <a:ext cx="289080" cy="142920"/>
          </a:xfrm>
          <a:custGeom>
            <a:avLst/>
            <a:gdLst>
              <a:gd name="textAreaLeft" fmla="*/ 45000 w 289080"/>
              <a:gd name="textAreaRight" fmla="*/ 253080 w 28908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724360" y="2565360"/>
            <a:ext cx="28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rticipatio fraud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332000" y="27576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332000" y="3141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332000" y="3500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116000" y="2948040"/>
            <a:ext cx="669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 trata de una inoponibilidad facultat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3357720"/>
            <a:ext cx="669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íodo Sospecho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4" name=""/>
          <p:cNvCxnSpPr/>
          <p:nvPr/>
        </p:nvCxnSpPr>
        <p:spPr>
          <a:xfrm flipH="1" rot="16200000">
            <a:off x="2205720" y="342000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425" name=""/>
          <p:cNvSpPr/>
          <p:nvPr/>
        </p:nvSpPr>
        <p:spPr>
          <a:xfrm>
            <a:off x="2413080" y="3813120"/>
            <a:ext cx="669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contar de la fecha de cesación de pago hasta el día de la declaratoria de quieb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187280" y="4503600"/>
            <a:ext cx="795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sidera cualquier acto o contrato a título oneroso e incluso los pagos no considerados en el art. 76 N°1 (pagos anticipad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330200" y="464832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451640" y="1844640"/>
            <a:ext cx="1513080" cy="432000"/>
          </a:xfrm>
          <a:prstGeom prst="wedgeRectCallout">
            <a:avLst>
              <a:gd name="adj1" fmla="val -44226"/>
              <a:gd name="adj2" fmla="val 698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412040" y="1819440"/>
            <a:ext cx="1984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sunción de ma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e del deudor 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09308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796000" y="3068640"/>
            <a:ext cx="669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ocimiento de 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esación de pa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826920" y="4618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826920" y="4618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826920" y="4618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826920" y="4618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68360" y="140652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Revocación de ciertas compensaciones (Art. 7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332000" y="23972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984240" y="2205000"/>
            <a:ext cx="669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cede contra deudor calificado; deudor común:  pauliana civ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986040" y="2565360"/>
            <a:ext cx="502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ige la concurrencia de elementos subje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867280" y="2685960"/>
            <a:ext cx="289080" cy="142920"/>
          </a:xfrm>
          <a:custGeom>
            <a:avLst/>
            <a:gdLst>
              <a:gd name="textAreaLeft" fmla="*/ 45000 w 289080"/>
              <a:gd name="textAreaRight" fmla="*/ 253080 w 28908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724360" y="2565360"/>
            <a:ext cx="28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rticipatio fraud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332000" y="27576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332000" y="3141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332000" y="3645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116000" y="2948040"/>
            <a:ext cx="669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 trata de una inoponibilidad facultat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116000" y="3502080"/>
            <a:ext cx="669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íodo Sospecho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/>
          <p:nvPr/>
        </p:nvCxnSpPr>
        <p:spPr>
          <a:xfrm flipH="1" rot="16200000">
            <a:off x="2205720" y="356436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452" name=""/>
          <p:cNvSpPr/>
          <p:nvPr/>
        </p:nvSpPr>
        <p:spPr>
          <a:xfrm>
            <a:off x="2413080" y="3957480"/>
            <a:ext cx="669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contar de la fecha de cesación de pago hasta el día de la declaratoria de quieb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87280" y="4648320"/>
            <a:ext cx="795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upone la adquisición, por endoso o cesión, de créditos a la orden o nominativos, en contra del fallido para obtener compensaciones en perjuicio de la m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330200" y="479268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451640" y="1844640"/>
            <a:ext cx="1513080" cy="432000"/>
          </a:xfrm>
          <a:prstGeom prst="wedgeRectCallout">
            <a:avLst>
              <a:gd name="adj1" fmla="val -44226"/>
              <a:gd name="adj2" fmla="val 698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412040" y="1819440"/>
            <a:ext cx="1984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sunción de ma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e del deudor 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09308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796000" y="3068640"/>
            <a:ext cx="669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ocimiento de 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esación de pago al tiemp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 la cesión o endo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187280" y="5540400"/>
            <a:ext cx="795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ra algunos la revocación de la compensación procedería sólo si por dicha compensación se devenga un perjuicio al patrimonio del fallid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330200" y="566100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826920" y="4618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826920" y="4618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826920" y="4618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826920" y="4618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826920" y="4618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68360" y="140652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Revocación de ciertos pagos de letras de cambio o pagarés (Art. 7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332000" y="26128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984240" y="2421000"/>
            <a:ext cx="669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cede contra deudor calificado; deudor común:  pauliana civ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986040" y="2781360"/>
            <a:ext cx="502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ige la concurrencia de elementos subje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867280" y="2901960"/>
            <a:ext cx="289080" cy="142920"/>
          </a:xfrm>
          <a:custGeom>
            <a:avLst/>
            <a:gdLst>
              <a:gd name="textAreaLeft" fmla="*/ 45000 w 289080"/>
              <a:gd name="textAreaRight" fmla="*/ 253080 w 28908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724360" y="2781360"/>
            <a:ext cx="28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rticipatio fraud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332000" y="29732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332000" y="3716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332000" y="44798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116000" y="3573360"/>
            <a:ext cx="669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 trata de una inoponibilidad facultat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116000" y="4336920"/>
            <a:ext cx="669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íodo Sospecho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2" name=""/>
          <p:cNvCxnSpPr/>
          <p:nvPr/>
        </p:nvCxnSpPr>
        <p:spPr>
          <a:xfrm flipH="1" rot="16200000">
            <a:off x="2205720" y="439884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483" name=""/>
          <p:cNvSpPr/>
          <p:nvPr/>
        </p:nvSpPr>
        <p:spPr>
          <a:xfrm>
            <a:off x="2413080" y="4792680"/>
            <a:ext cx="669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contar de la fecha de cesación de pago hasta el día antes de la declaratoria de quieb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451640" y="1844640"/>
            <a:ext cx="1513080" cy="432000"/>
          </a:xfrm>
          <a:prstGeom prst="wedgeRectCallout">
            <a:avLst>
              <a:gd name="adj1" fmla="val -44226"/>
              <a:gd name="adj2" fmla="val 698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412040" y="1819440"/>
            <a:ext cx="1984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sunción de ma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e del deudor 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09308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580000" y="3284640"/>
            <a:ext cx="669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ocimiento de 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esación de pago al tiemp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 la aceptación de la letra 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uscripción del pagaré a favor 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rce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826920" y="4618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826920" y="4618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6920" y="4618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826920" y="4618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826920" y="4618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68360" y="140652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Revocación de ciertos pagos de letras de cambio o pagarés (Art. 7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154160" y="2133720"/>
            <a:ext cx="795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upone que el deudor ha pagado letras o pagarés de su giro durante el período sospecho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116000" y="2852640"/>
            <a:ext cx="7954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l beneficiario de dichos títulos debe haber tenido conocimiento de la insolvencia del deudor al tiempo de librarse o aceptarse la letra o suscribirse el pagaré a la orden de aqué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081080" y="3860640"/>
            <a:ext cx="795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l reembolso se exigirá al primer beneficiario del libramiento, aceptación o suscripción de la letra de cambio o pagaré, respectivam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081080" y="4576680"/>
            <a:ext cx="795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gunos autores consideran procedente extender esta sanción al cheque, fundado en el art. 11 de la Ley de Cuentas Corrientes Bancarias y Che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187280" y="299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258920" y="4724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187280" y="2349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258920" y="4076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7" name=""/>
          <p:cNvCxnSpPr/>
          <p:nvPr/>
        </p:nvCxnSpPr>
        <p:spPr>
          <a:xfrm flipH="1" rot="16200000">
            <a:off x="2205720" y="490212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508" name=""/>
          <p:cNvSpPr/>
          <p:nvPr/>
        </p:nvSpPr>
        <p:spPr>
          <a:xfrm>
            <a:off x="2413080" y="5295960"/>
            <a:ext cx="669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tros consideran que no es posible dicha extensión por cuanto al tratarse de una sanción su interpretación debe ser restrict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826920" y="4618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826920" y="4618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826920" y="4618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826920" y="4618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826920" y="4618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68360" y="140652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Revocación de ciertas inscripciones hipotecarias (Art. 7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332000" y="23972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984240" y="2205000"/>
            <a:ext cx="669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cede contra deudor calificado; deudor común:  pauliana civ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971640" y="2565360"/>
            <a:ext cx="53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exige la concurrencia de elementos subje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156360" y="2685960"/>
            <a:ext cx="288720" cy="142920"/>
          </a:xfrm>
          <a:custGeom>
            <a:avLst/>
            <a:gdLst>
              <a:gd name="textAreaLeft" fmla="*/ 45000 w 288720"/>
              <a:gd name="textAreaRight" fmla="*/ 252720 w 28872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012000" y="2608200"/>
            <a:ext cx="280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i consilium fraud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i participatio fraud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332000" y="27576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332000" y="33336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332000" y="38368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116000" y="3189240"/>
            <a:ext cx="669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 trata de una inoponibilidad facultat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116000" y="3693960"/>
            <a:ext cx="669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íodo Sospecho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0" name=""/>
          <p:cNvCxnSpPr/>
          <p:nvPr/>
        </p:nvCxnSpPr>
        <p:spPr>
          <a:xfrm flipH="1" rot="16200000">
            <a:off x="2205720" y="375588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531" name=""/>
          <p:cNvSpPr/>
          <p:nvPr/>
        </p:nvSpPr>
        <p:spPr>
          <a:xfrm>
            <a:off x="2413080" y="4149720"/>
            <a:ext cx="669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 días anteriores a la fecha de cesación de pago hasta el día de la declaratoria de quieb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451640" y="1844640"/>
            <a:ext cx="1513080" cy="432000"/>
          </a:xfrm>
          <a:prstGeom prst="wedgeRectCallout">
            <a:avLst>
              <a:gd name="adj1" fmla="val -44226"/>
              <a:gd name="adj2" fmla="val 698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412040" y="1819440"/>
            <a:ext cx="1984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sunción de ma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e del deudor 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971640" y="4792680"/>
            <a:ext cx="7954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upone que el deudor otorga un contrato de hipoteca y éste se inscribe durante el período sospechoso, transcurriendo más de 15 días entre su otorgamiento y la inscripción (este plazo aumento a razón de un día por cada 100km de dista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187280" y="494172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457200" y="1063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tapa de verificación: constituye una subfase de la etapa cognocitiva del proceso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uieb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u objetivo es identificar los acreedores que serán beneficiarios de la realización del bien del falli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notificación de la resolución que declara la quiebra constituye la relación procesal con los acreedores de la quiebra, quienes tienen la carga de verificar sus crédi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tructura del proces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7" name=""/>
          <p:cNvCxnSpPr/>
          <p:nvPr/>
        </p:nvCxnSpPr>
        <p:spPr>
          <a:xfrm flipH="1" rot="16200000">
            <a:off x="1269360" y="372780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cxnSp>
        <p:nvCxnSpPr>
          <p:cNvPr id="538" name=""/>
          <p:cNvCxnSpPr/>
          <p:nvPr/>
        </p:nvCxnSpPr>
        <p:spPr>
          <a:xfrm flipH="1" rot="16200000">
            <a:off x="1269360" y="401472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539" name=""/>
          <p:cNvSpPr/>
          <p:nvPr/>
        </p:nvSpPr>
        <p:spPr>
          <a:xfrm>
            <a:off x="2042640" y="4092480"/>
            <a:ext cx="495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rificación en período ordinario o extraordin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040120" y="4473720"/>
            <a:ext cx="6470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tículo 131, no existen acreedores eximidos de la obligación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rificar sus crédi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132000" y="5300640"/>
            <a:ext cx="216000" cy="144360"/>
          </a:xfrm>
          <a:prstGeom prst="rightArrow">
            <a:avLst>
              <a:gd name="adj1" fmla="val 50000"/>
              <a:gd name="adj2" fmla="val 37406"/>
            </a:avLst>
          </a:prstGeom>
          <a:solidFill>
            <a:srgbClr val="d238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132000" y="5516640"/>
            <a:ext cx="216000" cy="144360"/>
          </a:xfrm>
          <a:prstGeom prst="rightArrow">
            <a:avLst>
              <a:gd name="adj1" fmla="val 50000"/>
              <a:gd name="adj2" fmla="val 37406"/>
            </a:avLst>
          </a:prstGeom>
          <a:solidFill>
            <a:srgbClr val="d238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132000" y="5732640"/>
            <a:ext cx="216000" cy="144360"/>
          </a:xfrm>
          <a:prstGeom prst="rightArrow">
            <a:avLst>
              <a:gd name="adj1" fmla="val 50000"/>
              <a:gd name="adj2" fmla="val 37406"/>
            </a:avLst>
          </a:prstGeom>
          <a:solidFill>
            <a:srgbClr val="d238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414600" y="5229360"/>
            <a:ext cx="71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z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429000" y="5445000"/>
            <a:ext cx="440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dimientos incidentales de verific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397320" y="5684760"/>
            <a:ext cx="34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ómina de Créditos Reconoci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1114560" y="33336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Pas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VERIFICACIÓN DE CRÉDI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533520" y="629604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4008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8580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1"/>
          <a:stretch/>
        </p:blipFill>
        <p:spPr>
          <a:xfrm>
            <a:off x="7130880" y="610092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758520" y="1936800"/>
            <a:ext cx="111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Z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84360" y="1941480"/>
            <a:ext cx="129528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195640" y="2009880"/>
            <a:ext cx="647640" cy="215640"/>
          </a:xfrm>
          <a:prstGeom prst="rightArrow">
            <a:avLst>
              <a:gd name="adj1" fmla="val 50000"/>
              <a:gd name="adj2" fmla="val 75083"/>
            </a:avLst>
          </a:prstGeom>
          <a:solidFill>
            <a:srgbClr val="d238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920680" y="1760400"/>
            <a:ext cx="400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IÓDO ORDINARIO DE VERIFIC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940480" y="2247840"/>
            <a:ext cx="46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IÓDO EXTRAORDINARIO DE VERIFIC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933200" y="2801880"/>
            <a:ext cx="400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IÓDO ORDINARIO DE VERIFIC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979640" y="2801880"/>
            <a:ext cx="4032360" cy="35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08000" y="3444840"/>
            <a:ext cx="2663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 debe distinguir ent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116000" y="4095720"/>
            <a:ext cx="266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identes en Ch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7" name=""/>
          <p:cNvCxnSpPr/>
          <p:nvPr/>
        </p:nvCxnSpPr>
        <p:spPr>
          <a:xfrm flipH="1" rot="16200000">
            <a:off x="548640" y="365796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568" name=""/>
          <p:cNvSpPr/>
          <p:nvPr/>
        </p:nvSpPr>
        <p:spPr>
          <a:xfrm>
            <a:off x="1284480" y="4460760"/>
            <a:ext cx="565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lazo 30 días desde notificación resolución de apertur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319760" y="5110200"/>
            <a:ext cx="66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lazo no fatal, vence con la resolución que cierra p. ordinario (13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239120" y="5468760"/>
            <a:ext cx="812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Juez debe de oficio declarar su término si los interesados no lo hubieren solicit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331280" y="4748040"/>
            <a:ext cx="375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lazo común, legal e improrrog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114560" y="33336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Pas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VERIFICACIÓN DE CRÉDI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533520" y="629604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64008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6294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8580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7130880" y="610092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758520" y="1700280"/>
            <a:ext cx="111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Z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84360" y="1704960"/>
            <a:ext cx="129528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1116000" y="2490840"/>
            <a:ext cx="266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Residentes en Ch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1" name=""/>
          <p:cNvCxnSpPr/>
          <p:nvPr/>
        </p:nvCxnSpPr>
        <p:spPr>
          <a:xfrm flipH="1" rot="16200000">
            <a:off x="548640" y="203076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582" name=""/>
          <p:cNvSpPr/>
          <p:nvPr/>
        </p:nvSpPr>
        <p:spPr>
          <a:xfrm>
            <a:off x="1342080" y="2787480"/>
            <a:ext cx="695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lazo 30 días más incremento según T. de Emplazamiento (259 C.P.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291320" y="3387600"/>
            <a:ext cx="731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lazo individual y se cuenta desde notificación por carta aérea certificad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348200" y="3673440"/>
            <a:ext cx="66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lazo no fatal, vence con la resolución que cierra p. ordinario (13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267560" y="4008600"/>
            <a:ext cx="812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Juez debe de oficio declarar su término si los interesados no lo hubieren solicit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400400" y="30718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lazo legal e improrrog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1932480" y="4489560"/>
            <a:ext cx="46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IÓDO EXTRAORDINARIO DE VERIFIC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979640" y="4489560"/>
            <a:ext cx="4608360" cy="35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66840" y="5016600"/>
            <a:ext cx="878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lazo que corre desde que el juez declara cerrado período ordinario de verificación has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 tanto subsista el proceso de quiebra (art. 140 “mientras haya fondos para repartir”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451800" y="5592600"/>
            <a:ext cx="660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ra Puga, hasta el momento que el síndico cese en sus fun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114560" y="33336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Pas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VERIFICACIÓN DE CRÉDI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533520" y="659772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647388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70248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93108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1"/>
          <a:stretch/>
        </p:blipFill>
        <p:spPr>
          <a:xfrm>
            <a:off x="7203960" y="63896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597" name=""/>
          <p:cNvSpPr/>
          <p:nvPr/>
        </p:nvSpPr>
        <p:spPr>
          <a:xfrm>
            <a:off x="757440" y="220968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716360" y="2259000"/>
            <a:ext cx="0" cy="338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1511280" y="2114640"/>
            <a:ext cx="14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. Ordinari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5666760" y="2114640"/>
            <a:ext cx="191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. Extraordinari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5640" y="2498760"/>
            <a:ext cx="3946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ificación es de cargo del activo de 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iebr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4691160" y="2498760"/>
            <a:ext cx="4452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ificación es de cargo del acreed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icita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7800" y="3203640"/>
            <a:ext cx="4201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mite aprovechar el IVA respecto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éditos verificados que consten en factu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716360" y="3218040"/>
            <a:ext cx="468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reedor pierde el IVA como crédito fis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6920" y="3855960"/>
            <a:ext cx="419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ificación ordinaria se notifica por est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4704840" y="3851280"/>
            <a:ext cx="4566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ificación extraordinaria se notifica por avis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acreedores y por cédula al sínd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-18360" y="4441680"/>
            <a:ext cx="4516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zo para impugnar créditos verificad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dinariamente desde que se agregan a au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sta 15 días después de notificación de cier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. ordinari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716720" y="4503600"/>
            <a:ext cx="4112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zo para impugnar créditos verificad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 período extraordinario es dentro de l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 días siguientes de notificación por avis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 la solicitud de verific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758520" y="1557360"/>
            <a:ext cx="111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Z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684360" y="1562040"/>
            <a:ext cx="129528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1114560" y="33336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Pas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VERIFICACIÓN DE CRÉDI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533520" y="629604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4008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66294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8580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" descr=""/>
          <p:cNvPicPr/>
          <p:nvPr/>
        </p:nvPicPr>
        <p:blipFill>
          <a:blip r:embed="rId1"/>
          <a:stretch/>
        </p:blipFill>
        <p:spPr>
          <a:xfrm>
            <a:off x="7130880" y="610092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617" name=""/>
          <p:cNvSpPr/>
          <p:nvPr/>
        </p:nvSpPr>
        <p:spPr>
          <a:xfrm>
            <a:off x="621360" y="1647720"/>
            <a:ext cx="41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dimiento incidental de verific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39640" y="1652760"/>
            <a:ext cx="4319640" cy="40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52360" y="2349360"/>
            <a:ext cx="583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Requisitos formales de verificació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826920" y="2776680"/>
            <a:ext cx="583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s propios de cualquier demanda (254 C.P.C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826920" y="3179880"/>
            <a:ext cx="8317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solicitud debe indicar el monto de lo adeudado por concepto de capital e intere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os devengados hasta el día de la declaración de quiebr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826920" y="3813120"/>
            <a:ext cx="831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djuntar minuta de liquidación de crédito y los títulos justificativos de la pretens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826920" y="4245120"/>
            <a:ext cx="831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ompañar dos copias de la demanda y sus anexos (una para síndico y otra para el fallid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4" name=""/>
          <p:cNvCxnSpPr/>
          <p:nvPr/>
        </p:nvCxnSpPr>
        <p:spPr>
          <a:xfrm flipH="1" rot="16200000">
            <a:off x="1226520" y="454860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625" name=""/>
          <p:cNvSpPr/>
          <p:nvPr/>
        </p:nvSpPr>
        <p:spPr>
          <a:xfrm>
            <a:off x="1908000" y="5008680"/>
            <a:ext cx="583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 discute sanción por no entregar las copias que se seña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1114560" y="33336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Pas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VERIFICACIÓN DE CRÉDI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250920" y="1701720"/>
            <a:ext cx="8208720" cy="20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Tahoma"/>
              </a:rPr>
              <a:t>+</a:t>
            </a: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tivo de Hec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Tahoma"/>
              </a:rPr>
              <a:t>+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ienes reivindicados por la m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+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ienes sometidos a revocación en favor de la m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Tahoma"/>
              </a:rPr>
              <a:t>+</a:t>
            </a: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ienes restituidos por nulidad o resolu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+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ienes futuros gratui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+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neficios líquidos de bienes futuros oneros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26920" y="523800"/>
            <a:ext cx="6330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 Dere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1844640"/>
            <a:ext cx="8064360" cy="172872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0920" y="3860640"/>
            <a:ext cx="8642160" cy="180036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85880" y="1474920"/>
            <a:ext cx="29937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sultado de ecuació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60360" y="4043520"/>
            <a:ext cx="903600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cuperaciones de terceros, separación de bienes: reivindicatorias, resoluciones, compensaciones, modos de extinguir distintos del pa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afectos al concurso (del deudor: inembargabl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imentos en favor del falli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rgas y derechos preferentes de terceros no acreedores (ej. bienes futuros, discusión de la masa vs. en la mas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9440" y="5925960"/>
            <a:ext cx="32986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Activo de Dere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42920" y="5877000"/>
            <a:ext cx="2376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533520" y="630864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64008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66294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68580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1"/>
          <a:stretch/>
        </p:blipFill>
        <p:spPr>
          <a:xfrm>
            <a:off x="7130880" y="610092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/>
          <p:nvPr/>
        </p:nvSpPr>
        <p:spPr>
          <a:xfrm>
            <a:off x="621360" y="1647720"/>
            <a:ext cx="41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dimiento incidental de verific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39640" y="1652760"/>
            <a:ext cx="4319640" cy="40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252360" y="2133720"/>
            <a:ext cx="583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Quiénes deben verific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826920" y="2560680"/>
            <a:ext cx="7921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existe acreedor alguno eximido de esta obligación (131), única forma de lograr la par condict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826920" y="3208320"/>
            <a:ext cx="831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cepciones apar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7" name=""/>
          <p:cNvCxnSpPr/>
          <p:nvPr/>
        </p:nvCxnSpPr>
        <p:spPr>
          <a:xfrm flipH="1" rot="16200000">
            <a:off x="1442160" y="327492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638" name=""/>
          <p:cNvSpPr/>
          <p:nvPr/>
        </p:nvSpPr>
        <p:spPr>
          <a:xfrm>
            <a:off x="2050920" y="3718080"/>
            <a:ext cx="709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reedores condicionales (152) que jurídicamente no son acree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2050920" y="4145040"/>
            <a:ext cx="709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reedores privilegiados de primera clase (14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0" name=""/>
          <p:cNvCxnSpPr/>
          <p:nvPr/>
        </p:nvCxnSpPr>
        <p:spPr>
          <a:xfrm flipH="1" rot="16200000">
            <a:off x="1442160" y="368352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641" name=""/>
          <p:cNvSpPr/>
          <p:nvPr/>
        </p:nvSpPr>
        <p:spPr>
          <a:xfrm>
            <a:off x="1979640" y="4508640"/>
            <a:ext cx="831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réditos por costas que se causen en interés de los acreed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979640" y="4821120"/>
            <a:ext cx="831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réditos por gastos para poner a disposición de la masa bienes del fall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979640" y="5157720"/>
            <a:ext cx="83167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réditos por gastos de administración, realización activo y préstam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ntratados por síndico para dichos efec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979640" y="5661000"/>
            <a:ext cx="83167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muneraciones de trabajadores e indemnizaciones laborales. Pago administrativo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ero que igualmente requiere verificación por parte de acreedor (14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1114560" y="33336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Pas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VERIFICACIÓN DE CRÉDI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542880" y="6237360"/>
            <a:ext cx="64771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64008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66294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68580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7130880" y="610092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651" name=""/>
          <p:cNvSpPr/>
          <p:nvPr/>
        </p:nvSpPr>
        <p:spPr>
          <a:xfrm>
            <a:off x="621360" y="1647720"/>
            <a:ext cx="41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dimiento incidental de verific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39640" y="1652760"/>
            <a:ext cx="4319640" cy="40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52360" y="2133720"/>
            <a:ext cx="583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Requisitos para verific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977760" y="2565360"/>
            <a:ext cx="831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réditos dinerarios (13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977760" y="2924280"/>
            <a:ext cx="831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réditos documentarios (133) basta antecedente escrito que pruebe o dé certeza 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rédito aunque carezca de mérito ejecuti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971640" y="3495600"/>
            <a:ext cx="831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bligaciones crediticias deben ser anteriores a la quieb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250920" y="4000680"/>
            <a:ext cx="583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fectos de demanda de verific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971640" y="4460760"/>
            <a:ext cx="831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solicitud de verificación y su resolución deben ser notificadas por avi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971640" y="4821120"/>
            <a:ext cx="831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 es extraordinaria debe notificar por cédula al síndico, sin perjuicio del avi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971640" y="5180040"/>
            <a:ext cx="831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nera relación procesal de juicio incidental de verificación, interrumpe la prescrip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 constituye en mora al deud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114560" y="33336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Pas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VERIFICACIÓN DE CRÉDI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542880" y="6237360"/>
            <a:ext cx="64771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64008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6294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8580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" descr=""/>
          <p:cNvPicPr/>
          <p:nvPr/>
        </p:nvPicPr>
        <p:blipFill>
          <a:blip r:embed="rId1"/>
          <a:stretch/>
        </p:blipFill>
        <p:spPr>
          <a:xfrm>
            <a:off x="7130880" y="610092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667" name=""/>
          <p:cNvSpPr/>
          <p:nvPr/>
        </p:nvSpPr>
        <p:spPr>
          <a:xfrm>
            <a:off x="621360" y="1647720"/>
            <a:ext cx="41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dimiento incidental de verific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539640" y="1652760"/>
            <a:ext cx="4319640" cy="40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252360" y="2133720"/>
            <a:ext cx="583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mpugnación de la verific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977760" y="2565360"/>
            <a:ext cx="831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bjeto:</a:t>
            </a:r>
            <a:r>
              <a:rPr b="0" lang="en-US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quivale a la contestación de la demanda. Pretende obtener la exclusión del pasivo de un determinado acreedor o de la preferencia que se ale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971640" y="3279600"/>
            <a:ext cx="158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gitimad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2" name=""/>
          <p:cNvCxnSpPr/>
          <p:nvPr/>
        </p:nvCxnSpPr>
        <p:spPr>
          <a:xfrm flipH="1" rot="16200000">
            <a:off x="1586880" y="327492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673" name=""/>
          <p:cNvSpPr/>
          <p:nvPr/>
        </p:nvSpPr>
        <p:spPr>
          <a:xfrm>
            <a:off x="1943280" y="3716280"/>
            <a:ext cx="831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réditos: fallido, síndico, demás acree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4" name=""/>
          <p:cNvCxnSpPr/>
          <p:nvPr/>
        </p:nvCxnSpPr>
        <p:spPr>
          <a:xfrm flipH="1" rot="16200000">
            <a:off x="1586880" y="363528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675" name=""/>
          <p:cNvSpPr/>
          <p:nvPr/>
        </p:nvSpPr>
        <p:spPr>
          <a:xfrm>
            <a:off x="1979640" y="4029120"/>
            <a:ext cx="831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eferencias: cualquiera de los señalados menos el fallido (13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971640" y="4532400"/>
            <a:ext cx="31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tuación de Terce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1187280" y="4821120"/>
            <a:ext cx="831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ley en esta fase excluye al tercero, aun cuando también pueden tener u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terés ya que la disminución de los créditos disminuye a su vez la neces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 acciones revocator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1187280" y="5656320"/>
            <a:ext cx="831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rceros están suficientemente protegidos: reposición quiebra, impugnación fech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 cesación de pago y acción revocato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1114560" y="33336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Pas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VERIFICACIÓN DE CRÉDI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542880" y="6237360"/>
            <a:ext cx="64771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64008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66294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68580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4" name="" descr=""/>
          <p:cNvPicPr/>
          <p:nvPr/>
        </p:nvPicPr>
        <p:blipFill>
          <a:blip r:embed="rId1"/>
          <a:stretch/>
        </p:blipFill>
        <p:spPr>
          <a:xfrm>
            <a:off x="7130880" y="610092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685" name=""/>
          <p:cNvSpPr/>
          <p:nvPr/>
        </p:nvSpPr>
        <p:spPr>
          <a:xfrm>
            <a:off x="252360" y="1700280"/>
            <a:ext cx="583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mpugnación de la verific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971640" y="2131920"/>
            <a:ext cx="31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tuación del síndico (14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1295280" y="2421000"/>
            <a:ext cx="831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iene la facultad y deber legal de impugnar créditos y preferenc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368360" y="2803680"/>
            <a:ext cx="831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ela por la prosecución normal del juici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440000" y="3164040"/>
            <a:ext cx="831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ber de fiscalización (135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1440000" y="3522600"/>
            <a:ext cx="831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mpugnación de intereses excesivos (135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971640" y="4027320"/>
            <a:ext cx="31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lazo para impugn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1274760" y="4503600"/>
            <a:ext cx="9345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lazo para impugnar créditos verificados ordinariamente desde que se agregan 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utos hasta 15 días después de notificación de cierre  p. ordinari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258920" y="5157720"/>
            <a:ext cx="7885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lazo para impugnar créditos verificados en período extraordinario es dentro de l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5 días siguientes de la notificación por aviso de la solicitud de verificació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1114560" y="33336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Pas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VERIFICACIÓN DE CRÉDI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1332000" y="2637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1332000" y="2997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1332000" y="33577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332000" y="371628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/>
          <p:nvPr/>
        </p:nvSpPr>
        <p:spPr>
          <a:xfrm>
            <a:off x="326880" y="6308640"/>
            <a:ext cx="64771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4008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66294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68580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1"/>
          <a:stretch/>
        </p:blipFill>
        <p:spPr>
          <a:xfrm>
            <a:off x="7130880" y="610092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704" name=""/>
          <p:cNvSpPr/>
          <p:nvPr/>
        </p:nvSpPr>
        <p:spPr>
          <a:xfrm>
            <a:off x="621360" y="1647720"/>
            <a:ext cx="41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dimiento incidental de verific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539640" y="1652760"/>
            <a:ext cx="4319640" cy="40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252360" y="2133720"/>
            <a:ext cx="583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mpugnación de la verific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752400" y="2637000"/>
            <a:ext cx="31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mit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1440000" y="2925720"/>
            <a:ext cx="831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 tramita como incid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476360" y="3308400"/>
            <a:ext cx="831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slado de 6 dí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1476360" y="3668760"/>
            <a:ext cx="831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tificación personal o art. 44 C.P.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511280" y="4029120"/>
            <a:ext cx="831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tencia es definitiva, pone término a juicio declarati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511280" y="4460760"/>
            <a:ext cx="831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sa Juzgada: discutible si procede reabrirse en juicio ordinario posteri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114560" y="33336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Pas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VERIFICACIÓN DE CRÉDI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542880" y="6237360"/>
            <a:ext cx="64771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64008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66294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68580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" descr=""/>
          <p:cNvPicPr/>
          <p:nvPr/>
        </p:nvPicPr>
        <p:blipFill>
          <a:blip r:embed="rId1"/>
          <a:stretch/>
        </p:blipFill>
        <p:spPr>
          <a:xfrm>
            <a:off x="7130880" y="610092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719" name=""/>
          <p:cNvSpPr/>
          <p:nvPr/>
        </p:nvSpPr>
        <p:spPr>
          <a:xfrm>
            <a:off x="616320" y="1647720"/>
            <a:ext cx="21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ómina de Crédi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539640" y="1652760"/>
            <a:ext cx="2232000" cy="40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826920" y="2276640"/>
            <a:ext cx="831708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¿Listado, título ejecutivo ejecución colectiva, nómina administrativa o jurisdiccional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índico la forma y presenta al tribu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5 días cierre período de verificación ordina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dividualiza acreedores, montos y preferenc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erva créditos condicionales e impugn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mpliable con créditos verificados extraordinariam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termina acreedores para efectos de votar en juntas y percibir benefic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 mutable por resolución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114560" y="33336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Pas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VERIFICACIÓN DE CRÉDI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/>
          <p:nvPr/>
        </p:nvSpPr>
        <p:spPr>
          <a:xfrm>
            <a:off x="542880" y="6237360"/>
            <a:ext cx="64771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4008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66294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68580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" descr=""/>
          <p:cNvPicPr/>
          <p:nvPr/>
        </p:nvPicPr>
        <p:blipFill>
          <a:blip r:embed="rId1"/>
          <a:stretch/>
        </p:blipFill>
        <p:spPr>
          <a:xfrm>
            <a:off x="7130880" y="610092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728" name=""/>
          <p:cNvSpPr/>
          <p:nvPr/>
        </p:nvSpPr>
        <p:spPr>
          <a:xfrm>
            <a:off x="1114560" y="33336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REALIZACIÓN DE LOS BIE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771120" y="2246400"/>
            <a:ext cx="800928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s reglas de realización de los bienes recogen los principios que sustentan 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uicio de quieb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iquitar el proceso concursal en períodos breves, para e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cibe la venta como unidad económica y 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inuidad de giro como excepcion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one ciertos plazos programáticos (13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plifica enajenaciones de activos menores (10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2340000" y="3645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2340000" y="4365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2340000" y="486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611280" y="1647720"/>
            <a:ext cx="41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LIZACIÓN DEL ACTI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539640" y="1652760"/>
            <a:ext cx="3095640" cy="40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5" name=""/>
          <p:cNvCxnSpPr/>
          <p:nvPr/>
        </p:nvCxnSpPr>
        <p:spPr>
          <a:xfrm flipH="1" rot="16200000">
            <a:off x="1124640" y="255420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/>
          <p:nvPr/>
        </p:nvSpPr>
        <p:spPr>
          <a:xfrm>
            <a:off x="542880" y="6237360"/>
            <a:ext cx="64771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64008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66294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68580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" descr=""/>
          <p:cNvPicPr/>
          <p:nvPr/>
        </p:nvPicPr>
        <p:blipFill>
          <a:blip r:embed="rId1"/>
          <a:stretch/>
        </p:blipFill>
        <p:spPr>
          <a:xfrm>
            <a:off x="7130880" y="610092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741" name=""/>
          <p:cNvSpPr/>
          <p:nvPr/>
        </p:nvSpPr>
        <p:spPr>
          <a:xfrm>
            <a:off x="611280" y="1647720"/>
            <a:ext cx="41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ES DE LA REALIZ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39640" y="1652760"/>
            <a:ext cx="3095640" cy="40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3" name=""/>
          <p:cNvCxnSpPr/>
          <p:nvPr/>
        </p:nvCxnSpPr>
        <p:spPr>
          <a:xfrm flipH="1" rot="16200000">
            <a:off x="1947240" y="183564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744" name=""/>
          <p:cNvSpPr/>
          <p:nvPr/>
        </p:nvSpPr>
        <p:spPr>
          <a:xfrm>
            <a:off x="2608920" y="2224080"/>
            <a:ext cx="279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autación e invent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5" name=""/>
          <p:cNvCxnSpPr/>
          <p:nvPr/>
        </p:nvCxnSpPr>
        <p:spPr>
          <a:xfrm flipH="1" rot="16200000">
            <a:off x="1947240" y="217224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746" name=""/>
          <p:cNvSpPr/>
          <p:nvPr/>
        </p:nvSpPr>
        <p:spPr>
          <a:xfrm>
            <a:off x="2628720" y="2630520"/>
            <a:ext cx="184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minist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628360" y="2990880"/>
            <a:ext cx="32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lización propiamente 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8" name=""/>
          <p:cNvCxnSpPr/>
          <p:nvPr/>
        </p:nvCxnSpPr>
        <p:spPr>
          <a:xfrm flipH="1" rot="16200000">
            <a:off x="1947240" y="253260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749" name=""/>
          <p:cNvSpPr/>
          <p:nvPr/>
        </p:nvSpPr>
        <p:spPr>
          <a:xfrm>
            <a:off x="2701800" y="3567240"/>
            <a:ext cx="272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mas de Realiz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2629080" y="3500280"/>
            <a:ext cx="273492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25892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1694520" y="428616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693800" y="4718160"/>
            <a:ext cx="11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din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1694520" y="514980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raordin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1258920" y="4869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1258920" y="5300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 flipV="1">
            <a:off x="3419640" y="5157720"/>
            <a:ext cx="647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3492360" y="4869000"/>
            <a:ext cx="5749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4233600" y="4724280"/>
            <a:ext cx="4507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zo 6 meses desde junta constitutiva (13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zo 9 meses para realización de inmue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rrogable una sola ve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2916360" y="443700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4268520" y="4221000"/>
            <a:ext cx="447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zo 6 meses cualquiera sea su integr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114560" y="33336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REALIZACIÓN DE LOS BIE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/>
          <p:nvPr/>
        </p:nvSpPr>
        <p:spPr>
          <a:xfrm>
            <a:off x="542880" y="6237360"/>
            <a:ext cx="64771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4008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66294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68580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7" name="" descr=""/>
          <p:cNvPicPr/>
          <p:nvPr/>
        </p:nvPicPr>
        <p:blipFill>
          <a:blip r:embed="rId1"/>
          <a:stretch/>
        </p:blipFill>
        <p:spPr>
          <a:xfrm>
            <a:off x="7130880" y="610092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768" name=""/>
          <p:cNvSpPr/>
          <p:nvPr/>
        </p:nvSpPr>
        <p:spPr>
          <a:xfrm>
            <a:off x="2701080" y="1622520"/>
            <a:ext cx="25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lización  Ordin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629080" y="1555920"/>
            <a:ext cx="273492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80280" y="2852640"/>
            <a:ext cx="8780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l activo debe exceder de 1000 Unidades de Fom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121) Realización de bienes próximo a deterioro o a una desvalorización inmin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 prescinde de autorización judicial, se entiende que la orden de venta está conten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 la sente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ta venta puede ser privada o al marti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ra Puga esta forma de realización no excluye los inmuebles en tanto cumpla requisi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l 121 (norma correlativa en juicio ejecutivo individual sí lo excluye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398160" y="227016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os Art. 1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324000" y="2205000"/>
            <a:ext cx="180000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1114560" y="33336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REALIZACIÓN DE LOS BIE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>
            <a:off x="542880" y="6237360"/>
            <a:ext cx="64771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64008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66294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68580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8" name="" descr=""/>
          <p:cNvPicPr/>
          <p:nvPr/>
        </p:nvPicPr>
        <p:blipFill>
          <a:blip r:embed="rId1"/>
          <a:stretch/>
        </p:blipFill>
        <p:spPr>
          <a:xfrm>
            <a:off x="7130880" y="610092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779" name=""/>
          <p:cNvSpPr/>
          <p:nvPr/>
        </p:nvSpPr>
        <p:spPr>
          <a:xfrm>
            <a:off x="2925000" y="1263600"/>
            <a:ext cx="25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lización  Ordin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-216000" y="2206800"/>
            <a:ext cx="9684000" cy="55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l activo debe exceder de 1000 Unidades de Fom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122) realización de especies 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corporales muebles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 venden al marti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122) realización de 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valores mobiliario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con cotización bursátil, en remate en bolsa de val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dos los demás bienes, corporales e incorporales, pública subasta o licitación públ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 es pública subasta se debe cumplir trámite de tasación, determinación bases de rem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 fijación de día y ho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es necesario citación acreedores hipotecarios (71 pueden iniciar concurso especial y separado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i solicitar autorización de otros tribunales que hubieren embargado bienes, alzamiento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IPSO I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 caso de licitación pública la ley exige aprobación de las bases por junta de acree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398160" y="155088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os Art. 1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387880" y="1652760"/>
            <a:ext cx="433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lización de bienes excluidos en art. 1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468360" y="1484280"/>
            <a:ext cx="1655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1114560" y="33336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REALIZACIÓN DE LOS BIE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250560" y="1774800"/>
            <a:ext cx="828180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stión de administración de la Quiebra  (facultad jurisdiccion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pia del cargo de Sínd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imer instrumento de conservación del activo concurs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0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0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30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0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0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30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55640" y="1557360"/>
            <a:ext cx="17625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cau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62000" y="3205080"/>
            <a:ext cx="7902720" cy="35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2 N°2: se incauta de todos los bienes del fallido con fuerza públ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94 N°1: ministro de fe, libros, documentos y bienes del fallido, custo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¿Alcances? Numerosas discus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 razonable pareciera s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ienes en poder del fallido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todo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incluso de tercer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33320" y="3284640"/>
            <a:ext cx="309600" cy="215640"/>
          </a:xfrm>
          <a:custGeom>
            <a:avLst/>
            <a:gdLst>
              <a:gd name="textAreaLeft" fmla="*/ 48240 w 309600"/>
              <a:gd name="textAreaRight" fmla="*/ 271080 w 309600"/>
              <a:gd name="textAreaTop" fmla="*/ 54000 h 215640"/>
              <a:gd name="textAreaBottom" fmla="*/ 162000 h 21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33320" y="3789360"/>
            <a:ext cx="309600" cy="216000"/>
          </a:xfrm>
          <a:custGeom>
            <a:avLst/>
            <a:gdLst>
              <a:gd name="textAreaLeft" fmla="*/ 48240 w 309600"/>
              <a:gd name="textAreaRight" fmla="*/ 271080 w 3096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"/>
          <p:cNvCxnSpPr/>
          <p:nvPr/>
        </p:nvCxnSpPr>
        <p:spPr>
          <a:xfrm flipH="1" rot="16200000">
            <a:off x="1269360" y="497988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826920" y="523800"/>
            <a:ext cx="6330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 He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/>
          <p:nvPr/>
        </p:nvSpPr>
        <p:spPr>
          <a:xfrm>
            <a:off x="542880" y="6237360"/>
            <a:ext cx="64771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64008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66294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68580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9" name="" descr=""/>
          <p:cNvPicPr/>
          <p:nvPr/>
        </p:nvPicPr>
        <p:blipFill>
          <a:blip r:embed="rId1"/>
          <a:stretch/>
        </p:blipFill>
        <p:spPr>
          <a:xfrm>
            <a:off x="7130880" y="610092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790" name=""/>
          <p:cNvSpPr/>
          <p:nvPr/>
        </p:nvSpPr>
        <p:spPr>
          <a:xfrm>
            <a:off x="2824200" y="1335240"/>
            <a:ext cx="31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lización  Extraordin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2629080" y="1268280"/>
            <a:ext cx="381456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879480" y="2147760"/>
            <a:ext cx="76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. Realización de bienes alterando las normas del procedimiento ordinari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701280" y="2781360"/>
            <a:ext cx="8335440" cy="32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ra adoptar este procedimiento se requiere (123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l voto conforme de más de la ½ del pasivo con derecho a vo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acreedores verificados y reconocid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l voto favorable del falli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jo esta modalidad se puede vender el activo como unidad sin trámites del art. 1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ta forma de realización no admite el pacto comisorio, supone la reducción d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tivo a moneda quieb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pesar de soberanía de las partes, síndico puede objetar dentro de tercer d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684360" y="2133720"/>
            <a:ext cx="792000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1114560" y="33336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REALIZACIÓN DE LOS BIE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/>
          <p:nvPr/>
        </p:nvSpPr>
        <p:spPr>
          <a:xfrm>
            <a:off x="542880" y="6237360"/>
            <a:ext cx="64771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64008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66294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68580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0" name="" descr=""/>
          <p:cNvPicPr/>
          <p:nvPr/>
        </p:nvPicPr>
        <p:blipFill>
          <a:blip r:embed="rId1"/>
          <a:stretch/>
        </p:blipFill>
        <p:spPr>
          <a:xfrm>
            <a:off x="7130880" y="610092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801" name=""/>
          <p:cNvSpPr/>
          <p:nvPr/>
        </p:nvSpPr>
        <p:spPr>
          <a:xfrm>
            <a:off x="2824200" y="1335240"/>
            <a:ext cx="31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lización  Extraordin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629080" y="1268280"/>
            <a:ext cx="381456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611280" y="214776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.  Venta del activo al mejor postor en pública subasta ante juez de quiebr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539640" y="2133720"/>
            <a:ext cx="806472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03440" y="2852640"/>
            <a:ext cx="767844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ra adoptar este procedimiento se requie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l voto conforme de más de la mayoría de la ½ del pasivo con derecho a vo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acreedores verificados y reconocido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requiere el voto favorable del falli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 aplicable a todo tipo de bie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índico puede objetar dentro de tercer d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1114560" y="33336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REALIZACIÓN DE LOS BIE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"/>
          <p:cNvSpPr/>
          <p:nvPr/>
        </p:nvSpPr>
        <p:spPr>
          <a:xfrm>
            <a:off x="542880" y="6237360"/>
            <a:ext cx="64771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64008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66294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68580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1" name="" descr=""/>
          <p:cNvPicPr/>
          <p:nvPr/>
        </p:nvPicPr>
        <p:blipFill>
          <a:blip r:embed="rId1"/>
          <a:stretch/>
        </p:blipFill>
        <p:spPr>
          <a:xfrm>
            <a:off x="7130880" y="610092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812" name=""/>
          <p:cNvSpPr/>
          <p:nvPr/>
        </p:nvSpPr>
        <p:spPr>
          <a:xfrm>
            <a:off x="2824200" y="1335240"/>
            <a:ext cx="31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lización  Extraordin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629080" y="1268280"/>
            <a:ext cx="381456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539640" y="2147760"/>
            <a:ext cx="86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. Vent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o unidad económica en pública subasta y por el juez de la quie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468360" y="2060640"/>
            <a:ext cx="842472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625320" y="2852640"/>
            <a:ext cx="84679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 trata de la venta como conjunto de bienes del deudor, que puede ser total o par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unidad de bienes supone una integración económica orientada a la producción 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tribución de bienes o servic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te procedimiento de realización no es incompatible con el del art. 1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iere aprobación de la Jun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requiere el voto favorable del falli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índico puede objetar dentro de tercer d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1114560" y="33336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REALIZACIÓN DE LOS BIE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/>
          <p:nvPr/>
        </p:nvSpPr>
        <p:spPr>
          <a:xfrm>
            <a:off x="542880" y="6237360"/>
            <a:ext cx="64771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64008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66294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68580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7130880" y="610092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2824200" y="1335240"/>
            <a:ext cx="31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lización  Extraordin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2629080" y="1268280"/>
            <a:ext cx="381456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468360" y="1989000"/>
            <a:ext cx="84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.  Vent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o unidad económica en pública subasta y por el juez de la quie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468360" y="1989000"/>
            <a:ext cx="837252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576720" y="2709720"/>
            <a:ext cx="8566920" cy="38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proposición a la Junta la puede realizar el síndico, cualquier acreedor y el falli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s bases las confecciona el sínd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be contener los bienes que integra la unidad económ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ecio mínimo, garantías y demás modalidades de enajen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venta debe realizarse en pública subasta, al mejor postor y ante juez de la quieb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te procedimiento sólo puede aplicarse en dos oportunidades. Luego, procedi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rdinario o bajo régimen extraordinario del 1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malidades de la venta art. 1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1114560" y="33336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REALIZACIÓN DE LOS BIE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"/>
          <p:cNvSpPr/>
          <p:nvPr/>
        </p:nvSpPr>
        <p:spPr>
          <a:xfrm>
            <a:off x="542880" y="6237360"/>
            <a:ext cx="64771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64008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66294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68580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" descr=""/>
          <p:cNvPicPr/>
          <p:nvPr/>
        </p:nvPicPr>
        <p:blipFill>
          <a:blip r:embed="rId1"/>
          <a:stretch/>
        </p:blipFill>
        <p:spPr>
          <a:xfrm>
            <a:off x="7130880" y="610092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834" name=""/>
          <p:cNvSpPr/>
          <p:nvPr/>
        </p:nvSpPr>
        <p:spPr>
          <a:xfrm>
            <a:off x="2824200" y="1335240"/>
            <a:ext cx="31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lización  Extraordin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2629080" y="1268280"/>
            <a:ext cx="381456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755640" y="2205000"/>
            <a:ext cx="86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.  Vent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o unidad económica en pública subasta y por el juez de la quie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684360" y="2060640"/>
            <a:ext cx="835164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623880" y="2852640"/>
            <a:ext cx="87696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fecto de la venta bajo 124, hipoteca y prenda legal en favor del deudor por obliga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ndientes del adquir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junta puede excluir en las bases algunos bienes de los graváme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l concurso se mantiene abierto hasta cumplimiento íntegro de las obligaciones d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dquir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feccionamiento de la venta se discute por falta de acta de remate que lo formal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1114560" y="33336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REALIZACIÓN DE LOS BIE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"/>
          <p:cNvSpPr/>
          <p:nvPr/>
        </p:nvSpPr>
        <p:spPr>
          <a:xfrm>
            <a:off x="542880" y="6237360"/>
            <a:ext cx="64771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64008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66294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68580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4" name="" descr=""/>
          <p:cNvPicPr/>
          <p:nvPr/>
        </p:nvPicPr>
        <p:blipFill>
          <a:blip r:embed="rId1"/>
          <a:stretch/>
        </p:blipFill>
        <p:spPr>
          <a:xfrm>
            <a:off x="7130880" y="610092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845" name=""/>
          <p:cNvSpPr/>
          <p:nvPr/>
        </p:nvSpPr>
        <p:spPr>
          <a:xfrm>
            <a:off x="2824200" y="133524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lización  Sum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629080" y="1268280"/>
            <a:ext cx="273492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68400" y="2421000"/>
            <a:ext cx="9159840" cy="38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l valor probable de la realización del activo no debe exceder de 1000 Unidades de Fom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jo este procedimiento síndico provisional pasa a ser síndico definiti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índico determina forma de realización. Única limitación plazo de 6 meses para la liquid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modifica este plazo la circunstancia de existir inmuebles que liquid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bjeción de acreedores o fallido a este procedimiento, misma jun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1114560" y="33336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REALIZACIÓN DE LOS BIE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542880" y="6237360"/>
            <a:ext cx="64771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64008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66294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68580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3" name="" descr=""/>
          <p:cNvPicPr/>
          <p:nvPr/>
        </p:nvPicPr>
        <p:blipFill>
          <a:blip r:embed="rId1"/>
          <a:stretch/>
        </p:blipFill>
        <p:spPr>
          <a:xfrm>
            <a:off x="7130880" y="610092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854" name=""/>
          <p:cNvSpPr/>
          <p:nvPr/>
        </p:nvSpPr>
        <p:spPr>
          <a:xfrm>
            <a:off x="2822400" y="1335240"/>
            <a:ext cx="39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idad Giro del Fall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2629080" y="1268280"/>
            <a:ext cx="417492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353520" y="2421000"/>
            <a:ext cx="8792640" cy="43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 también forma de “realización” y pa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iro / oficinas, locales o establecimientos             ¿suponen a una empresa?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lacionada con permiso de actividades futuras del deud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inuidad efectiva símil de prenda pretoria de ejecución individ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visional           Efect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tal         Parcial. Pueden ser medidas paralel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1114560" y="33336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REALIZACIÓN DE LOS BIE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4282920" y="2997360"/>
            <a:ext cx="576360" cy="215640"/>
          </a:xfrm>
          <a:prstGeom prst="rightArrow">
            <a:avLst>
              <a:gd name="adj1" fmla="val 50000"/>
              <a:gd name="adj2" fmla="val 66820"/>
            </a:avLst>
          </a:prstGeom>
          <a:solidFill>
            <a:srgbClr val="d238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1619280" y="4437000"/>
            <a:ext cx="503280" cy="216000"/>
          </a:xfrm>
          <a:prstGeom prst="leftRightArrow">
            <a:avLst>
              <a:gd name="adj1" fmla="val 50000"/>
              <a:gd name="adj2" fmla="val 46384"/>
            </a:avLst>
          </a:prstGeom>
          <a:solidFill>
            <a:srgbClr val="d238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1042920" y="4941720"/>
            <a:ext cx="503280" cy="216000"/>
          </a:xfrm>
          <a:prstGeom prst="leftRightArrow">
            <a:avLst>
              <a:gd name="adj1" fmla="val 50000"/>
              <a:gd name="adj2" fmla="val 46384"/>
            </a:avLst>
          </a:prstGeom>
          <a:solidFill>
            <a:srgbClr val="d238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"/>
          <p:cNvSpPr/>
          <p:nvPr/>
        </p:nvSpPr>
        <p:spPr>
          <a:xfrm>
            <a:off x="542880" y="6237360"/>
            <a:ext cx="64771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64008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66294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68580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5" name="" descr=""/>
          <p:cNvPicPr/>
          <p:nvPr/>
        </p:nvPicPr>
        <p:blipFill>
          <a:blip r:embed="rId1"/>
          <a:stretch/>
        </p:blipFill>
        <p:spPr>
          <a:xfrm>
            <a:off x="7130880" y="610092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866" name=""/>
          <p:cNvSpPr/>
          <p:nvPr/>
        </p:nvSpPr>
        <p:spPr>
          <a:xfrm>
            <a:off x="2822040" y="1335240"/>
            <a:ext cx="281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idad Provis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2629080" y="1268280"/>
            <a:ext cx="309528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-89640" y="2349360"/>
            <a:ext cx="9383760" cy="38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ributo del síndico (9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asta Junta de Planificación porque ésta resuelve sobre la suerte de los bienes de la masa (11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 función de interés de la masa (no del fallid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 alternativa al cierre y paralización de locales, oficinas y establecimien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bjetivo            facilitar realización de bienes y preparar liquidación progres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1114560" y="33336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REALIZACIÓN DE LOS BIE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1189080" y="4365720"/>
            <a:ext cx="503280" cy="215640"/>
          </a:xfrm>
          <a:prstGeom prst="leftRightArrow">
            <a:avLst>
              <a:gd name="adj1" fmla="val 50000"/>
              <a:gd name="adj2" fmla="val 46462"/>
            </a:avLst>
          </a:prstGeom>
          <a:solidFill>
            <a:srgbClr val="d238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/>
          <p:nvPr/>
        </p:nvSpPr>
        <p:spPr>
          <a:xfrm>
            <a:off x="542880" y="6237360"/>
            <a:ext cx="64771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64008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66294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5" name="" descr=""/>
          <p:cNvPicPr/>
          <p:nvPr/>
        </p:nvPicPr>
        <p:blipFill>
          <a:blip r:embed="rId1"/>
          <a:stretch/>
        </p:blipFill>
        <p:spPr>
          <a:xfrm>
            <a:off x="7130880" y="610092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876" name=""/>
          <p:cNvSpPr/>
          <p:nvPr/>
        </p:nvSpPr>
        <p:spPr>
          <a:xfrm>
            <a:off x="1114560" y="33336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REALIZACIÓN DE LOS BIE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2823120" y="1335240"/>
            <a:ext cx="245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idad Efe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2629080" y="1268280"/>
            <a:ext cx="2879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-92160" y="1844640"/>
            <a:ext cx="9506160" cy="56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ribución del síndico con autorización del tribunal, por causas graves (99 inc. 2°) o de la Jun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 acreedores (112), a proposición del síndico o 2 acreedores a partir de la Junta de Planific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Duració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 1 año prorrogable o más si acuerdo venta unidad económica (11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uerdo fundado, determinando objeto y bienes, administración y facultades. Si renovación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índico no puede seguir administran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 continuación de giro” se agrega a razón social o nomb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índico no administrador: interven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Objetiv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 pagar a acreedores mediante frutos de la continuidad (= continuación de la empres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afecta acreedores Hipotecarios, prendarios, retencionarios, a menos que consient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ede haber compra de créditos a precio de moneda quiebra para conseguir quór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6300360" y="4869000"/>
            <a:ext cx="7164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"/>
          <p:cNvSpPr/>
          <p:nvPr/>
        </p:nvSpPr>
        <p:spPr>
          <a:xfrm>
            <a:off x="144360" y="1700280"/>
            <a:ext cx="8748720" cy="38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go a acreedores es paulatino con ocasión del giro (11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ese de la continuidad              deshaciendo lo hec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pueden realizarse bienes comprendi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laciones jurídicas preexistentes a la quiebra siguen vig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1114560" y="33336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REALIZACIÓN DE LOS BIE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2763000" y="1268280"/>
            <a:ext cx="245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idad Efe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2629080" y="1268280"/>
            <a:ext cx="27349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2627280" y="2205000"/>
            <a:ext cx="504720" cy="287280"/>
          </a:xfrm>
          <a:prstGeom prst="rightArrow">
            <a:avLst>
              <a:gd name="adj1" fmla="val 50000"/>
              <a:gd name="adj2" fmla="val 43922"/>
            </a:avLst>
          </a:prstGeom>
          <a:solidFill>
            <a:srgbClr val="d238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1547640" y="3494160"/>
            <a:ext cx="519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réditos contraídos durante la continu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108000" y="3932280"/>
            <a:ext cx="519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visoria  (10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2906640" y="3860640"/>
            <a:ext cx="5194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re bienes de la masa, sin perjuicio derecho preferente acreedores privilegiados, preferentes y 1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2906640" y="4437000"/>
            <a:ext cx="598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iscutible si son de la masa o tienen preferencia 2472 n°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108000" y="4797360"/>
            <a:ext cx="519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fectiva   (114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2916360" y="4835520"/>
            <a:ext cx="5194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re bienes de la continuidad, con preferencia a otros acreedores, salvo hipotecarios, prendarios y retencionarios que no consintie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2195640" y="45799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2195640" y="5732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2916360" y="5661000"/>
            <a:ext cx="598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n de la masa, ¿pero no alcanzan a hipotecarios, prendarios 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tencionario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250560" y="1774800"/>
            <a:ext cx="828180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6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26920" y="523800"/>
            <a:ext cx="6330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 He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5640" y="1557360"/>
            <a:ext cx="17625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cau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62000" y="2205000"/>
            <a:ext cx="7902720" cy="21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cautación deja a salvo el derecho de restituir a legítimos tercero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96 supone presencia del fallido o colaboradores cerca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n domicilio del fallido: matriz, sucursales,  ¿domicilio privad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/>
          <p:nvPr/>
        </p:nvCxnSpPr>
        <p:spPr>
          <a:xfrm flipH="1" rot="16200000">
            <a:off x="434160" y="183564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cxnSp>
        <p:nvCxnSpPr>
          <p:cNvPr id="88" name=""/>
          <p:cNvCxnSpPr/>
          <p:nvPr/>
        </p:nvCxnSpPr>
        <p:spPr>
          <a:xfrm flipH="1" rot="16200000">
            <a:off x="434160" y="233892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cxnSp>
        <p:nvCxnSpPr>
          <p:cNvPr id="89" name=""/>
          <p:cNvCxnSpPr/>
          <p:nvPr/>
        </p:nvCxnSpPr>
        <p:spPr>
          <a:xfrm flipH="1" rot="16200000">
            <a:off x="434160" y="289116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250920" y="3789360"/>
            <a:ext cx="97930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n domicilios de terceros: Puelma distingue si terceros reconocen o no 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micilio fallido N° 52 N°5, entrega de papeles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ienes al Sínd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ienes “inocupables”:(ej. derechos en sociedades) (ej. algunos incorporales)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ticipación de acreedores y terceros en la incaut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"/>
          <p:cNvCxnSpPr/>
          <p:nvPr/>
        </p:nvCxnSpPr>
        <p:spPr>
          <a:xfrm flipH="1" rot="16200000">
            <a:off x="434160" y="334692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cxnSp>
        <p:nvCxnSpPr>
          <p:cNvPr id="92" name=""/>
          <p:cNvCxnSpPr/>
          <p:nvPr/>
        </p:nvCxnSpPr>
        <p:spPr>
          <a:xfrm flipH="1" rot="16200000">
            <a:off x="434160" y="457092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cxnSp>
        <p:nvCxnSpPr>
          <p:cNvPr id="93" name=""/>
          <p:cNvCxnSpPr/>
          <p:nvPr/>
        </p:nvCxnSpPr>
        <p:spPr>
          <a:xfrm flipH="1" rot="16200000">
            <a:off x="434160" y="505188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542880" y="6237360"/>
            <a:ext cx="64771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64008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66294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68580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9" name="" descr=""/>
          <p:cNvPicPr/>
          <p:nvPr/>
        </p:nvPicPr>
        <p:blipFill>
          <a:blip r:embed="rId1"/>
          <a:stretch/>
        </p:blipFill>
        <p:spPr>
          <a:xfrm>
            <a:off x="7130880" y="610092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900" name=""/>
          <p:cNvSpPr/>
          <p:nvPr/>
        </p:nvSpPr>
        <p:spPr>
          <a:xfrm>
            <a:off x="2246400" y="1335240"/>
            <a:ext cx="43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DUACIÓN Y PAGO DE CRÉDI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2050920" y="1268280"/>
            <a:ext cx="468000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12560" y="2203560"/>
            <a:ext cx="8993880" cy="37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s acreedores se pagan en proporción al monto de sus créditos, resguardando siemp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s preferencias (148 L.Q. y 2469 C.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s preferencias sólo se pagan hasta concurrencia de sus respectivas garantía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 lo demás son valis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periodicidad y forma de pago lo determina la Junta de Acreedores. Sus acuerdos n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eden alterar los montos ni las preferenci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 subsidio, normas legales (147 y sgts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 Reparto a acreedores de 2° y 3° clase, sólo si existe fondo suficiente para crédi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 mejor derecho y cubrir gast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 Créditos valistas, reparto sólo si se reúne cantidad suficiente para hacer abono del 5%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1114560" y="47628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Pas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"/>
          <p:cNvSpPr/>
          <p:nvPr/>
        </p:nvSpPr>
        <p:spPr>
          <a:xfrm>
            <a:off x="64008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66294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68580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7" name="" descr=""/>
          <p:cNvPicPr/>
          <p:nvPr/>
        </p:nvPicPr>
        <p:blipFill>
          <a:blip r:embed="rId1"/>
          <a:stretch/>
        </p:blipFill>
        <p:spPr>
          <a:xfrm>
            <a:off x="7130880" y="610092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908" name=""/>
          <p:cNvSpPr/>
          <p:nvPr/>
        </p:nvSpPr>
        <p:spPr>
          <a:xfrm>
            <a:off x="1114560" y="50328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Pas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2246400" y="1335240"/>
            <a:ext cx="43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DUACIÓN Y PAGO DE CRÉDI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2050920" y="1268280"/>
            <a:ext cx="468000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879480" y="2198520"/>
            <a:ext cx="76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terminación del monto de créditos en moneda nacional, no vencida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971640" y="2133720"/>
            <a:ext cx="748800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75240" y="2852640"/>
            <a:ext cx="678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Crédito reajustable en moneda nacional, que devenga intere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63360" y="3645000"/>
            <a:ext cx="709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Crédito reajustable en moneda nacional, que no devenga intere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63360" y="4365720"/>
            <a:ext cx="709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Crédito no reajustable en moneda nacional, que devenga intere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65880" y="5013360"/>
            <a:ext cx="740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Crédito no reajustable en moneda nacional, que no devenga intere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7" name=""/>
          <p:cNvCxnSpPr/>
          <p:nvPr/>
        </p:nvCxnSpPr>
        <p:spPr>
          <a:xfrm>
            <a:off x="324000" y="3123720"/>
            <a:ext cx="907200" cy="311760"/>
          </a:xfrm>
          <a:prstGeom prst="bentConnector3">
            <a:avLst>
              <a:gd name="adj1" fmla="val 49900"/>
            </a:avLst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918" name=""/>
          <p:cNvSpPr/>
          <p:nvPr/>
        </p:nvSpPr>
        <p:spPr>
          <a:xfrm>
            <a:off x="1198440" y="3243240"/>
            <a:ext cx="695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or actual es capital más reajuste convenido e intereses a fecha aper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9" name=""/>
          <p:cNvCxnSpPr/>
          <p:nvPr/>
        </p:nvCxnSpPr>
        <p:spPr>
          <a:xfrm>
            <a:off x="324000" y="3916440"/>
            <a:ext cx="907200" cy="311760"/>
          </a:xfrm>
          <a:prstGeom prst="bentConnector3">
            <a:avLst>
              <a:gd name="adj1" fmla="val 49900"/>
            </a:avLst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920" name=""/>
          <p:cNvSpPr/>
          <p:nvPr/>
        </p:nvSpPr>
        <p:spPr>
          <a:xfrm>
            <a:off x="1198080" y="4035600"/>
            <a:ext cx="590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or actual es capital más reajuste convenido a fecha aper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1" name=""/>
          <p:cNvCxnSpPr/>
          <p:nvPr/>
        </p:nvCxnSpPr>
        <p:spPr>
          <a:xfrm>
            <a:off x="324000" y="4637160"/>
            <a:ext cx="907200" cy="311760"/>
          </a:xfrm>
          <a:prstGeom prst="bentConnector3">
            <a:avLst>
              <a:gd name="adj1" fmla="val 49900"/>
            </a:avLst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922" name=""/>
          <p:cNvSpPr/>
          <p:nvPr/>
        </p:nvSpPr>
        <p:spPr>
          <a:xfrm>
            <a:off x="1198800" y="4756320"/>
            <a:ext cx="586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or actual es capital más interés devengado a fecha aper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259640" y="5380200"/>
            <a:ext cx="7035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e aplica al capital tasa se descuento equivalente a intereses corriente pa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operaciones no reajustables desde apertura a vencimiento de la deu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4" name=""/>
          <p:cNvCxnSpPr/>
          <p:nvPr/>
        </p:nvCxnSpPr>
        <p:spPr>
          <a:xfrm>
            <a:off x="324000" y="5308560"/>
            <a:ext cx="907200" cy="311760"/>
          </a:xfrm>
          <a:prstGeom prst="bentConnector3">
            <a:avLst>
              <a:gd name="adj1" fmla="val 49900"/>
            </a:avLst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925" name=""/>
          <p:cNvSpPr/>
          <p:nvPr/>
        </p:nvSpPr>
        <p:spPr>
          <a:xfrm>
            <a:off x="1095480" y="2421000"/>
            <a:ext cx="76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"/>
          <p:cNvSpPr/>
          <p:nvPr/>
        </p:nvSpPr>
        <p:spPr>
          <a:xfrm>
            <a:off x="64008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66294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68580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9" name="" descr=""/>
          <p:cNvPicPr/>
          <p:nvPr/>
        </p:nvPicPr>
        <p:blipFill>
          <a:blip r:embed="rId1"/>
          <a:stretch/>
        </p:blipFill>
        <p:spPr>
          <a:xfrm>
            <a:off x="7130880" y="610092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930" name=""/>
          <p:cNvSpPr/>
          <p:nvPr/>
        </p:nvSpPr>
        <p:spPr>
          <a:xfrm>
            <a:off x="1114560" y="50328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Pas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246400" y="1335240"/>
            <a:ext cx="43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DUACIÓN Y PAGO DE CRÉDI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2050920" y="1268280"/>
            <a:ext cx="468000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879480" y="2198520"/>
            <a:ext cx="851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terminación del monto de créditos en moneda extranjer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971640" y="2133720"/>
            <a:ext cx="619272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121320" y="2708280"/>
            <a:ext cx="7934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 la obligación surge de la ley o de autorización del Banco Central, se pag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bajo la moneda establecida en la convención y devenga interés pact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1019160" y="3238560"/>
            <a:ext cx="8085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rt. 68 hace referencia a Decreto 471 del M. de Economía que dejó de existir. Ri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rmas orgánicas Banco Cent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1095480" y="2421000"/>
            <a:ext cx="76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1835280" y="4718160"/>
            <a:ext cx="851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reedores con derecho a paga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1835280" y="4719600"/>
            <a:ext cx="3816360" cy="43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1095480" y="4791240"/>
            <a:ext cx="76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181440" y="5149800"/>
            <a:ext cx="853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Los acreedores que figuren en Nómina de Créditos Reconocidos (salvo casos 14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2" name=""/>
          <p:cNvCxnSpPr/>
          <p:nvPr/>
        </p:nvCxnSpPr>
        <p:spPr>
          <a:xfrm flipH="1" rot="16200000">
            <a:off x="548640" y="281988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943" name=""/>
          <p:cNvSpPr/>
          <p:nvPr/>
        </p:nvSpPr>
        <p:spPr>
          <a:xfrm>
            <a:off x="171000" y="3897360"/>
            <a:ext cx="88351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 la obligación es contractual, se paga en pesos en equivalente vendedor del día 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go (20 ley 18.0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/>
          <p:nvPr/>
        </p:nvSpPr>
        <p:spPr>
          <a:xfrm>
            <a:off x="64008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66294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68580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7" name="" descr=""/>
          <p:cNvPicPr/>
          <p:nvPr/>
        </p:nvPicPr>
        <p:blipFill>
          <a:blip r:embed="rId1"/>
          <a:stretch/>
        </p:blipFill>
        <p:spPr>
          <a:xfrm>
            <a:off x="7130880" y="610092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948" name=""/>
          <p:cNvSpPr/>
          <p:nvPr/>
        </p:nvSpPr>
        <p:spPr>
          <a:xfrm>
            <a:off x="1114560" y="50328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Pas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2246400" y="1335240"/>
            <a:ext cx="43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DUACIÓN Y PAGO DE CRÉDI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2050920" y="1268280"/>
            <a:ext cx="468000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879480" y="1982880"/>
            <a:ext cx="851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tuaciones Especia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971640" y="1917720"/>
            <a:ext cx="252072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56160" y="2492280"/>
            <a:ext cx="24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creedor Condic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1066680" y="2879640"/>
            <a:ext cx="7663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t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52  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Bajo condición suspensiv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uede exigir que se consigne monto 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reedor percibiría si se verifica condición o su entrega bajo caución sufic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ra el caso que no se verifique condi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1095480" y="2060640"/>
            <a:ext cx="76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1239840" y="3860640"/>
            <a:ext cx="76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7" name=""/>
          <p:cNvCxnSpPr/>
          <p:nvPr/>
        </p:nvCxnSpPr>
        <p:spPr>
          <a:xfrm flipH="1" rot="16200000">
            <a:off x="548640" y="248328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958" name=""/>
          <p:cNvSpPr/>
          <p:nvPr/>
        </p:nvSpPr>
        <p:spPr>
          <a:xfrm>
            <a:off x="48240" y="3716280"/>
            <a:ext cx="51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creedor que verifica en período extraordin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9" name=""/>
          <p:cNvCxnSpPr/>
          <p:nvPr/>
        </p:nvCxnSpPr>
        <p:spPr>
          <a:xfrm flipH="1" rot="16200000">
            <a:off x="548640" y="375480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960" name=""/>
          <p:cNvSpPr/>
          <p:nvPr/>
        </p:nvSpPr>
        <p:spPr>
          <a:xfrm>
            <a:off x="1127160" y="4173480"/>
            <a:ext cx="9348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t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54  genera efecto inmediato de depósito de repartos a favor del acreed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asta que crédito quede reconoci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1" name=""/>
          <p:cNvCxnSpPr/>
          <p:nvPr/>
        </p:nvCxnSpPr>
        <p:spPr>
          <a:xfrm flipH="1" rot="16200000">
            <a:off x="548640" y="440424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962" name=""/>
          <p:cNvSpPr/>
          <p:nvPr/>
        </p:nvSpPr>
        <p:spPr>
          <a:xfrm>
            <a:off x="1116000" y="4807080"/>
            <a:ext cx="9348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t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54  Una vez reconocido, el pago debe efectuarse con preferencia a los demá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reedores (respecto de los fondos reservados en los repartos previ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69480" y="5367240"/>
            <a:ext cx="464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creedor que a su vez es deudor del falli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4" name=""/>
          <p:cNvCxnSpPr/>
          <p:nvPr/>
        </p:nvCxnSpPr>
        <p:spPr>
          <a:xfrm flipH="1" rot="16200000">
            <a:off x="548640" y="541224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965" name=""/>
          <p:cNvSpPr/>
          <p:nvPr/>
        </p:nvSpPr>
        <p:spPr>
          <a:xfrm>
            <a:off x="1116000" y="5699160"/>
            <a:ext cx="9348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t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53  Las sumas que le corresponden percibir al acreedor se imputan a su deuda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 el evento que no haya operado la compens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26920" y="523800"/>
            <a:ext cx="6330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 Dere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26920" y="1773360"/>
            <a:ext cx="15840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vent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1280" y="2205000"/>
            <a:ext cx="8748720" cy="15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imer acercamiento al Activo de Dere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tuación del Síndico, en presencia de M. de Fe (secretario, notario, ad-hoc) y experto téc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81080" y="2349360"/>
            <a:ext cx="287280" cy="142920"/>
          </a:xfrm>
          <a:custGeom>
            <a:avLst/>
            <a:gdLst>
              <a:gd name="textAreaLeft" fmla="*/ 44640 w 287280"/>
              <a:gd name="textAreaRight" fmla="*/ 251640 w 28728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81080" y="2852640"/>
            <a:ext cx="287280" cy="144720"/>
          </a:xfrm>
          <a:custGeom>
            <a:avLst/>
            <a:gdLst>
              <a:gd name="textAreaLeft" fmla="*/ 44640 w 287280"/>
              <a:gd name="textAreaRight" fmla="*/ 251640 w 287280"/>
              <a:gd name="textAreaTop" fmla="*/ 36000 h 144720"/>
              <a:gd name="textAreaBottom" fmla="*/ 108720 h 144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1280" y="344952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sta + estado.  Incluso, reclamaciones de terceros (94 N°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 agrega al juicio día siguiente hábil facción,  notificación por avi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79280" y="3571920"/>
            <a:ext cx="287280" cy="144360"/>
          </a:xfrm>
          <a:custGeom>
            <a:avLst/>
            <a:gdLst>
              <a:gd name="textAreaLeft" fmla="*/ 44640 w 287280"/>
              <a:gd name="textAreaRight" fmla="*/ 251640 w 28728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81080" y="4076640"/>
            <a:ext cx="287280" cy="144360"/>
          </a:xfrm>
          <a:custGeom>
            <a:avLst/>
            <a:gdLst>
              <a:gd name="textAreaLeft" fmla="*/ 44640 w 287280"/>
              <a:gd name="textAreaRight" fmla="*/ 251640 w 28728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76360" y="4543560"/>
            <a:ext cx="809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pite para nuevos bienes (9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iones del fallido y acreedores (98)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No tercero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efecto relativo del invent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9280" y="4653000"/>
            <a:ext cx="287280" cy="144360"/>
          </a:xfrm>
          <a:custGeom>
            <a:avLst/>
            <a:gdLst>
              <a:gd name="textAreaLeft" fmla="*/ 44640 w 287280"/>
              <a:gd name="textAreaRight" fmla="*/ 251640 w 28728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9280" y="5229360"/>
            <a:ext cx="287280" cy="144360"/>
          </a:xfrm>
          <a:custGeom>
            <a:avLst/>
            <a:gdLst>
              <a:gd name="textAreaLeft" fmla="*/ 44640 w 287280"/>
              <a:gd name="textAreaRight" fmla="*/ 251640 w 28728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26920" y="1773360"/>
            <a:ext cx="15840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vent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2565360"/>
            <a:ext cx="874872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lcan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gue criterio activo de derecho. No debe incluir bienes en poder de terceros que no reconocen derechos al fallido.  No debe incluir inembargables.  Debe incluir bienes de terceros o reivindicados (de reivindicación re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¿Cosa juzgada del inventario? Sólo entre fallido y acreedores, si hubo objeción resuelta por el jue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8000" y="2708280"/>
            <a:ext cx="287280" cy="144360"/>
          </a:xfrm>
          <a:custGeom>
            <a:avLst/>
            <a:gdLst>
              <a:gd name="textAreaLeft" fmla="*/ 44640 w 287280"/>
              <a:gd name="textAreaRight" fmla="*/ 251640 w 28728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8000" y="4363920"/>
            <a:ext cx="287280" cy="144720"/>
          </a:xfrm>
          <a:custGeom>
            <a:avLst/>
            <a:gdLst>
              <a:gd name="textAreaLeft" fmla="*/ 44640 w 287280"/>
              <a:gd name="textAreaRight" fmla="*/ 251640 w 287280"/>
              <a:gd name="textAreaTop" fmla="*/ 36000 h 144720"/>
              <a:gd name="textAreaBottom" fmla="*/ 108720 h 144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42920" y="404640"/>
            <a:ext cx="6330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 Dere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50560" y="2637000"/>
            <a:ext cx="88930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ienes de terceros en poder del fall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. 94        inventario debe consignar pretensión de terce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. 98        pero terceros no pueden objetar el invent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Vías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: Restitución o exclusión de la ejec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9640" y="523800"/>
            <a:ext cx="77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198108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Acciones de Recuperación y Separación de Bie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9640" y="1916280"/>
            <a:ext cx="619308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98760" y="4365720"/>
            <a:ext cx="309240" cy="215640"/>
          </a:xfrm>
          <a:custGeom>
            <a:avLst/>
            <a:gdLst>
              <a:gd name="textAreaLeft" fmla="*/ 48240 w 309240"/>
              <a:gd name="textAreaRight" fmla="*/ 270720 w 309240"/>
              <a:gd name="textAreaTop" fmla="*/ 54000 h 215640"/>
              <a:gd name="textAreaBottom" fmla="*/ 162000 h 21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19280" y="3789360"/>
            <a:ext cx="309600" cy="216000"/>
          </a:xfrm>
          <a:custGeom>
            <a:avLst/>
            <a:gdLst>
              <a:gd name="textAreaLeft" fmla="*/ 48240 w 309600"/>
              <a:gd name="textAreaRight" fmla="*/ 271080 w 3096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2T13:39:54Z</dcterms:created>
  <dc:creator>GQMC</dc:creator>
  <dc:description/>
  <dc:language>en-US</dc:language>
  <cp:lastModifiedBy>Octavio Bofill G.</cp:lastModifiedBy>
  <dcterms:modified xsi:type="dcterms:W3CDTF">2004-06-10T21:51:12Z</dcterms:modified>
  <cp:revision>75</cp:revision>
  <dc:subject/>
  <dc:title>Efectos declaración de Quiebr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12526276</vt:r8>
  </property>
  <property fmtid="{D5CDD505-2E9C-101B-9397-08002B2CF9AE}" pid="3" name="_AuthorEmail">
    <vt:lpwstr>ayuri@grasty.cl</vt:lpwstr>
  </property>
  <property fmtid="{D5CDD505-2E9C-101B-9397-08002B2CF9AE}" pid="4" name="_AuthorEmailDisplayName">
    <vt:lpwstr>Ana Maria Yuri</vt:lpwstr>
  </property>
  <property fmtid="{D5CDD505-2E9C-101B-9397-08002B2CF9AE}" pid="5" name="_EmailEntryID">
    <vt:lpwstr>000000006C664B80B1B6D61196840050BA8C3624E4F72A00</vt:lpwstr>
  </property>
  <property fmtid="{D5CDD505-2E9C-101B-9397-08002B2CF9AE}" pid="6" name="_EmailSubject">
    <vt:lpwstr>curso de quiebra</vt:lpwstr>
  </property>
  <property fmtid="{D5CDD505-2E9C-101B-9397-08002B2CF9AE}" pid="7" name="_PreviousAdHocReviewCycleID">
    <vt:r8>1486346728</vt:r8>
  </property>
  <property fmtid="{D5CDD505-2E9C-101B-9397-08002B2CF9AE}" pid="8" name="_ReviewCycleID">
    <vt:r8>-137917959</vt:r8>
  </property>
</Properties>
</file>